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175B-442E-470B-94DA-8D58D485FE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v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网同时接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v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v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上级网络的情况，有何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Solu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否考虑让用户接入端的路由器支持双协议栈的设备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D94-4879-4B2D-84E3-61398C5D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B9D-694F-4488-B283-E9CCF5F9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2A2-E955-447E-AAD7-24257118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CE8-F96D-4658-8636-7BA764DE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DF40-5267-4C3A-B7EE-F753B2AF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3F56-F08F-47CC-9903-BB81A285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C77C-803F-417C-BE2D-BBC90DEF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CFBA-16EE-4869-BD0B-9BA3CF44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CA9B-4F6C-4C5F-91E0-65FDDB33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7B89-C8C7-4E2C-9C62-11E997A1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5EB3-6795-4C05-A3DF-CEEF31AD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87B-A2A3-4A11-8C9E-D04F7088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BF4D-F491-496F-B36B-B4091301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C72F-423E-4EDB-B70B-4C971C3D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916C-053F-4090-A17C-986357BD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4B75-1EBA-4213-A090-45973423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997D-90F0-415C-A9E5-CCE17895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2F8-8549-41A7-A5A3-9B601AB5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788-2F7A-40CF-8354-031CC9B1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535-79B9-4E44-BD7B-BB3B40B4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D53-7136-4470-A988-3670069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A4E-6662-435D-9A5C-528334E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45D-FFF5-4BF8-938C-0FBF8C3B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DC5-2775-4FF1-A3FD-172170E9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A8CE-CA70-498E-BDCA-605794B53CF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987B-15AB-463A-AFDD-C330D8E2DA8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  <a:ea typeface="黑体"/>
              </a:rPr>
              <a:t>China Next Generation Internet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Black"/>
                <a:ea typeface="黑体"/>
              </a:rPr>
              <a:t>CNGI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  <a:ea typeface="黑体"/>
              </a:rPr>
              <a:t>Projec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23880" y="41144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楷体"/>
              </a:rPr>
              <a:t>Jianping W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楷体"/>
              </a:rPr>
              <a:t>Sept. 25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C6C0-A1BC-44CD-9236-BF2F240705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1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ERNET2 Backbon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4440" y="1044720"/>
          <a:ext cx="8076960" cy="5727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044720"/>
                    <a:ext cx="807696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96B-E703-4AC0-ADF7-5959229513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5814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ERNET2 and Dragon TAP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1676520"/>
            <a:ext cx="6629040" cy="4571280"/>
            <a:chOff x="1295280" y="1676520"/>
            <a:chExt cx="6629040" cy="4571280"/>
          </a:xfrm>
        </p:grpSpPr>
        <p:grpSp>
          <p:nvGrpSpPr>
            <p:cNvPr id="302" name=""/>
            <p:cNvGrpSpPr/>
            <p:nvPr/>
          </p:nvGrpSpPr>
          <p:grpSpPr>
            <a:xfrm>
              <a:off x="1832760" y="1676520"/>
              <a:ext cx="6091560" cy="4571280"/>
              <a:chOff x="1832760" y="1676520"/>
              <a:chExt cx="6091560" cy="4571280"/>
            </a:xfrm>
          </p:grpSpPr>
          <p:sp>
            <p:nvSpPr>
              <p:cNvPr id="303" name=""/>
              <p:cNvSpPr/>
              <p:nvPr/>
            </p:nvSpPr>
            <p:spPr>
              <a:xfrm>
                <a:off x="5495400" y="490932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87320" y="3830040"/>
                <a:ext cx="1685520" cy="9936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AP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（亚太地区）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13560" y="1676520"/>
                <a:ext cx="1667880" cy="7948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GEA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（欧洲）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46920" y="1676520"/>
                <a:ext cx="1877400" cy="8614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Abilen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（美国）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1832760" y="5188320"/>
                <a:ext cx="2207880" cy="1059480"/>
                <a:chOff x="1832760" y="5188320"/>
                <a:chExt cx="2207880" cy="105948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32760" y="5188320"/>
                  <a:ext cx="2207880" cy="10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2143800" y="5456520"/>
                  <a:ext cx="17460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NGI Backbon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ERNET2, …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956680" y="2471400"/>
                <a:ext cx="0" cy="2716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83760" y="3881160"/>
                <a:ext cx="1665360" cy="890280"/>
              </a:xfrm>
              <a:prstGeom prst="ellipse">
                <a:avLst/>
              </a:prstGeom>
              <a:solidFill>
                <a:srgbClr val="000066"/>
              </a:solidFill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DRAGONTA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69280" y="4326840"/>
                <a:ext cx="2317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588840" y="2272680"/>
                <a:ext cx="2528280" cy="172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4639680" y="3161160"/>
              <a:ext cx="185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10M~155Mbp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BGP4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0280" y="4362480"/>
              <a:ext cx="185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10M~155Mbp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BGP4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5280" y="2763360"/>
              <a:ext cx="185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45M~155Mbp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BGP4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9E1-1270-41E3-AE30-2D9EDE4E3F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688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ernet development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0 Millions in June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mportant information infra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 enough IP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pplications need Next Generatio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ale, Fast, QOS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curity, Mob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ernet2/GEANT/APAN/GTR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portunities for information industry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0B7-7F54-40BB-B525-A64C8E2374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960" y="18216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Next Generation Internet in Chin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19242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CERNET下一代" descr=""/>
          <p:cNvPicPr/>
          <p:nvPr/>
        </p:nvPicPr>
        <p:blipFill>
          <a:blip r:embed="rId1"/>
          <a:stretch/>
        </p:blipFill>
        <p:spPr>
          <a:xfrm>
            <a:off x="419040" y="1058760"/>
            <a:ext cx="8420040" cy="579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750-0605-4BF9-AD8E-A45FB34868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ragon TAP in Chi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5877000"/>
            <a:ext cx="1917720" cy="981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4920" y="1600200"/>
            <a:ext cx="8686080" cy="5104800"/>
            <a:chOff x="304920" y="1600200"/>
            <a:chExt cx="8686080" cy="5104800"/>
          </a:xfrm>
        </p:grpSpPr>
        <p:grpSp>
          <p:nvGrpSpPr>
            <p:cNvPr id="158" name=""/>
            <p:cNvGrpSpPr/>
            <p:nvPr/>
          </p:nvGrpSpPr>
          <p:grpSpPr>
            <a:xfrm>
              <a:off x="304920" y="1698120"/>
              <a:ext cx="7136640" cy="5006880"/>
              <a:chOff x="304920" y="1698120"/>
              <a:chExt cx="7136640" cy="5006880"/>
            </a:xfrm>
          </p:grpSpPr>
          <p:sp>
            <p:nvSpPr>
              <p:cNvPr id="159" name=""/>
              <p:cNvSpPr/>
              <p:nvPr/>
            </p:nvSpPr>
            <p:spPr>
              <a:xfrm>
                <a:off x="577800" y="5815440"/>
                <a:ext cx="1812960" cy="8895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04920" y="5438880"/>
                <a:ext cx="4433760" cy="884520"/>
                <a:chOff x="304920" y="5438880"/>
                <a:chExt cx="4433760" cy="88452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04920" y="5679000"/>
                  <a:ext cx="1457640" cy="596160"/>
                  <a:chOff x="304920" y="5679000"/>
                  <a:chExt cx="1457640" cy="59616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04920" y="5679000"/>
                    <a:ext cx="1457640" cy="5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"/>
                  <p:cNvSpPr/>
                  <p:nvPr/>
                </p:nvSpPr>
                <p:spPr>
                  <a:xfrm>
                    <a:off x="502920" y="5826600"/>
                    <a:ext cx="1163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ER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718440" y="5438880"/>
                  <a:ext cx="1080" cy="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1762560" y="5727240"/>
                  <a:ext cx="1457640" cy="596160"/>
                  <a:chOff x="1762560" y="5727240"/>
                  <a:chExt cx="1457640" cy="596160"/>
                </a:xfrm>
              </p:grpSpPr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560" y="5727240"/>
                    <a:ext cx="1457640" cy="5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"/>
                  <p:cNvSpPr/>
                  <p:nvPr/>
                </p:nvSpPr>
                <p:spPr>
                  <a:xfrm>
                    <a:off x="1964520" y="5876280"/>
                    <a:ext cx="11581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SFC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3281040" y="5727240"/>
                  <a:ext cx="1457640" cy="596160"/>
                  <a:chOff x="3281040" y="5727240"/>
                  <a:chExt cx="1457640" cy="596160"/>
                </a:xfrm>
              </p:grpSpPr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1040" y="5727240"/>
                    <a:ext cx="1457640" cy="5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" name=""/>
                  <p:cNvSpPr/>
                  <p:nvPr/>
                </p:nvSpPr>
                <p:spPr>
                  <a:xfrm>
                    <a:off x="3481920" y="5876280"/>
                    <a:ext cx="1163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ST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1" name=""/>
              <p:cNvSpPr/>
              <p:nvPr/>
            </p:nvSpPr>
            <p:spPr>
              <a:xfrm flipV="1">
                <a:off x="1328040" y="4460400"/>
                <a:ext cx="1091520" cy="1208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556000" y="4748040"/>
                <a:ext cx="0" cy="103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60480" y="4575600"/>
                <a:ext cx="1227600" cy="115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1394640" y="1698120"/>
                <a:ext cx="6046920" cy="3279960"/>
                <a:chOff x="1394640" y="1698120"/>
                <a:chExt cx="6046920" cy="32799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099600" y="2295720"/>
                  <a:ext cx="3036240" cy="1792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618200" y="1698120"/>
                  <a:ext cx="1599840" cy="904680"/>
                </a:xfrm>
                <a:prstGeom prst="ellipse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GEANT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（欧洲）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839920" y="4034880"/>
                  <a:ext cx="1601640" cy="904680"/>
                </a:xfrm>
                <a:prstGeom prst="ellipse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APA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（亚太地区）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691960" y="1698120"/>
                  <a:ext cx="1599840" cy="904680"/>
                </a:xfrm>
                <a:prstGeom prst="ellipse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Abilen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（美国）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18200" y="3994560"/>
                  <a:ext cx="1704960" cy="983520"/>
                </a:xfrm>
                <a:prstGeom prst="ellipse">
                  <a:avLst/>
                </a:prstGeom>
                <a:solidFill>
                  <a:srgbClr val="000066"/>
                </a:solidFill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DRAGONTA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247560" y="4487400"/>
                  <a:ext cx="2518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2506680" y="2561040"/>
                  <a:ext cx="0" cy="1460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3099600" y="2295720"/>
                  <a:ext cx="2592000" cy="1792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469680" y="3690360"/>
                  <a:ext cx="1479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10Mbp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914280" y="4487400"/>
                  <a:ext cx="148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10Mbp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94640" y="3026160"/>
                  <a:ext cx="1484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45Mbp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92160" y="2694240"/>
                  <a:ext cx="1599840" cy="904680"/>
                </a:xfrm>
                <a:prstGeom prst="ellipse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ARTA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73400" y="2030040"/>
                  <a:ext cx="2518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 flipV="1">
              <a:off x="6559200" y="2583360"/>
              <a:ext cx="0" cy="147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31880" y="1600200"/>
              <a:ext cx="220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10 Gbp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91040" y="3075840"/>
              <a:ext cx="219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2.5Gbp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E16-A889-43EF-90A1-C0F17DA7C9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NGI projec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Initiated from 2002 and approved by in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Leaded by National Reform and Development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Joint with MST, MOE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CAS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MII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NSFC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CAE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Main 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CNGI Backbone: nation wide,30 GigaPOPs and 300 campus networks,international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Network technology an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Delivery to information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All NSPs will joint this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CERNET, China telecom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Unicom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Netcom/CSTNET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China Mobile, Rail 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C7C-24A3-43CA-96DD-3C7E28A99F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353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NGI Backbone Goal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Network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Backbone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Native IPv6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IPv6 over DWD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User Networks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Native IPv6 Application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v4 over v6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High Performance N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Addresses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Backbone/32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User/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DNS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Distributed Native IPv6 D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Routing Policy: Complexit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Regional Network and Use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Interconnection in China and to outside of China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One GigaPoP in Beijing and An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Network ope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Network and Informatio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14B-C444-4154-B03D-1D64D5E308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1066680"/>
            <a:ext cx="8839080" cy="434340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4114800"/>
            <a:ext cx="15264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572000" y="4876920"/>
            <a:ext cx="76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914400" y="4191120"/>
            <a:ext cx="7632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72480" y="1219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核心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905120" y="5486400"/>
            <a:ext cx="1600200" cy="1066680"/>
            <a:chOff x="1905120" y="5486400"/>
            <a:chExt cx="1600200" cy="106668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1905120" y="5486400"/>
              <a:ext cx="12956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2057760" y="563868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2210040" y="579096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880000" y="58784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28600" y="5410080"/>
            <a:ext cx="1295280" cy="76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380880" y="5562720"/>
            <a:ext cx="1295640" cy="761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33520" y="5715000"/>
            <a:ext cx="1295280" cy="762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91400" y="57913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接入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/C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9880" y="5791320"/>
            <a:ext cx="1656360" cy="1066680"/>
            <a:chOff x="3809880" y="5791320"/>
            <a:chExt cx="1656360" cy="1066680"/>
          </a:xfrm>
        </p:grpSpPr>
        <p:pic>
          <p:nvPicPr>
            <p:cNvPr id="210" name="" descr=""/>
            <p:cNvPicPr/>
            <p:nvPr/>
          </p:nvPicPr>
          <p:blipFill>
            <a:blip r:embed="rId7"/>
            <a:stretch/>
          </p:blipFill>
          <p:spPr>
            <a:xfrm>
              <a:off x="3809880" y="5791320"/>
              <a:ext cx="12956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3962520" y="594360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9"/>
            <a:stretch/>
          </p:blipFill>
          <p:spPr>
            <a:xfrm>
              <a:off x="4114800" y="609588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285800" y="619920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接入网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/CP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457200" y="2781360"/>
            <a:ext cx="2209680" cy="1295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38080" y="3062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主干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3200400" y="3467160"/>
            <a:ext cx="2209680" cy="1295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657600" y="3747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主干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6324480" y="2781360"/>
            <a:ext cx="221004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781680" y="3062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主干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8600" y="4343400"/>
            <a:ext cx="1523880" cy="762120"/>
            <a:chOff x="228600" y="4343400"/>
            <a:chExt cx="1523880" cy="762120"/>
          </a:xfrm>
        </p:grpSpPr>
        <p:pic>
          <p:nvPicPr>
            <p:cNvPr id="221" name="" descr=""/>
            <p:cNvPicPr/>
            <p:nvPr/>
          </p:nvPicPr>
          <p:blipFill>
            <a:blip r:embed="rId13"/>
            <a:stretch/>
          </p:blipFill>
          <p:spPr>
            <a:xfrm>
              <a:off x="228600" y="4343400"/>
              <a:ext cx="1523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92480" y="4567680"/>
              <a:ext cx="9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城域网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2971800" y="0"/>
            <a:ext cx="3200400" cy="990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42900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国际下一代互联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638680" y="5410080"/>
            <a:ext cx="1656360" cy="1066680"/>
            <a:chOff x="5638680" y="5410080"/>
            <a:chExt cx="1656360" cy="1066680"/>
          </a:xfrm>
        </p:grpSpPr>
        <p:pic>
          <p:nvPicPr>
            <p:cNvPr id="226" name="" descr=""/>
            <p:cNvPicPr/>
            <p:nvPr/>
          </p:nvPicPr>
          <p:blipFill>
            <a:blip r:embed="rId15"/>
            <a:stretch/>
          </p:blipFill>
          <p:spPr>
            <a:xfrm>
              <a:off x="5638680" y="5410080"/>
              <a:ext cx="12956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6"/>
            <a:stretch/>
          </p:blipFill>
          <p:spPr>
            <a:xfrm>
              <a:off x="5791320" y="556236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7"/>
            <a:stretch/>
          </p:blipFill>
          <p:spPr>
            <a:xfrm>
              <a:off x="5943600" y="571464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114600" y="581796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接入网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/CP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133720" y="4191120"/>
            <a:ext cx="3808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71800" y="4876560"/>
            <a:ext cx="3808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375680" y="5486400"/>
            <a:ext cx="1656360" cy="1066680"/>
            <a:chOff x="7375680" y="5486400"/>
            <a:chExt cx="1656360" cy="1066680"/>
          </a:xfrm>
        </p:grpSpPr>
        <p:pic>
          <p:nvPicPr>
            <p:cNvPr id="233" name="" descr=""/>
            <p:cNvPicPr/>
            <p:nvPr/>
          </p:nvPicPr>
          <p:blipFill>
            <a:blip r:embed="rId18"/>
            <a:stretch/>
          </p:blipFill>
          <p:spPr>
            <a:xfrm>
              <a:off x="7375680" y="5486400"/>
              <a:ext cx="12956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9"/>
            <a:stretch/>
          </p:blipFill>
          <p:spPr>
            <a:xfrm>
              <a:off x="7528320" y="563868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0"/>
            <a:stretch/>
          </p:blipFill>
          <p:spPr>
            <a:xfrm>
              <a:off x="7680600" y="579096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851600" y="5894280"/>
              <a:ext cx="118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接入网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/CP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181480" y="4800600"/>
            <a:ext cx="106704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553080" y="4038480"/>
            <a:ext cx="60984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391520" y="4343400"/>
            <a:ext cx="1523880" cy="762120"/>
            <a:chOff x="7391520" y="4343400"/>
            <a:chExt cx="1523880" cy="762120"/>
          </a:xfrm>
        </p:grpSpPr>
        <p:pic>
          <p:nvPicPr>
            <p:cNvPr id="240" name="" descr=""/>
            <p:cNvPicPr/>
            <p:nvPr/>
          </p:nvPicPr>
          <p:blipFill>
            <a:blip r:embed="rId21"/>
            <a:stretch/>
          </p:blipFill>
          <p:spPr>
            <a:xfrm>
              <a:off x="7391520" y="4343400"/>
              <a:ext cx="1523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655400" y="4567680"/>
              <a:ext cx="9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城域网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8120" y="4114800"/>
            <a:ext cx="10666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429000"/>
            <a:ext cx="10666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429000"/>
            <a:ext cx="10666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4114800"/>
            <a:ext cx="106704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2209680"/>
            <a:ext cx="10666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895480"/>
            <a:ext cx="106704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10280" y="2209680"/>
            <a:ext cx="106704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429000"/>
            <a:ext cx="10666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96080" y="3429000"/>
            <a:ext cx="106704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2666880"/>
            <a:ext cx="15238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876920" y="2666880"/>
            <a:ext cx="213336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22860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467480" y="1904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44240" y="5943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接入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/C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1295280"/>
            <a:ext cx="160020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国际交换中心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1219320"/>
            <a:ext cx="16002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国际交换中心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905120" y="762120"/>
            <a:ext cx="1295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6095880" y="685440"/>
            <a:ext cx="1371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4FF3-444C-4558-9DC1-E2191925E8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ERNET2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2120" y="1295280"/>
            <a:ext cx="7467120" cy="4778280"/>
            <a:chOff x="762120" y="1295280"/>
            <a:chExt cx="7467120" cy="4778280"/>
          </a:xfrm>
        </p:grpSpPr>
        <p:sp>
          <p:nvSpPr>
            <p:cNvPr id="263" name=""/>
            <p:cNvSpPr/>
            <p:nvPr/>
          </p:nvSpPr>
          <p:spPr>
            <a:xfrm>
              <a:off x="4530600" y="2369520"/>
              <a:ext cx="0" cy="50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2367000" y="3048480"/>
              <a:ext cx="432720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2576520" y="3945240"/>
              <a:ext cx="981360" cy="813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核心节点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02400" y="2727720"/>
              <a:ext cx="1209600" cy="884880"/>
            </a:xfrm>
            <a:prstGeom prst="ellipse">
              <a:avLst/>
            </a:prstGeom>
            <a:solidFill>
              <a:srgbClr val="000066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网络中心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62120" y="5091480"/>
              <a:ext cx="1465560" cy="910080"/>
              <a:chOff x="762120" y="5091480"/>
              <a:chExt cx="1465560" cy="910080"/>
            </a:xfrm>
          </p:grpSpPr>
          <p:pic>
            <p:nvPicPr>
              <p:cNvPr id="2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5091480"/>
                <a:ext cx="146556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1041120" y="530352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用户网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576520" y="5163480"/>
              <a:ext cx="1465560" cy="910080"/>
              <a:chOff x="2576520" y="5163480"/>
              <a:chExt cx="1465560" cy="910080"/>
            </a:xfrm>
          </p:grpSpPr>
          <p:pic>
            <p:nvPicPr>
              <p:cNvPr id="2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76520" y="5163480"/>
                <a:ext cx="146556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2855520" y="5378040"/>
                <a:ext cx="104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用户网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530600" y="5163480"/>
              <a:ext cx="1465560" cy="910080"/>
              <a:chOff x="4530600" y="5163480"/>
              <a:chExt cx="1465560" cy="910080"/>
            </a:xfrm>
          </p:grpSpPr>
          <p:pic>
            <p:nvPicPr>
              <p:cNvPr id="2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30600" y="5163480"/>
                <a:ext cx="146556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4809600" y="537804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用户网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763680" y="5091480"/>
              <a:ext cx="1465560" cy="910080"/>
              <a:chOff x="6763680" y="5091480"/>
              <a:chExt cx="1465560" cy="910080"/>
            </a:xfrm>
          </p:grpSpPr>
          <p:pic>
            <p:nvPicPr>
              <p:cNvPr id="27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63680" y="5091480"/>
                <a:ext cx="146556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7039800" y="5303520"/>
                <a:ext cx="104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用户网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250640" y="1366560"/>
              <a:ext cx="2163240" cy="1002960"/>
              <a:chOff x="1250640" y="1366560"/>
              <a:chExt cx="2163240" cy="1002960"/>
            </a:xfrm>
          </p:grpSpPr>
          <p:pic>
            <p:nvPicPr>
              <p:cNvPr id="2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50640" y="1366560"/>
                <a:ext cx="2163240" cy="100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1385640" y="1651320"/>
                <a:ext cx="188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其他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CNGI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主干网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647320" y="1295280"/>
              <a:ext cx="2441880" cy="1145520"/>
              <a:chOff x="5647320" y="1295280"/>
              <a:chExt cx="2441880" cy="1145520"/>
            </a:xfrm>
          </p:grpSpPr>
          <p:pic>
            <p:nvPicPr>
              <p:cNvPr id="2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47320" y="1295280"/>
                <a:ext cx="2441880" cy="114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5804640" y="1622160"/>
                <a:ext cx="212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国际下一代互联网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V="1">
              <a:off x="1669320" y="4590000"/>
              <a:ext cx="1046520" cy="57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204360" y="4733280"/>
              <a:ext cx="139680" cy="42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13880" y="1939680"/>
              <a:ext cx="22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25800" y="1438200"/>
              <a:ext cx="1209240" cy="884880"/>
            </a:xfrm>
            <a:prstGeom prst="ellipse">
              <a:avLst/>
            </a:prstGeom>
            <a:solidFill>
              <a:srgbClr val="0000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国内</a:t>
              </a: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国际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互联中心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438160" y="4661640"/>
              <a:ext cx="418680" cy="50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85040" y="4447080"/>
              <a:ext cx="1046520" cy="64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77480" y="3873960"/>
              <a:ext cx="981360" cy="813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核心节点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99960" y="3372480"/>
              <a:ext cx="2861280" cy="1002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CERNET2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主干网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72720" y="4447080"/>
              <a:ext cx="14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用户接入网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04A-C99C-4F1D-919B-42C0C84D5A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57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ERNET2 User Network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38080" y="990720"/>
          <a:ext cx="7696440" cy="5756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696440" cy="57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8FA-C97C-4CFA-AF7F-E6D900D935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08:52:23Z</dcterms:created>
  <dc:creator>Chongrong Li1</dc:creator>
  <dc:description/>
  <dc:language>en-US</dc:language>
  <cp:lastModifiedBy>Billgates</cp:lastModifiedBy>
  <dcterms:modified xsi:type="dcterms:W3CDTF">2003-09-25T09:10:01Z</dcterms:modified>
  <cp:revision>199</cp:revision>
  <dc:subject/>
  <dc:title>PowerPoint 演示文稿</dc:title>
</cp:coreProperties>
</file>