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media/image5.wmf" ContentType="image/x-wmf"/>
  <Override PartName="/ppt/media/image3.png" ContentType="image/png"/>
  <Override PartName="/ppt/media/image4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B8EDB-48D8-43A1-80EF-0B2169644DD3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对于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IPv4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网同时接入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IPv4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IPv6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上级网络的情况，有何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Solution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是否考虑让用户接入端的路由器支持双协议栈的设备？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526A7-C76B-496A-8E99-7AED185EA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95077-50C4-4FA1-B898-B727F3AB3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947D5-7048-4855-B400-AAE6B9CC9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40301-80A6-4F04-83D9-EB9891175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BB763-EF40-4FB0-9653-4FF41CD4C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FEEB4-744D-4033-9E38-3A0F79925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093BD-1325-4C86-A837-5DB2B2153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3AFE4-6C50-489A-B6ED-67C093CF3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41664-8029-4054-8C54-8FCF268E4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04D3C-6068-4B51-81FA-CDCD8EC10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D3C43-F28A-4B43-80DF-06B65FE01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2F8A0-650C-4393-900E-E7964D5F5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7A522-0D2B-455A-8A1F-2BFBD681F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759EE-B2DF-48C2-A5C3-9DDC088E4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FB92D-35BF-44B2-9DE7-AEAA8625B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7ABDA-F363-452F-9898-5B5016A18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C7060-5F26-4CFB-8F4E-8CF875992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4B03D-70F2-4BE9-9B6E-BB8594BDE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292D4-CDA2-485C-A564-FFF4BD9E9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E841E-D0E9-47DF-B8C5-2AF1733BB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74ACF-E196-4D57-A9BE-05234F1E1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F0D14-23A0-4FC7-AD9E-A915F91E3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6BA7A-FE97-4661-B766-39DB5B382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D9339-EE6C-4FFB-9F4A-3F78DDFA3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FBDBF-4DC1-4D03-B7F9-5D3A33456BE0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9" name="BTZBUL1A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3FDA6-4219-4235-991A-79A89DD4B090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image" Target="../media/image4.wmf"/><Relationship Id="rId8" Type="http://schemas.openxmlformats.org/officeDocument/2006/relationships/image" Target="../media/image4.wmf"/><Relationship Id="rId9" Type="http://schemas.openxmlformats.org/officeDocument/2006/relationships/image" Target="../media/image4.wmf"/><Relationship Id="rId10" Type="http://schemas.openxmlformats.org/officeDocument/2006/relationships/image" Target="../media/image4.wmf"/><Relationship Id="rId11" Type="http://schemas.openxmlformats.org/officeDocument/2006/relationships/image" Target="../media/image4.wmf"/><Relationship Id="rId12" Type="http://schemas.openxmlformats.org/officeDocument/2006/relationships/image" Target="../media/image4.wmf"/><Relationship Id="rId13" Type="http://schemas.openxmlformats.org/officeDocument/2006/relationships/image" Target="../media/image4.wmf"/><Relationship Id="rId14" Type="http://schemas.openxmlformats.org/officeDocument/2006/relationships/image" Target="../media/image4.wmf"/><Relationship Id="rId15" Type="http://schemas.openxmlformats.org/officeDocument/2006/relationships/image" Target="../media/image4.wmf"/><Relationship Id="rId16" Type="http://schemas.openxmlformats.org/officeDocument/2006/relationships/image" Target="../media/image4.wmf"/><Relationship Id="rId17" Type="http://schemas.openxmlformats.org/officeDocument/2006/relationships/image" Target="../media/image4.wmf"/><Relationship Id="rId18" Type="http://schemas.openxmlformats.org/officeDocument/2006/relationships/image" Target="../media/image4.wmf"/><Relationship Id="rId19" Type="http://schemas.openxmlformats.org/officeDocument/2006/relationships/image" Target="../media/image4.wmf"/><Relationship Id="rId20" Type="http://schemas.openxmlformats.org/officeDocument/2006/relationships/image" Target="../media/image4.wmf"/><Relationship Id="rId21" Type="http://schemas.openxmlformats.org/officeDocument/2006/relationships/image" Target="../media/image4.wmf"/><Relationship Id="rId22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image" Target="../media/image4.wmf"/><Relationship Id="rId8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28600" y="533160"/>
            <a:ext cx="86104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 Black"/>
                <a:ea typeface="黑体"/>
              </a:rPr>
              <a:t>China Next Generation Internet </a:t>
            </a:r>
            <a:br>
              <a:rPr sz="4400"/>
            </a:br>
            <a:r>
              <a:rPr b="1" lang="en-US" sz="4400" spc="-1" strike="noStrike">
                <a:solidFill>
                  <a:srgbClr val="ffcc00"/>
                </a:solidFill>
                <a:latin typeface="Arial Black"/>
                <a:ea typeface="黑体"/>
              </a:rPr>
              <a:t>CNGI </a:t>
            </a:r>
            <a:r>
              <a:rPr b="0" lang="en-US" sz="4400" spc="-1" strike="noStrike">
                <a:solidFill>
                  <a:srgbClr val="ffcc00"/>
                </a:solidFill>
                <a:latin typeface="Arial Black"/>
                <a:ea typeface="黑体"/>
              </a:rPr>
              <a:t>Projec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523880" y="4114440"/>
            <a:ext cx="6400800" cy="167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 Black"/>
                <a:ea typeface="楷体"/>
              </a:rPr>
              <a:t>Jianping W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 Black"/>
                <a:ea typeface="楷体"/>
              </a:rPr>
              <a:t>Sept. 25, 20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D89F7-9AE9-4254-82FB-AAC65026F08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2116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CERNET2 Backbone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graphicFrame>
        <p:nvGraphicFramePr>
          <p:cNvPr id="298" name=""/>
          <p:cNvGraphicFramePr/>
          <p:nvPr/>
        </p:nvGraphicFramePr>
        <p:xfrm>
          <a:off x="514440" y="1044720"/>
          <a:ext cx="8076960" cy="57276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2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4440" y="1044720"/>
                    <a:ext cx="8076960" cy="572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F86C3-9E08-46DC-B74E-6CAC1AAC233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0" y="5814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CERNET2 and Dragon TAP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1295280" y="1676520"/>
            <a:ext cx="6629040" cy="4571280"/>
            <a:chOff x="1295280" y="1676520"/>
            <a:chExt cx="6629040" cy="4571280"/>
          </a:xfrm>
        </p:grpSpPr>
        <p:grpSp>
          <p:nvGrpSpPr>
            <p:cNvPr id="302" name=""/>
            <p:cNvGrpSpPr/>
            <p:nvPr/>
          </p:nvGrpSpPr>
          <p:grpSpPr>
            <a:xfrm>
              <a:off x="1832760" y="1676520"/>
              <a:ext cx="6091560" cy="4571280"/>
              <a:chOff x="1832760" y="1676520"/>
              <a:chExt cx="6091560" cy="4571280"/>
            </a:xfrm>
          </p:grpSpPr>
          <p:sp>
            <p:nvSpPr>
              <p:cNvPr id="303" name=""/>
              <p:cNvSpPr/>
              <p:nvPr/>
            </p:nvSpPr>
            <p:spPr>
              <a:xfrm>
                <a:off x="5495400" y="4909320"/>
                <a:ext cx="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6187320" y="3830040"/>
                <a:ext cx="1685520" cy="993600"/>
              </a:xfrm>
              <a:prstGeom prst="ellipse">
                <a:avLst/>
              </a:prstGeom>
              <a:solidFill>
                <a:srgbClr val="cc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Times New Roman"/>
                  </a:rPr>
                  <a:t>APAN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Times New Roman"/>
                  </a:rPr>
                  <a:t>（亚太地区）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2113560" y="1676520"/>
                <a:ext cx="1667880" cy="794880"/>
              </a:xfrm>
              <a:prstGeom prst="ellipse">
                <a:avLst/>
              </a:prstGeom>
              <a:solidFill>
                <a:srgbClr val="cc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Times New Roman"/>
                  </a:rPr>
                  <a:t>GEANT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Times New Roman"/>
                  </a:rPr>
                  <a:t>（欧洲）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046920" y="1676520"/>
                <a:ext cx="1877400" cy="861480"/>
              </a:xfrm>
              <a:prstGeom prst="ellipse">
                <a:avLst/>
              </a:prstGeom>
              <a:solidFill>
                <a:srgbClr val="cc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Times New Roman"/>
                  </a:rPr>
                  <a:t>Abilene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Times New Roman"/>
                  </a:rPr>
                  <a:t>（美国）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07" name=""/>
              <p:cNvGrpSpPr/>
              <p:nvPr/>
            </p:nvGrpSpPr>
            <p:grpSpPr>
              <a:xfrm>
                <a:off x="1832760" y="5188320"/>
                <a:ext cx="2207880" cy="1059480"/>
                <a:chOff x="1832760" y="5188320"/>
                <a:chExt cx="2207880" cy="105948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832760" y="5188320"/>
                  <a:ext cx="2207880" cy="1059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2143800" y="5456520"/>
                  <a:ext cx="1746000" cy="58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CNGI Backbone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CERNET2, …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956680" y="2471400"/>
                <a:ext cx="0" cy="27169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2183760" y="3881160"/>
                <a:ext cx="1665360" cy="890280"/>
              </a:xfrm>
              <a:prstGeom prst="ellipse">
                <a:avLst/>
              </a:prstGeom>
              <a:solidFill>
                <a:srgbClr val="000066"/>
              </a:solidFill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Times New Roman"/>
                  </a:rPr>
                  <a:t>DRAGONTAP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869280" y="4326840"/>
                <a:ext cx="23176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flipV="1">
                <a:off x="3588840" y="2272680"/>
                <a:ext cx="2528280" cy="17229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14" name=""/>
            <p:cNvSpPr/>
            <p:nvPr/>
          </p:nvSpPr>
          <p:spPr>
            <a:xfrm>
              <a:off x="4639680" y="3161160"/>
              <a:ext cx="18514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Times New Roman"/>
                </a:rPr>
                <a:t>10M~155Mbp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Times New Roman"/>
                </a:rPr>
                <a:t>BGP4+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220280" y="4362480"/>
              <a:ext cx="18525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Times New Roman"/>
                </a:rPr>
                <a:t>10M~155Mbp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Times New Roman"/>
                </a:rPr>
                <a:t>BGP4+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295280" y="2763360"/>
              <a:ext cx="18514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Times New Roman"/>
                </a:rPr>
                <a:t>45M~155Mbp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Times New Roman"/>
                </a:rPr>
                <a:t>BGP4+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B5CCC-3758-4EEC-B9B5-FC1C0E53FD0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09480" y="6688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Background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Internet development in Chi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70 Millions in June 200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Important information infrastructu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No enough IP addres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Applications need Next Generation 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Scale, Fast, QOS</a:t>
            </a:r>
            <a:r>
              <a:rPr b="0" lang="zh-CN" sz="2400" spc="-1" strike="noStrike">
                <a:solidFill>
                  <a:srgbClr val="ffffff"/>
                </a:solidFill>
                <a:latin typeface="Arial Black"/>
              </a:rPr>
              <a:t>，</a:t>
            </a: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Security, Mobi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Internet2/GEANT/APAN/GTRN activ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Opportunities for information industry in Chi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67B52-CD78-4E2A-B234-B4E2E4F2BB5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5960" y="182160"/>
            <a:ext cx="8839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 Black"/>
              </a:rPr>
              <a:t>Next Generation Internet in China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3" name=""/>
          <p:cNvSpPr/>
          <p:nvPr/>
        </p:nvSpPr>
        <p:spPr>
          <a:xfrm>
            <a:off x="1924200" y="160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4" name="CERNET下一代" descr=""/>
          <p:cNvPicPr/>
          <p:nvPr/>
        </p:nvPicPr>
        <p:blipFill>
          <a:blip r:embed="rId1"/>
          <a:stretch/>
        </p:blipFill>
        <p:spPr>
          <a:xfrm>
            <a:off x="419040" y="1058760"/>
            <a:ext cx="8420040" cy="5799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8E559-5348-4EA6-AF96-C1FAF987B14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28600" y="227520"/>
            <a:ext cx="8686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Dragon TAP in China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"/>
          <p:cNvSpPr/>
          <p:nvPr/>
        </p:nvSpPr>
        <p:spPr>
          <a:xfrm>
            <a:off x="914400" y="5877000"/>
            <a:ext cx="1917720" cy="9810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304920" y="1600200"/>
            <a:ext cx="8686080" cy="5104800"/>
            <a:chOff x="304920" y="1600200"/>
            <a:chExt cx="8686080" cy="5104800"/>
          </a:xfrm>
        </p:grpSpPr>
        <p:grpSp>
          <p:nvGrpSpPr>
            <p:cNvPr id="158" name=""/>
            <p:cNvGrpSpPr/>
            <p:nvPr/>
          </p:nvGrpSpPr>
          <p:grpSpPr>
            <a:xfrm>
              <a:off x="304920" y="1698120"/>
              <a:ext cx="7136640" cy="5006880"/>
              <a:chOff x="304920" y="1698120"/>
              <a:chExt cx="7136640" cy="5006880"/>
            </a:xfrm>
          </p:grpSpPr>
          <p:sp>
            <p:nvSpPr>
              <p:cNvPr id="159" name=""/>
              <p:cNvSpPr/>
              <p:nvPr/>
            </p:nvSpPr>
            <p:spPr>
              <a:xfrm>
                <a:off x="577800" y="5815440"/>
                <a:ext cx="1812960" cy="8895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60" name=""/>
              <p:cNvGrpSpPr/>
              <p:nvPr/>
            </p:nvGrpSpPr>
            <p:grpSpPr>
              <a:xfrm>
                <a:off x="304920" y="5438880"/>
                <a:ext cx="4433760" cy="884520"/>
                <a:chOff x="304920" y="5438880"/>
                <a:chExt cx="4433760" cy="884520"/>
              </a:xfrm>
            </p:grpSpPr>
            <p:grpSp>
              <p:nvGrpSpPr>
                <p:cNvPr id="161" name=""/>
                <p:cNvGrpSpPr/>
                <p:nvPr/>
              </p:nvGrpSpPr>
              <p:grpSpPr>
                <a:xfrm>
                  <a:off x="304920" y="5679000"/>
                  <a:ext cx="1457640" cy="596160"/>
                  <a:chOff x="304920" y="5679000"/>
                  <a:chExt cx="1457640" cy="596160"/>
                </a:xfrm>
              </p:grpSpPr>
              <p:pic>
                <p:nvPicPr>
                  <p:cNvPr id="162" name="" descr=""/>
                  <p:cNvPicPr/>
                  <p:nvPr/>
                </p:nvPicPr>
                <p:blipFill>
                  <a:blip r:embed="rId1"/>
                  <a:stretch/>
                </p:blipFill>
                <p:spPr>
                  <a:xfrm>
                    <a:off x="304920" y="5679000"/>
                    <a:ext cx="1457640" cy="59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3" name=""/>
                  <p:cNvSpPr/>
                  <p:nvPr/>
                </p:nvSpPr>
                <p:spPr>
                  <a:xfrm>
                    <a:off x="502920" y="5826600"/>
                    <a:ext cx="1163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CERNET</a:t>
                    </a:r>
                    <a:endParaRPr b="0" lang="en-US" sz="12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64" name=""/>
                <p:cNvSpPr/>
                <p:nvPr/>
              </p:nvSpPr>
              <p:spPr>
                <a:xfrm>
                  <a:off x="3718440" y="5438880"/>
                  <a:ext cx="1080" cy="72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65" name=""/>
                <p:cNvGrpSpPr/>
                <p:nvPr/>
              </p:nvGrpSpPr>
              <p:grpSpPr>
                <a:xfrm>
                  <a:off x="1762560" y="5727240"/>
                  <a:ext cx="1457640" cy="596160"/>
                  <a:chOff x="1762560" y="5727240"/>
                  <a:chExt cx="1457640" cy="596160"/>
                </a:xfrm>
              </p:grpSpPr>
              <p:pic>
                <p:nvPicPr>
                  <p:cNvPr id="1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2560" y="5727240"/>
                    <a:ext cx="1457640" cy="59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7" name=""/>
                  <p:cNvSpPr/>
                  <p:nvPr/>
                </p:nvSpPr>
                <p:spPr>
                  <a:xfrm>
                    <a:off x="1964520" y="5876280"/>
                    <a:ext cx="11581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NSFCNET</a:t>
                    </a:r>
                    <a:endParaRPr b="0" lang="en-US" sz="12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68" name=""/>
                <p:cNvGrpSpPr/>
                <p:nvPr/>
              </p:nvGrpSpPr>
              <p:grpSpPr>
                <a:xfrm>
                  <a:off x="3281040" y="5727240"/>
                  <a:ext cx="1457640" cy="596160"/>
                  <a:chOff x="3281040" y="5727240"/>
                  <a:chExt cx="1457640" cy="596160"/>
                </a:xfrm>
              </p:grpSpPr>
              <p:pic>
                <p:nvPicPr>
                  <p:cNvPr id="16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81040" y="5727240"/>
                    <a:ext cx="1457640" cy="59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70" name=""/>
                  <p:cNvSpPr/>
                  <p:nvPr/>
                </p:nvSpPr>
                <p:spPr>
                  <a:xfrm>
                    <a:off x="3481920" y="5876280"/>
                    <a:ext cx="1163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CSTNET</a:t>
                    </a:r>
                    <a:endParaRPr b="0" lang="en-US" sz="12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71" name=""/>
              <p:cNvSpPr/>
              <p:nvPr/>
            </p:nvSpPr>
            <p:spPr>
              <a:xfrm flipV="1">
                <a:off x="1328040" y="4460400"/>
                <a:ext cx="1091520" cy="12085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 flipV="1">
                <a:off x="2556000" y="4748040"/>
                <a:ext cx="0" cy="10357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2760480" y="4575600"/>
                <a:ext cx="1227600" cy="11512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74" name=""/>
              <p:cNvGrpSpPr/>
              <p:nvPr/>
            </p:nvGrpSpPr>
            <p:grpSpPr>
              <a:xfrm>
                <a:off x="1394640" y="1698120"/>
                <a:ext cx="6046920" cy="3279960"/>
                <a:chOff x="1394640" y="1698120"/>
                <a:chExt cx="6046920" cy="3279960"/>
              </a:xfrm>
            </p:grpSpPr>
            <p:sp>
              <p:nvSpPr>
                <p:cNvPr id="175" name=""/>
                <p:cNvSpPr/>
                <p:nvPr/>
              </p:nvSpPr>
              <p:spPr>
                <a:xfrm>
                  <a:off x="3099600" y="2295720"/>
                  <a:ext cx="3036240" cy="179280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1618200" y="1698120"/>
                  <a:ext cx="1599840" cy="904680"/>
                </a:xfrm>
                <a:prstGeom prst="ellipse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200" spc="-1" strike="noStrike">
                      <a:solidFill>
                        <a:srgbClr val="000000"/>
                      </a:solidFill>
                      <a:latin typeface="Times New Roman"/>
                    </a:rPr>
                    <a:t>GEANT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200" spc="-1" strike="noStrike">
                      <a:solidFill>
                        <a:srgbClr val="000000"/>
                      </a:solidFill>
                      <a:latin typeface="Times New Roman"/>
                    </a:rPr>
                    <a:t>（欧洲）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5839920" y="4034880"/>
                  <a:ext cx="1601640" cy="904680"/>
                </a:xfrm>
                <a:prstGeom prst="ellipse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200" spc="-1" strike="noStrike">
                      <a:solidFill>
                        <a:srgbClr val="000000"/>
                      </a:solidFill>
                      <a:latin typeface="Times New Roman"/>
                    </a:rPr>
                    <a:t>APAN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200" spc="-1" strike="noStrike">
                      <a:solidFill>
                        <a:srgbClr val="000000"/>
                      </a:solidFill>
                      <a:latin typeface="Times New Roman"/>
                    </a:rPr>
                    <a:t>（亚太地区）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5691960" y="1698120"/>
                  <a:ext cx="1599840" cy="904680"/>
                </a:xfrm>
                <a:prstGeom prst="ellipse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200" spc="-1" strike="noStrike">
                      <a:solidFill>
                        <a:srgbClr val="000000"/>
                      </a:solidFill>
                      <a:latin typeface="Times New Roman"/>
                    </a:rPr>
                    <a:t>Abilene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200" spc="-1" strike="noStrike">
                      <a:solidFill>
                        <a:srgbClr val="000000"/>
                      </a:solidFill>
                      <a:latin typeface="Times New Roman"/>
                    </a:rPr>
                    <a:t>（美国）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1618200" y="3994560"/>
                  <a:ext cx="1704960" cy="983520"/>
                </a:xfrm>
                <a:prstGeom prst="ellipse">
                  <a:avLst/>
                </a:prstGeom>
                <a:solidFill>
                  <a:srgbClr val="000066"/>
                </a:solidFill>
                <a:ln w="7632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Times New Roman"/>
                    </a:rPr>
                    <a:t>DRAGONTAP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3247560" y="4487400"/>
                  <a:ext cx="251820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 flipV="1">
                  <a:off x="2506680" y="2561040"/>
                  <a:ext cx="0" cy="146052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flipV="1">
                  <a:off x="3099600" y="2295720"/>
                  <a:ext cx="2592000" cy="179280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3469680" y="3690360"/>
                  <a:ext cx="14796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000" spc="-1" strike="noStrike">
                      <a:solidFill>
                        <a:srgbClr val="ffffff"/>
                      </a:solidFill>
                      <a:latin typeface="Times New Roman"/>
                    </a:rPr>
                    <a:t>10Mbps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3914280" y="4487400"/>
                  <a:ext cx="14810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000" spc="-1" strike="noStrike">
                      <a:solidFill>
                        <a:srgbClr val="ffffff"/>
                      </a:solidFill>
                      <a:latin typeface="Times New Roman"/>
                    </a:rPr>
                    <a:t>10Mbps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1394640" y="3026160"/>
                  <a:ext cx="148428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000" spc="-1" strike="noStrike">
                      <a:solidFill>
                        <a:srgbClr val="ffffff"/>
                      </a:solidFill>
                      <a:latin typeface="Times New Roman"/>
                    </a:rPr>
                    <a:t>45Mbps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3692160" y="2694240"/>
                  <a:ext cx="1599840" cy="904680"/>
                </a:xfrm>
                <a:prstGeom prst="ellipse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STARTAP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173400" y="2030040"/>
                  <a:ext cx="251820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88" name=""/>
            <p:cNvSpPr/>
            <p:nvPr/>
          </p:nvSpPr>
          <p:spPr>
            <a:xfrm flipV="1">
              <a:off x="6559200" y="2583360"/>
              <a:ext cx="0" cy="1475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431880" y="1600200"/>
              <a:ext cx="2200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Times New Roman"/>
                </a:rPr>
                <a:t>10 Gbp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791040" y="3075840"/>
              <a:ext cx="2199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Times New Roman"/>
                </a:rPr>
                <a:t>2.5Gbp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DB6B7-70C9-45F7-812E-A632F9C7E26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71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NGI projec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52280" y="914040"/>
            <a:ext cx="87631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 Black"/>
              </a:rPr>
              <a:t>Initiated from 2002 and approved by in 200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 Black"/>
              </a:rPr>
              <a:t>Leaded by National Reform and Development Committe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 Black"/>
              </a:rPr>
              <a:t>Joint with MST, MOE</a:t>
            </a:r>
            <a:r>
              <a:rPr b="0" lang="zh-CN" sz="2800" spc="-1" strike="noStrike">
                <a:solidFill>
                  <a:srgbClr val="ffffff"/>
                </a:solidFill>
                <a:latin typeface="Arial Black"/>
              </a:rPr>
              <a:t>，</a:t>
            </a:r>
            <a:r>
              <a:rPr b="0" lang="zh-CN" sz="2800" spc="-1" strike="noStrike">
                <a:solidFill>
                  <a:srgbClr val="ffffff"/>
                </a:solidFill>
                <a:latin typeface="Arial Black"/>
              </a:rPr>
              <a:t>CAS</a:t>
            </a:r>
            <a:r>
              <a:rPr b="0" lang="zh-CN" sz="2800" spc="-1" strike="noStrike">
                <a:solidFill>
                  <a:srgbClr val="ffffff"/>
                </a:solidFill>
                <a:latin typeface="Arial Black"/>
              </a:rPr>
              <a:t>，</a:t>
            </a:r>
            <a:r>
              <a:rPr b="0" lang="zh-CN" sz="2800" spc="-1" strike="noStrike">
                <a:solidFill>
                  <a:srgbClr val="ffffff"/>
                </a:solidFill>
                <a:latin typeface="Arial Black"/>
              </a:rPr>
              <a:t>MII</a:t>
            </a:r>
            <a:r>
              <a:rPr b="0" lang="zh-CN" sz="2800" spc="-1" strike="noStrike">
                <a:solidFill>
                  <a:srgbClr val="ffffff"/>
                </a:solidFill>
                <a:latin typeface="Arial Black"/>
              </a:rPr>
              <a:t>，</a:t>
            </a:r>
            <a:r>
              <a:rPr b="0" lang="zh-CN" sz="2800" spc="-1" strike="noStrike">
                <a:solidFill>
                  <a:srgbClr val="ffffff"/>
                </a:solidFill>
                <a:latin typeface="Arial Black"/>
              </a:rPr>
              <a:t>NSFC</a:t>
            </a:r>
            <a:r>
              <a:rPr b="0" lang="zh-CN" sz="2800" spc="-1" strike="noStrike">
                <a:solidFill>
                  <a:srgbClr val="ffffff"/>
                </a:solidFill>
                <a:latin typeface="Arial Black"/>
              </a:rPr>
              <a:t>，</a:t>
            </a:r>
            <a:r>
              <a:rPr b="0" lang="zh-CN" sz="2800" spc="-1" strike="noStrike">
                <a:solidFill>
                  <a:srgbClr val="ffffff"/>
                </a:solidFill>
                <a:latin typeface="Arial Black"/>
              </a:rPr>
              <a:t>CAE,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 Black"/>
              </a:rPr>
              <a:t>Main cont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 Black"/>
              </a:rPr>
              <a:t>CNGI Backbone: nation wide,30 GigaPOPs and 300 campus networks,international lin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 Black"/>
              </a:rPr>
              <a:t>Network technology and app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 Black"/>
              </a:rPr>
              <a:t>Delivery to information indust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 Black"/>
              </a:rPr>
              <a:t>All NSPs will joint this proj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 Black"/>
              </a:rPr>
              <a:t>CERNET, China telecom</a:t>
            </a:r>
            <a:r>
              <a:rPr b="0" lang="zh-CN" sz="2400" spc="-1" strike="noStrike">
                <a:solidFill>
                  <a:srgbClr val="ffffff"/>
                </a:solidFill>
                <a:latin typeface="Arial Black"/>
              </a:rPr>
              <a:t>，</a:t>
            </a:r>
            <a:r>
              <a:rPr b="0" lang="zh-CN" sz="2400" spc="-1" strike="noStrike">
                <a:solidFill>
                  <a:srgbClr val="ffffff"/>
                </a:solidFill>
                <a:latin typeface="Arial Black"/>
              </a:rPr>
              <a:t>Unicom</a:t>
            </a:r>
            <a:r>
              <a:rPr b="0" lang="zh-CN" sz="2400" spc="-1" strike="noStrike">
                <a:solidFill>
                  <a:srgbClr val="ffffff"/>
                </a:solidFill>
                <a:latin typeface="Arial Black"/>
              </a:rPr>
              <a:t>，</a:t>
            </a:r>
            <a:r>
              <a:rPr b="0" lang="zh-CN" sz="2400" spc="-1" strike="noStrike">
                <a:solidFill>
                  <a:srgbClr val="ffffff"/>
                </a:solidFill>
                <a:latin typeface="Arial Black"/>
              </a:rPr>
              <a:t>Netcom/CSTNET</a:t>
            </a:r>
            <a:r>
              <a:rPr b="0" lang="zh-CN" sz="2400" spc="-1" strike="noStrike">
                <a:solidFill>
                  <a:srgbClr val="ffffff"/>
                </a:solidFill>
                <a:latin typeface="Arial Black"/>
              </a:rPr>
              <a:t>，</a:t>
            </a:r>
            <a:r>
              <a:rPr b="0" lang="zh-CN" sz="2400" spc="-1" strike="noStrike">
                <a:solidFill>
                  <a:srgbClr val="ffffff"/>
                </a:solidFill>
                <a:latin typeface="Arial Black"/>
              </a:rPr>
              <a:t>China Mobile, Rail c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FCCA8-B248-496B-B5CB-246124C5B7D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135360"/>
            <a:ext cx="87631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CNGI Backbone Goals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868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 Black"/>
              </a:rPr>
              <a:t>Network Architec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 Black"/>
              </a:rPr>
              <a:t>Backbone</a:t>
            </a:r>
            <a:r>
              <a:rPr b="0" lang="zh-CN" sz="2400" spc="-1" strike="noStrike">
                <a:solidFill>
                  <a:srgbClr val="ffffff"/>
                </a:solidFill>
                <a:latin typeface="Arial Black"/>
              </a:rPr>
              <a:t>：</a:t>
            </a:r>
            <a:r>
              <a:rPr b="0" lang="zh-CN" sz="2400" spc="-1" strike="noStrike">
                <a:solidFill>
                  <a:srgbClr val="ffffff"/>
                </a:solidFill>
                <a:latin typeface="Arial Black"/>
              </a:rPr>
              <a:t>Native IPv6</a:t>
            </a:r>
            <a:r>
              <a:rPr b="0" lang="zh-CN" sz="2400" spc="-1" strike="noStrike">
                <a:solidFill>
                  <a:srgbClr val="ffffff"/>
                </a:solidFill>
                <a:latin typeface="Arial Black"/>
              </a:rPr>
              <a:t>；</a:t>
            </a:r>
            <a:r>
              <a:rPr b="0" lang="zh-CN" sz="2400" spc="-1" strike="noStrike">
                <a:solidFill>
                  <a:srgbClr val="ffffff"/>
                </a:solidFill>
                <a:latin typeface="Arial Black"/>
              </a:rPr>
              <a:t>IPv6 over DWDM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 Black"/>
              </a:rPr>
              <a:t>User Networks</a:t>
            </a:r>
            <a:r>
              <a:rPr b="0" lang="zh-CN" sz="2400" spc="-1" strike="noStrike">
                <a:solidFill>
                  <a:srgbClr val="ffffff"/>
                </a:solidFill>
                <a:latin typeface="Arial Black"/>
              </a:rPr>
              <a:t>：</a:t>
            </a:r>
            <a:r>
              <a:rPr b="0" lang="zh-CN" sz="2400" spc="-1" strike="noStrike">
                <a:solidFill>
                  <a:srgbClr val="ffffff"/>
                </a:solidFill>
                <a:latin typeface="Arial Black"/>
              </a:rPr>
              <a:t>Native IPv6 Application</a:t>
            </a:r>
            <a:r>
              <a:rPr b="0" lang="zh-CN" sz="2400" spc="-1" strike="noStrike">
                <a:solidFill>
                  <a:srgbClr val="ffffff"/>
                </a:solidFill>
                <a:latin typeface="Arial Black"/>
              </a:rPr>
              <a:t>；</a:t>
            </a:r>
            <a:r>
              <a:rPr b="0" lang="zh-CN" sz="2400" spc="-1" strike="noStrike">
                <a:solidFill>
                  <a:srgbClr val="ffffff"/>
                </a:solidFill>
                <a:latin typeface="Arial Black"/>
              </a:rPr>
              <a:t>v4 over v6</a:t>
            </a:r>
            <a:r>
              <a:rPr b="0" lang="zh-CN" sz="2400" spc="-1" strike="noStrike">
                <a:solidFill>
                  <a:srgbClr val="ffffff"/>
                </a:solidFill>
                <a:latin typeface="Arial Black"/>
              </a:rPr>
              <a:t>；</a:t>
            </a:r>
            <a:r>
              <a:rPr b="0" lang="zh-CN" sz="2400" spc="-1" strike="noStrike">
                <a:solidFill>
                  <a:srgbClr val="ffffff"/>
                </a:solidFill>
                <a:latin typeface="Arial Black"/>
              </a:rPr>
              <a:t>High Performance N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 Black"/>
              </a:rPr>
              <a:t>Addresses</a:t>
            </a:r>
            <a:r>
              <a:rPr b="0" lang="zh-CN" sz="2400" spc="-1" strike="noStrike">
                <a:solidFill>
                  <a:srgbClr val="ffffff"/>
                </a:solidFill>
                <a:latin typeface="Arial Black"/>
              </a:rPr>
              <a:t>：</a:t>
            </a:r>
            <a:r>
              <a:rPr b="0" lang="zh-CN" sz="2400" spc="-1" strike="noStrike">
                <a:solidFill>
                  <a:srgbClr val="ffffff"/>
                </a:solidFill>
                <a:latin typeface="Arial Black"/>
              </a:rPr>
              <a:t>Backbone/32</a:t>
            </a:r>
            <a:r>
              <a:rPr b="0" lang="zh-CN" sz="2400" spc="-1" strike="noStrike">
                <a:solidFill>
                  <a:srgbClr val="ffffff"/>
                </a:solidFill>
                <a:latin typeface="Arial Black"/>
              </a:rPr>
              <a:t>；</a:t>
            </a:r>
            <a:r>
              <a:rPr b="0" lang="zh-CN" sz="2400" spc="-1" strike="noStrike">
                <a:solidFill>
                  <a:srgbClr val="ffffff"/>
                </a:solidFill>
                <a:latin typeface="Arial Black"/>
              </a:rPr>
              <a:t>User/4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 Black"/>
              </a:rPr>
              <a:t>DNS</a:t>
            </a:r>
            <a:r>
              <a:rPr b="0" lang="zh-CN" sz="2400" spc="-1" strike="noStrike">
                <a:solidFill>
                  <a:srgbClr val="ffffff"/>
                </a:solidFill>
                <a:latin typeface="Arial Black"/>
              </a:rPr>
              <a:t>：</a:t>
            </a:r>
            <a:r>
              <a:rPr b="0" lang="zh-CN" sz="2400" spc="-1" strike="noStrike">
                <a:solidFill>
                  <a:srgbClr val="ffffff"/>
                </a:solidFill>
                <a:latin typeface="Arial Black"/>
              </a:rPr>
              <a:t>Distributed Native IPv6 D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 Black"/>
              </a:rPr>
              <a:t>Routing Policy: Complexity enoug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 Black"/>
              </a:rPr>
              <a:t>Regional Network and User Netwo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 Black"/>
              </a:rPr>
              <a:t>Interconnection in China and to outside of China </a:t>
            </a:r>
            <a:r>
              <a:rPr b="0" lang="zh-CN" sz="2800" spc="-1" strike="noStrike">
                <a:solidFill>
                  <a:srgbClr val="ffffff"/>
                </a:solidFill>
                <a:latin typeface="Arial Black"/>
              </a:rPr>
              <a:t>：</a:t>
            </a:r>
            <a:r>
              <a:rPr b="0" lang="zh-CN" sz="2800" spc="-1" strike="noStrike">
                <a:solidFill>
                  <a:srgbClr val="ffffff"/>
                </a:solidFill>
                <a:latin typeface="Arial Black"/>
              </a:rPr>
              <a:t>One GigaPoP in Beijing and An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 Black"/>
              </a:rPr>
              <a:t>Network operation and manag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 Black"/>
              </a:rPr>
              <a:t>Network and Information Secur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 Black"/>
              </a:rPr>
              <a:t>Network Appli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572CA-2339-4AE6-9286-565666AAC2B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1066680"/>
            <a:ext cx="8839080" cy="4343400"/>
          </a:xfrm>
          <a:prstGeom prst="rect">
            <a:avLst/>
          </a:prstGeom>
          <a:noFill/>
          <a:ln w="381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153280" y="4114800"/>
            <a:ext cx="152640" cy="1600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4572000" y="4876920"/>
            <a:ext cx="76320" cy="914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H="1">
            <a:off x="914400" y="4191120"/>
            <a:ext cx="76320" cy="1218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272480" y="12193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核心网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1905120" y="5486400"/>
            <a:ext cx="1600200" cy="1066680"/>
            <a:chOff x="1905120" y="5486400"/>
            <a:chExt cx="1600200" cy="1066680"/>
          </a:xfrm>
        </p:grpSpPr>
        <p:pic>
          <p:nvPicPr>
            <p:cNvPr id="201" name="" descr=""/>
            <p:cNvPicPr/>
            <p:nvPr/>
          </p:nvPicPr>
          <p:blipFill>
            <a:blip r:embed="rId1"/>
            <a:stretch/>
          </p:blipFill>
          <p:spPr>
            <a:xfrm>
              <a:off x="1905120" y="5486400"/>
              <a:ext cx="1295640" cy="76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2" name="" descr=""/>
            <p:cNvPicPr/>
            <p:nvPr/>
          </p:nvPicPr>
          <p:blipFill>
            <a:blip r:embed="rId2"/>
            <a:stretch/>
          </p:blipFill>
          <p:spPr>
            <a:xfrm>
              <a:off x="2057760" y="5638680"/>
              <a:ext cx="129528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3" name="" descr=""/>
            <p:cNvPicPr/>
            <p:nvPr/>
          </p:nvPicPr>
          <p:blipFill>
            <a:blip r:embed="rId3"/>
            <a:stretch/>
          </p:blipFill>
          <p:spPr>
            <a:xfrm>
              <a:off x="2210040" y="5790960"/>
              <a:ext cx="1295280" cy="76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"/>
            <p:cNvSpPr/>
            <p:nvPr/>
          </p:nvSpPr>
          <p:spPr>
            <a:xfrm>
              <a:off x="2880000" y="5878440"/>
              <a:ext cx="1839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>
            <a:off x="228600" y="5410080"/>
            <a:ext cx="1295280" cy="76212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380880" y="5562720"/>
            <a:ext cx="1295640" cy="7617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533520" y="5715000"/>
            <a:ext cx="1295280" cy="76212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491400" y="5791320"/>
            <a:ext cx="118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接入网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/CP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9880" y="5791320"/>
            <a:ext cx="1656360" cy="1066680"/>
            <a:chOff x="3809880" y="5791320"/>
            <a:chExt cx="1656360" cy="1066680"/>
          </a:xfrm>
        </p:grpSpPr>
        <p:pic>
          <p:nvPicPr>
            <p:cNvPr id="210" name="" descr=""/>
            <p:cNvPicPr/>
            <p:nvPr/>
          </p:nvPicPr>
          <p:blipFill>
            <a:blip r:embed="rId7"/>
            <a:stretch/>
          </p:blipFill>
          <p:spPr>
            <a:xfrm>
              <a:off x="3809880" y="5791320"/>
              <a:ext cx="1295640" cy="76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" descr=""/>
            <p:cNvPicPr/>
            <p:nvPr/>
          </p:nvPicPr>
          <p:blipFill>
            <a:blip r:embed="rId8"/>
            <a:stretch/>
          </p:blipFill>
          <p:spPr>
            <a:xfrm>
              <a:off x="3962520" y="5943600"/>
              <a:ext cx="129528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2" name="" descr=""/>
            <p:cNvPicPr/>
            <p:nvPr/>
          </p:nvPicPr>
          <p:blipFill>
            <a:blip r:embed="rId9"/>
            <a:stretch/>
          </p:blipFill>
          <p:spPr>
            <a:xfrm>
              <a:off x="4114800" y="6095880"/>
              <a:ext cx="1295280" cy="76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"/>
            <p:cNvSpPr/>
            <p:nvPr/>
          </p:nvSpPr>
          <p:spPr>
            <a:xfrm>
              <a:off x="4285800" y="6199200"/>
              <a:ext cx="1180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</a:rPr>
                <a:t>接入网</a:t>
              </a: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</a:rPr>
                <a:t>/CP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214" name="" descr=""/>
          <p:cNvPicPr/>
          <p:nvPr/>
        </p:nvPicPr>
        <p:blipFill>
          <a:blip r:embed="rId10"/>
          <a:stretch/>
        </p:blipFill>
        <p:spPr>
          <a:xfrm>
            <a:off x="457200" y="2781360"/>
            <a:ext cx="2209680" cy="129528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838080" y="306216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主干网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1"/>
          <a:stretch/>
        </p:blipFill>
        <p:spPr>
          <a:xfrm>
            <a:off x="3200400" y="3467160"/>
            <a:ext cx="2209680" cy="129528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3657600" y="374796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主干网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2"/>
          <a:stretch/>
        </p:blipFill>
        <p:spPr>
          <a:xfrm>
            <a:off x="6324480" y="2781360"/>
            <a:ext cx="2210040" cy="129528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6781680" y="306216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主干网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228600" y="4343400"/>
            <a:ext cx="1523880" cy="762120"/>
            <a:chOff x="228600" y="4343400"/>
            <a:chExt cx="1523880" cy="762120"/>
          </a:xfrm>
        </p:grpSpPr>
        <p:pic>
          <p:nvPicPr>
            <p:cNvPr id="221" name="" descr=""/>
            <p:cNvPicPr/>
            <p:nvPr/>
          </p:nvPicPr>
          <p:blipFill>
            <a:blip r:embed="rId13"/>
            <a:stretch/>
          </p:blipFill>
          <p:spPr>
            <a:xfrm>
              <a:off x="228600" y="4343400"/>
              <a:ext cx="1523880" cy="76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492480" y="4567680"/>
              <a:ext cx="94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</a:rPr>
                <a:t>城域网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223" name="" descr=""/>
          <p:cNvPicPr/>
          <p:nvPr/>
        </p:nvPicPr>
        <p:blipFill>
          <a:blip r:embed="rId14"/>
          <a:stretch/>
        </p:blipFill>
        <p:spPr>
          <a:xfrm>
            <a:off x="2971800" y="0"/>
            <a:ext cx="3200400" cy="9907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3429000" y="30492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国际下一代互联网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5638680" y="5410080"/>
            <a:ext cx="1656360" cy="1066680"/>
            <a:chOff x="5638680" y="5410080"/>
            <a:chExt cx="1656360" cy="1066680"/>
          </a:xfrm>
        </p:grpSpPr>
        <p:pic>
          <p:nvPicPr>
            <p:cNvPr id="226" name="" descr=""/>
            <p:cNvPicPr/>
            <p:nvPr/>
          </p:nvPicPr>
          <p:blipFill>
            <a:blip r:embed="rId15"/>
            <a:stretch/>
          </p:blipFill>
          <p:spPr>
            <a:xfrm>
              <a:off x="5638680" y="5410080"/>
              <a:ext cx="1295640" cy="76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7" name="" descr=""/>
            <p:cNvPicPr/>
            <p:nvPr/>
          </p:nvPicPr>
          <p:blipFill>
            <a:blip r:embed="rId16"/>
            <a:stretch/>
          </p:blipFill>
          <p:spPr>
            <a:xfrm>
              <a:off x="5791320" y="5562360"/>
              <a:ext cx="129528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8" name="" descr=""/>
            <p:cNvPicPr/>
            <p:nvPr/>
          </p:nvPicPr>
          <p:blipFill>
            <a:blip r:embed="rId17"/>
            <a:stretch/>
          </p:blipFill>
          <p:spPr>
            <a:xfrm>
              <a:off x="5943600" y="5714640"/>
              <a:ext cx="1295280" cy="76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9" name=""/>
            <p:cNvSpPr/>
            <p:nvPr/>
          </p:nvSpPr>
          <p:spPr>
            <a:xfrm>
              <a:off x="6114600" y="5817960"/>
              <a:ext cx="1180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</a:rPr>
                <a:t>接入网</a:t>
              </a: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</a:rPr>
                <a:t>/CP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2133720" y="4191120"/>
            <a:ext cx="380880" cy="1295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2971800" y="4876560"/>
            <a:ext cx="38088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7375680" y="5486400"/>
            <a:ext cx="1656360" cy="1066680"/>
            <a:chOff x="7375680" y="5486400"/>
            <a:chExt cx="1656360" cy="1066680"/>
          </a:xfrm>
        </p:grpSpPr>
        <p:pic>
          <p:nvPicPr>
            <p:cNvPr id="233" name="" descr=""/>
            <p:cNvPicPr/>
            <p:nvPr/>
          </p:nvPicPr>
          <p:blipFill>
            <a:blip r:embed="rId18"/>
            <a:stretch/>
          </p:blipFill>
          <p:spPr>
            <a:xfrm>
              <a:off x="7375680" y="5486400"/>
              <a:ext cx="1295640" cy="76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4" name="" descr=""/>
            <p:cNvPicPr/>
            <p:nvPr/>
          </p:nvPicPr>
          <p:blipFill>
            <a:blip r:embed="rId19"/>
            <a:stretch/>
          </p:blipFill>
          <p:spPr>
            <a:xfrm>
              <a:off x="7528320" y="5638680"/>
              <a:ext cx="129528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5" name="" descr=""/>
            <p:cNvPicPr/>
            <p:nvPr/>
          </p:nvPicPr>
          <p:blipFill>
            <a:blip r:embed="rId20"/>
            <a:stretch/>
          </p:blipFill>
          <p:spPr>
            <a:xfrm>
              <a:off x="7680600" y="5790960"/>
              <a:ext cx="1295280" cy="76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"/>
            <p:cNvSpPr/>
            <p:nvPr/>
          </p:nvSpPr>
          <p:spPr>
            <a:xfrm>
              <a:off x="7851600" y="5894280"/>
              <a:ext cx="1180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</a:rPr>
                <a:t>接入网</a:t>
              </a: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</a:rPr>
                <a:t>/CP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5181480" y="4800600"/>
            <a:ext cx="1067040" cy="609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6553080" y="4038480"/>
            <a:ext cx="609840" cy="1447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7391520" y="4343400"/>
            <a:ext cx="1523880" cy="762120"/>
            <a:chOff x="7391520" y="4343400"/>
            <a:chExt cx="1523880" cy="762120"/>
          </a:xfrm>
        </p:grpSpPr>
        <p:pic>
          <p:nvPicPr>
            <p:cNvPr id="240" name="" descr=""/>
            <p:cNvPicPr/>
            <p:nvPr/>
          </p:nvPicPr>
          <p:blipFill>
            <a:blip r:embed="rId21"/>
            <a:stretch/>
          </p:blipFill>
          <p:spPr>
            <a:xfrm>
              <a:off x="7391520" y="4343400"/>
              <a:ext cx="1523880" cy="76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"/>
            <p:cNvSpPr/>
            <p:nvPr/>
          </p:nvSpPr>
          <p:spPr>
            <a:xfrm>
              <a:off x="7655400" y="4567680"/>
              <a:ext cx="94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</a:rPr>
                <a:t>城域网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3048120" y="4114800"/>
            <a:ext cx="1066680" cy="762120"/>
          </a:xfrm>
          <a:prstGeom prst="ellipse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GigaPo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57200" y="3429000"/>
            <a:ext cx="1066680" cy="762120"/>
          </a:xfrm>
          <a:prstGeom prst="ellipse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GigaPo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600200" y="3429000"/>
            <a:ext cx="1066680" cy="762120"/>
          </a:xfrm>
          <a:prstGeom prst="ellipse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GigaPo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267080" y="4114800"/>
            <a:ext cx="1067040" cy="762120"/>
          </a:xfrm>
          <a:prstGeom prst="ellipse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GigaPo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219320" y="2209680"/>
            <a:ext cx="1066680" cy="762120"/>
          </a:xfrm>
          <a:prstGeom prst="ellipse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GigaPo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809880" y="2895480"/>
            <a:ext cx="1067040" cy="762120"/>
          </a:xfrm>
          <a:prstGeom prst="ellipse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GigaPo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010280" y="2209680"/>
            <a:ext cx="1067040" cy="762120"/>
          </a:xfrm>
          <a:prstGeom prst="ellipse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GigaPo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400800" y="3429000"/>
            <a:ext cx="1066680" cy="762120"/>
          </a:xfrm>
          <a:prstGeom prst="ellipse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GigaPo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7696080" y="3429000"/>
            <a:ext cx="1067040" cy="762120"/>
          </a:xfrm>
          <a:prstGeom prst="ellipse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GigaPo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286000" y="2666880"/>
            <a:ext cx="1523880" cy="533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4876920" y="2666880"/>
            <a:ext cx="213336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057400" y="2286000"/>
            <a:ext cx="5105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V="1">
            <a:off x="7467480" y="190476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244240" y="5943600"/>
            <a:ext cx="118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接入网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/CP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629400" y="1295280"/>
            <a:ext cx="1600200" cy="60984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国际交换中心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905120" y="182880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066680" y="1219320"/>
            <a:ext cx="1600200" cy="60948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国际交换中心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V="1">
            <a:off x="1905120" y="762120"/>
            <a:ext cx="129528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H="1" flipV="1">
            <a:off x="6095880" y="685440"/>
            <a:ext cx="1371600" cy="609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E248A-849B-4DFD-B135-998053AD704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3798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CERNET2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762120" y="1295280"/>
            <a:ext cx="7467120" cy="4778280"/>
            <a:chOff x="762120" y="1295280"/>
            <a:chExt cx="7467120" cy="4778280"/>
          </a:xfrm>
        </p:grpSpPr>
        <p:sp>
          <p:nvSpPr>
            <p:cNvPr id="263" name=""/>
            <p:cNvSpPr/>
            <p:nvPr/>
          </p:nvSpPr>
          <p:spPr>
            <a:xfrm>
              <a:off x="4530600" y="2369520"/>
              <a:ext cx="0" cy="501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64" name="" descr=""/>
            <p:cNvPicPr/>
            <p:nvPr/>
          </p:nvPicPr>
          <p:blipFill>
            <a:blip r:embed="rId1"/>
            <a:stretch/>
          </p:blipFill>
          <p:spPr>
            <a:xfrm>
              <a:off x="2367000" y="3048480"/>
              <a:ext cx="4327200" cy="159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5" name=""/>
            <p:cNvSpPr/>
            <p:nvPr/>
          </p:nvSpPr>
          <p:spPr>
            <a:xfrm>
              <a:off x="2576520" y="3945240"/>
              <a:ext cx="981360" cy="813240"/>
            </a:xfrm>
            <a:prstGeom prst="ellipse">
              <a:avLst/>
            </a:prstGeom>
            <a:solidFill>
              <a:srgbClr val="0000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Times New Roman"/>
                </a:rPr>
                <a:t>核心节点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902400" y="2727720"/>
              <a:ext cx="1209600" cy="884880"/>
            </a:xfrm>
            <a:prstGeom prst="ellipse">
              <a:avLst/>
            </a:prstGeom>
            <a:solidFill>
              <a:srgbClr val="000066"/>
            </a:solidFill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Times New Roman"/>
                </a:rPr>
                <a:t>网络中心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67" name=""/>
            <p:cNvGrpSpPr/>
            <p:nvPr/>
          </p:nvGrpSpPr>
          <p:grpSpPr>
            <a:xfrm>
              <a:off x="762120" y="5091480"/>
              <a:ext cx="1465560" cy="910080"/>
              <a:chOff x="762120" y="5091480"/>
              <a:chExt cx="1465560" cy="910080"/>
            </a:xfrm>
          </p:grpSpPr>
          <p:pic>
            <p:nvPicPr>
              <p:cNvPr id="268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762120" y="5091480"/>
                <a:ext cx="1465560" cy="910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9" name=""/>
              <p:cNvSpPr/>
              <p:nvPr/>
            </p:nvSpPr>
            <p:spPr>
              <a:xfrm>
                <a:off x="1041120" y="5303520"/>
                <a:ext cx="10508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Times New Roman"/>
                  </a:rPr>
                  <a:t>用户网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70" name=""/>
            <p:cNvGrpSpPr/>
            <p:nvPr/>
          </p:nvGrpSpPr>
          <p:grpSpPr>
            <a:xfrm>
              <a:off x="2576520" y="5163480"/>
              <a:ext cx="1465560" cy="910080"/>
              <a:chOff x="2576520" y="5163480"/>
              <a:chExt cx="1465560" cy="910080"/>
            </a:xfrm>
          </p:grpSpPr>
          <p:pic>
            <p:nvPicPr>
              <p:cNvPr id="27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576520" y="5163480"/>
                <a:ext cx="1465560" cy="910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2" name=""/>
              <p:cNvSpPr/>
              <p:nvPr/>
            </p:nvSpPr>
            <p:spPr>
              <a:xfrm>
                <a:off x="2855520" y="5378040"/>
                <a:ext cx="1046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Times New Roman"/>
                  </a:rPr>
                  <a:t>用户网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73" name=""/>
            <p:cNvGrpSpPr/>
            <p:nvPr/>
          </p:nvGrpSpPr>
          <p:grpSpPr>
            <a:xfrm>
              <a:off x="4530600" y="5163480"/>
              <a:ext cx="1465560" cy="910080"/>
              <a:chOff x="4530600" y="5163480"/>
              <a:chExt cx="1465560" cy="910080"/>
            </a:xfrm>
          </p:grpSpPr>
          <p:pic>
            <p:nvPicPr>
              <p:cNvPr id="27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4530600" y="5163480"/>
                <a:ext cx="1465560" cy="910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5" name=""/>
              <p:cNvSpPr/>
              <p:nvPr/>
            </p:nvSpPr>
            <p:spPr>
              <a:xfrm>
                <a:off x="4809600" y="5378040"/>
                <a:ext cx="1047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Times New Roman"/>
                  </a:rPr>
                  <a:t>用户网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76" name=""/>
            <p:cNvGrpSpPr/>
            <p:nvPr/>
          </p:nvGrpSpPr>
          <p:grpSpPr>
            <a:xfrm>
              <a:off x="6763680" y="5091480"/>
              <a:ext cx="1465560" cy="910080"/>
              <a:chOff x="6763680" y="5091480"/>
              <a:chExt cx="1465560" cy="910080"/>
            </a:xfrm>
          </p:grpSpPr>
          <p:pic>
            <p:nvPicPr>
              <p:cNvPr id="277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6763680" y="5091480"/>
                <a:ext cx="1465560" cy="910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8" name=""/>
              <p:cNvSpPr/>
              <p:nvPr/>
            </p:nvSpPr>
            <p:spPr>
              <a:xfrm>
                <a:off x="7039800" y="5303520"/>
                <a:ext cx="1049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Times New Roman"/>
                  </a:rPr>
                  <a:t>用户网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79" name=""/>
            <p:cNvGrpSpPr/>
            <p:nvPr/>
          </p:nvGrpSpPr>
          <p:grpSpPr>
            <a:xfrm>
              <a:off x="1250640" y="1366560"/>
              <a:ext cx="2163240" cy="1002960"/>
              <a:chOff x="1250640" y="1366560"/>
              <a:chExt cx="2163240" cy="1002960"/>
            </a:xfrm>
          </p:grpSpPr>
          <p:pic>
            <p:nvPicPr>
              <p:cNvPr id="280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1250640" y="1366560"/>
                <a:ext cx="2163240" cy="1002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1" name=""/>
              <p:cNvSpPr/>
              <p:nvPr/>
            </p:nvSpPr>
            <p:spPr>
              <a:xfrm>
                <a:off x="1385640" y="1651320"/>
                <a:ext cx="1888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000000"/>
                    </a:solidFill>
                    <a:latin typeface="Times New Roman"/>
                  </a:rPr>
                  <a:t>其他</a:t>
                </a:r>
                <a:r>
                  <a:rPr b="0" lang="zh-CN" sz="2000" spc="-1" strike="noStrike">
                    <a:solidFill>
                      <a:srgbClr val="000000"/>
                    </a:solidFill>
                    <a:latin typeface="Times New Roman"/>
                  </a:rPr>
                  <a:t>CNGI</a:t>
                </a:r>
                <a:r>
                  <a:rPr b="0" lang="zh-CN" sz="1600" spc="-1" strike="noStrike">
                    <a:solidFill>
                      <a:srgbClr val="000000"/>
                    </a:solidFill>
                    <a:latin typeface="Times New Roman"/>
                  </a:rPr>
                  <a:t>主干网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82" name=""/>
            <p:cNvGrpSpPr/>
            <p:nvPr/>
          </p:nvGrpSpPr>
          <p:grpSpPr>
            <a:xfrm>
              <a:off x="5647320" y="1295280"/>
              <a:ext cx="2441880" cy="1145520"/>
              <a:chOff x="5647320" y="1295280"/>
              <a:chExt cx="2441880" cy="1145520"/>
            </a:xfrm>
          </p:grpSpPr>
          <p:pic>
            <p:nvPicPr>
              <p:cNvPr id="283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647320" y="1295280"/>
                <a:ext cx="2441880" cy="1145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4" name=""/>
              <p:cNvSpPr/>
              <p:nvPr/>
            </p:nvSpPr>
            <p:spPr>
              <a:xfrm>
                <a:off x="5804640" y="1622160"/>
                <a:ext cx="21272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000000"/>
                    </a:solidFill>
                    <a:latin typeface="Times New Roman"/>
                  </a:rPr>
                  <a:t>国际下一代互联网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85" name=""/>
            <p:cNvSpPr/>
            <p:nvPr/>
          </p:nvSpPr>
          <p:spPr>
            <a:xfrm flipV="1">
              <a:off x="1669320" y="4590000"/>
              <a:ext cx="1046520" cy="573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H="1" flipV="1">
              <a:off x="3204360" y="4733280"/>
              <a:ext cx="139680" cy="429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3413880" y="1939680"/>
              <a:ext cx="2233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925800" y="1438200"/>
              <a:ext cx="1209240" cy="884880"/>
            </a:xfrm>
            <a:prstGeom prst="ellipse">
              <a:avLst/>
            </a:prstGeom>
            <a:solidFill>
              <a:srgbClr val="000066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Times New Roman"/>
                </a:rPr>
                <a:t>国内</a:t>
              </a:r>
              <a:r>
                <a:rPr b="0" lang="zh-CN" sz="1200" spc="-1" strike="noStrike">
                  <a:solidFill>
                    <a:srgbClr val="ffffff"/>
                  </a:solidFill>
                  <a:latin typeface="Times New Roman"/>
                </a:rPr>
                <a:t>/</a:t>
              </a:r>
              <a:r>
                <a:rPr b="0" lang="zh-CN" sz="1200" spc="-1" strike="noStrike">
                  <a:solidFill>
                    <a:srgbClr val="ffffff"/>
                  </a:solidFill>
                  <a:latin typeface="Times New Roman"/>
                </a:rPr>
                <a:t>国际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Times New Roman"/>
                </a:rPr>
                <a:t>互联中心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>
              <a:off x="5438160" y="4661640"/>
              <a:ext cx="418680" cy="501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485040" y="4447080"/>
              <a:ext cx="1046520" cy="6444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577480" y="3873960"/>
              <a:ext cx="981360" cy="813240"/>
            </a:xfrm>
            <a:prstGeom prst="ellipse">
              <a:avLst/>
            </a:prstGeom>
            <a:solidFill>
              <a:srgbClr val="0000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Times New Roman"/>
                </a:rPr>
                <a:t>核心节点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099960" y="3372480"/>
              <a:ext cx="2861280" cy="10026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CERNET2</a:t>
              </a: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主干网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972720" y="4447080"/>
              <a:ext cx="1464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Times New Roman"/>
                </a:rPr>
                <a:t>用户接入网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0DBAA-718F-4E3F-B1A8-D1F47D6CDFA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25776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CERNET2 User Networks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838080" y="990720"/>
          <a:ext cx="7696440" cy="575604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2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990720"/>
                    <a:ext cx="7696440" cy="575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2B498-D990-4273-A154-793E1B5CC52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23T08:52:23Z</dcterms:created>
  <dc:creator>Chongrong Li1</dc:creator>
  <dc:description/>
  <dc:language>en-US</dc:language>
  <cp:lastModifiedBy>Billgates</cp:lastModifiedBy>
  <dcterms:modified xsi:type="dcterms:W3CDTF">2003-09-25T09:10:01Z</dcterms:modified>
  <cp:revision>199</cp:revision>
  <dc:subject/>
  <dc:title>PowerPoint 演示文稿</dc:title>
</cp:coreProperties>
</file>