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jpeg" ContentType="image/jpeg"/>
  <Override PartName="/ppt/media/image39.png" ContentType="image/png"/>
  <Override PartName="/ppt/media/image19.png" ContentType="image/png"/>
  <Override PartName="/ppt/media/image21.wmf" ContentType="image/x-wmf"/>
  <Override PartName="/ppt/media/image6.jpeg" ContentType="image/jpeg"/>
  <Override PartName="/ppt/media/image9.wmf" ContentType="image/x-wmf"/>
  <Override PartName="/ppt/media/image34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5.png" ContentType="image/png"/>
  <Override PartName="/ppt/media/image35.jpeg" ContentType="image/jpeg"/>
  <Override PartName="/ppt/media/image33.jpeg" ContentType="image/jpeg"/>
  <Override PartName="/ppt/media/image30.png" ContentType="image/png"/>
  <Override PartName="/ppt/media/image28.wmf" ContentType="image/x-wmf"/>
  <Override PartName="/ppt/media/image10.wmf" ContentType="image/x-wmf"/>
  <Override PartName="/ppt/media/image37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31.wmf" ContentType="image/x-wmf"/>
  <Override PartName="/ppt/media/image20.png" ContentType="image/png"/>
  <Override PartName="/ppt/media/image36.jpeg" ContentType="image/jpeg"/>
  <Override PartName="/ppt/media/image12.wmf" ContentType="image/x-wmf"/>
  <Override PartName="/ppt/media/image4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280" y="752400"/>
            <a:ext cx="495108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4200" y="4704120"/>
            <a:ext cx="53132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yan K. Ch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62520" y="6478560"/>
            <a:ext cx="1676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FFCBCE-FD7C-4F92-BFCB-E10020B7F1A9}" type="slidenum">
              <a:rPr b="1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&lt;number&gt;</a:t>
            </a:fld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67480" y="6478560"/>
            <a:ext cx="1676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돋움체"/>
              </a:rPr>
              <a:t>i-Networking Lab.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3880" y="5335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391600" y="38160"/>
          <a:ext cx="6760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1600" y="38160"/>
                    <a:ext cx="676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esait_logo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0.wmf"/><Relationship Id="rId12" Type="http://schemas.openxmlformats.org/officeDocument/2006/relationships/image" Target="../media/image14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4.wmf"/><Relationship Id="rId18" Type="http://schemas.openxmlformats.org/officeDocument/2006/relationships/image" Target="../media/image10.wmf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7.jpeg"/><Relationship Id="rId22" Type="http://schemas.openxmlformats.org/officeDocument/2006/relationships/oleObject" Target="../embeddings/oleObject1.bin"/><Relationship Id="rId23" Type="http://schemas.openxmlformats.org/officeDocument/2006/relationships/image" Target="../media/image17.png"/><Relationship Id="rId24" Type="http://schemas.openxmlformats.org/officeDocument/2006/relationships/image" Target="../media/image18.jpeg"/><Relationship Id="rId25" Type="http://schemas.openxmlformats.org/officeDocument/2006/relationships/oleObject" Target="../embeddings/oleObject2.bin"/><Relationship Id="rId26" Type="http://schemas.openxmlformats.org/officeDocument/2006/relationships/image" Target="../media/image17.png"/><Relationship Id="rId27" Type="http://schemas.openxmlformats.org/officeDocument/2006/relationships/image" Target="../media/image19.png"/><Relationship Id="rId28" Type="http://schemas.openxmlformats.org/officeDocument/2006/relationships/oleObject" Target="../embeddings/oleObject3.bin"/><Relationship Id="rId29" Type="http://schemas.openxmlformats.org/officeDocument/2006/relationships/image" Target="../media/image20.png"/><Relationship Id="rId30" Type="http://schemas.openxmlformats.org/officeDocument/2006/relationships/image" Target="../media/image21.wmf"/><Relationship Id="rId31" Type="http://schemas.openxmlformats.org/officeDocument/2006/relationships/image" Target="../media/image4.png"/><Relationship Id="rId32" Type="http://schemas.openxmlformats.org/officeDocument/2006/relationships/image" Target="../media/image21.wmf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image" Target="../media/image25.wmf"/><Relationship Id="rId12" Type="http://schemas.openxmlformats.org/officeDocument/2006/relationships/image" Target="../media/image26.png"/><Relationship Id="rId13" Type="http://schemas.openxmlformats.org/officeDocument/2006/relationships/image" Target="../media/image27.wmf"/><Relationship Id="rId14" Type="http://schemas.openxmlformats.org/officeDocument/2006/relationships/image" Target="../media/image25.wmf"/><Relationship Id="rId15" Type="http://schemas.openxmlformats.org/officeDocument/2006/relationships/image" Target="../media/image26.png"/><Relationship Id="rId16" Type="http://schemas.openxmlformats.org/officeDocument/2006/relationships/image" Target="../media/image25.wmf"/><Relationship Id="rId17" Type="http://schemas.openxmlformats.org/officeDocument/2006/relationships/image" Target="../media/image26.png"/><Relationship Id="rId18" Type="http://schemas.openxmlformats.org/officeDocument/2006/relationships/image" Target="../media/image25.wmf"/><Relationship Id="rId19" Type="http://schemas.openxmlformats.org/officeDocument/2006/relationships/image" Target="../media/image26.png"/><Relationship Id="rId20" Type="http://schemas.openxmlformats.org/officeDocument/2006/relationships/image" Target="../media/image27.wmf"/><Relationship Id="rId21" Type="http://schemas.openxmlformats.org/officeDocument/2006/relationships/image" Target="../media/image25.wmf"/><Relationship Id="rId22" Type="http://schemas.openxmlformats.org/officeDocument/2006/relationships/image" Target="../media/image26.png"/><Relationship Id="rId23" Type="http://schemas.openxmlformats.org/officeDocument/2006/relationships/image" Target="../media/image25.wmf"/><Relationship Id="rId24" Type="http://schemas.openxmlformats.org/officeDocument/2006/relationships/image" Target="../media/image26.png"/><Relationship Id="rId25" Type="http://schemas.openxmlformats.org/officeDocument/2006/relationships/image" Target="../media/image25.wmf"/><Relationship Id="rId26" Type="http://schemas.openxmlformats.org/officeDocument/2006/relationships/image" Target="../media/image26.png"/><Relationship Id="rId27" Type="http://schemas.openxmlformats.org/officeDocument/2006/relationships/image" Target="../media/image25.wmf"/><Relationship Id="rId28" Type="http://schemas.openxmlformats.org/officeDocument/2006/relationships/image" Target="../media/image26.png"/><Relationship Id="rId29" Type="http://schemas.openxmlformats.org/officeDocument/2006/relationships/image" Target="../media/image25.wmf"/><Relationship Id="rId30" Type="http://schemas.openxmlformats.org/officeDocument/2006/relationships/image" Target="../media/image26.png"/><Relationship Id="rId31" Type="http://schemas.openxmlformats.org/officeDocument/2006/relationships/image" Target="../media/image25.wmf"/><Relationship Id="rId32" Type="http://schemas.openxmlformats.org/officeDocument/2006/relationships/image" Target="../media/image26.png"/><Relationship Id="rId33" Type="http://schemas.openxmlformats.org/officeDocument/2006/relationships/image" Target="../media/image23.wmf"/><Relationship Id="rId34" Type="http://schemas.openxmlformats.org/officeDocument/2006/relationships/oleObject" Target="../embeddings/oleObject3.bin"/><Relationship Id="rId35" Type="http://schemas.openxmlformats.org/officeDocument/2006/relationships/image" Target="../media/image28.wmf"/><Relationship Id="rId36" Type="http://schemas.openxmlformats.org/officeDocument/2006/relationships/image" Target="../media/image25.wmf"/><Relationship Id="rId37" Type="http://schemas.openxmlformats.org/officeDocument/2006/relationships/image" Target="../media/image26.png"/><Relationship Id="rId38" Type="http://schemas.openxmlformats.org/officeDocument/2006/relationships/image" Target="../media/image25.wmf"/><Relationship Id="rId39" Type="http://schemas.openxmlformats.org/officeDocument/2006/relationships/image" Target="../media/image26.png"/><Relationship Id="rId40" Type="http://schemas.openxmlformats.org/officeDocument/2006/relationships/image" Target="../media/image23.wmf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4.wmf"/><Relationship Id="rId4" Type="http://schemas.openxmlformats.org/officeDocument/2006/relationships/image" Target="../media/image8.wmf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image" Target="../media/image14.wmf"/><Relationship Id="rId8" Type="http://schemas.openxmlformats.org/officeDocument/2006/relationships/image" Target="../media/image19.png"/><Relationship Id="rId9" Type="http://schemas.openxmlformats.org/officeDocument/2006/relationships/image" Target="../media/image31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wmf"/><Relationship Id="rId9" Type="http://schemas.openxmlformats.org/officeDocument/2006/relationships/image" Target="../media/image39.png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image" Target="../media/image36.jpeg"/><Relationship Id="rId13" Type="http://schemas.openxmlformats.org/officeDocument/2006/relationships/image" Target="../media/image14.wmf"/><Relationship Id="rId14" Type="http://schemas.openxmlformats.org/officeDocument/2006/relationships/image" Target="../media/image37.png"/><Relationship Id="rId15" Type="http://schemas.openxmlformats.org/officeDocument/2006/relationships/image" Target="../media/image36.jpeg"/><Relationship Id="rId16" Type="http://schemas.openxmlformats.org/officeDocument/2006/relationships/image" Target="../media/image14.wmf"/><Relationship Id="rId17" Type="http://schemas.openxmlformats.org/officeDocument/2006/relationships/image" Target="../media/image37.png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이미지원본" descr=""/>
          <p:cNvPicPr/>
          <p:nvPr/>
        </p:nvPicPr>
        <p:blipFill>
          <a:blip r:embed="rId1"/>
          <a:srcRect l="0" t="0" r="321" b="1494"/>
          <a:stretch/>
        </p:blipFill>
        <p:spPr>
          <a:xfrm flipH="1" rot="10800000">
            <a:off x="0" y="1294560"/>
            <a:ext cx="9178920" cy="2824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76"/>
            </a:outerShdw>
          </a:effectLst>
        </p:spPr>
      </p:pic>
      <p:sp>
        <p:nvSpPr>
          <p:cNvPr id="50" name=""/>
          <p:cNvSpPr/>
          <p:nvPr/>
        </p:nvSpPr>
        <p:spPr>
          <a:xfrm>
            <a:off x="92160" y="2389320"/>
            <a:ext cx="895644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2200" y="4267080"/>
            <a:ext cx="3819600" cy="1284480"/>
          </a:xfrm>
          <a:custGeom>
            <a:avLst/>
            <a:gdLst/>
            <a:ahLst/>
            <a:rect l="l" t="t" r="r" b="b"/>
            <a:pathLst>
              <a:path w="4810" h="1618">
                <a:moveTo>
                  <a:pt x="4807" y="381"/>
                </a:moveTo>
                <a:lnTo>
                  <a:pt x="4798" y="346"/>
                </a:lnTo>
                <a:lnTo>
                  <a:pt x="4782" y="314"/>
                </a:lnTo>
                <a:lnTo>
                  <a:pt x="4761" y="282"/>
                </a:lnTo>
                <a:lnTo>
                  <a:pt x="4734" y="252"/>
                </a:lnTo>
                <a:lnTo>
                  <a:pt x="4702" y="223"/>
                </a:lnTo>
                <a:lnTo>
                  <a:pt x="4663" y="197"/>
                </a:lnTo>
                <a:lnTo>
                  <a:pt x="4620" y="173"/>
                </a:lnTo>
                <a:lnTo>
                  <a:pt x="4571" y="148"/>
                </a:lnTo>
                <a:lnTo>
                  <a:pt x="4518" y="126"/>
                </a:lnTo>
                <a:lnTo>
                  <a:pt x="4460" y="106"/>
                </a:lnTo>
                <a:lnTo>
                  <a:pt x="4396" y="88"/>
                </a:lnTo>
                <a:lnTo>
                  <a:pt x="4330" y="71"/>
                </a:lnTo>
                <a:lnTo>
                  <a:pt x="4257" y="56"/>
                </a:lnTo>
                <a:lnTo>
                  <a:pt x="4182" y="43"/>
                </a:lnTo>
                <a:lnTo>
                  <a:pt x="4101" y="31"/>
                </a:lnTo>
                <a:lnTo>
                  <a:pt x="4018" y="22"/>
                </a:lnTo>
                <a:lnTo>
                  <a:pt x="3930" y="14"/>
                </a:lnTo>
                <a:lnTo>
                  <a:pt x="3839" y="8"/>
                </a:lnTo>
                <a:lnTo>
                  <a:pt x="3745" y="4"/>
                </a:lnTo>
                <a:lnTo>
                  <a:pt x="3647" y="2"/>
                </a:lnTo>
                <a:lnTo>
                  <a:pt x="3547" y="0"/>
                </a:lnTo>
                <a:lnTo>
                  <a:pt x="3443" y="2"/>
                </a:lnTo>
                <a:lnTo>
                  <a:pt x="3337" y="5"/>
                </a:lnTo>
                <a:lnTo>
                  <a:pt x="3227" y="11"/>
                </a:lnTo>
                <a:lnTo>
                  <a:pt x="3116" y="17"/>
                </a:lnTo>
                <a:lnTo>
                  <a:pt x="3003" y="27"/>
                </a:lnTo>
                <a:lnTo>
                  <a:pt x="2888" y="37"/>
                </a:lnTo>
                <a:lnTo>
                  <a:pt x="2769" y="51"/>
                </a:lnTo>
                <a:lnTo>
                  <a:pt x="2650" y="67"/>
                </a:lnTo>
                <a:lnTo>
                  <a:pt x="2529" y="83"/>
                </a:lnTo>
                <a:lnTo>
                  <a:pt x="2406" y="102"/>
                </a:lnTo>
                <a:lnTo>
                  <a:pt x="2282" y="123"/>
                </a:lnTo>
                <a:lnTo>
                  <a:pt x="2228" y="133"/>
                </a:lnTo>
                <a:lnTo>
                  <a:pt x="2176" y="143"/>
                </a:lnTo>
                <a:lnTo>
                  <a:pt x="2123" y="154"/>
                </a:lnTo>
                <a:lnTo>
                  <a:pt x="2071" y="165"/>
                </a:lnTo>
                <a:lnTo>
                  <a:pt x="2018" y="176"/>
                </a:lnTo>
                <a:lnTo>
                  <a:pt x="1967" y="186"/>
                </a:lnTo>
                <a:lnTo>
                  <a:pt x="1916" y="197"/>
                </a:lnTo>
                <a:lnTo>
                  <a:pt x="1865" y="209"/>
                </a:lnTo>
                <a:lnTo>
                  <a:pt x="1814" y="220"/>
                </a:lnTo>
                <a:lnTo>
                  <a:pt x="1765" y="232"/>
                </a:lnTo>
                <a:lnTo>
                  <a:pt x="1716" y="245"/>
                </a:lnTo>
                <a:lnTo>
                  <a:pt x="1666" y="259"/>
                </a:lnTo>
                <a:lnTo>
                  <a:pt x="1617" y="271"/>
                </a:lnTo>
                <a:lnTo>
                  <a:pt x="1569" y="283"/>
                </a:lnTo>
                <a:lnTo>
                  <a:pt x="1521" y="297"/>
                </a:lnTo>
                <a:lnTo>
                  <a:pt x="1475" y="309"/>
                </a:lnTo>
                <a:lnTo>
                  <a:pt x="1428" y="323"/>
                </a:lnTo>
                <a:lnTo>
                  <a:pt x="1382" y="337"/>
                </a:lnTo>
                <a:lnTo>
                  <a:pt x="1336" y="351"/>
                </a:lnTo>
                <a:lnTo>
                  <a:pt x="1291" y="366"/>
                </a:lnTo>
                <a:lnTo>
                  <a:pt x="1246" y="380"/>
                </a:lnTo>
                <a:lnTo>
                  <a:pt x="1203" y="394"/>
                </a:lnTo>
                <a:lnTo>
                  <a:pt x="1160" y="409"/>
                </a:lnTo>
                <a:lnTo>
                  <a:pt x="1116" y="423"/>
                </a:lnTo>
                <a:lnTo>
                  <a:pt x="1075" y="438"/>
                </a:lnTo>
                <a:lnTo>
                  <a:pt x="1033" y="454"/>
                </a:lnTo>
                <a:lnTo>
                  <a:pt x="993" y="469"/>
                </a:lnTo>
                <a:lnTo>
                  <a:pt x="953" y="484"/>
                </a:lnTo>
                <a:lnTo>
                  <a:pt x="913" y="500"/>
                </a:lnTo>
                <a:lnTo>
                  <a:pt x="874" y="515"/>
                </a:lnTo>
                <a:lnTo>
                  <a:pt x="835" y="532"/>
                </a:lnTo>
                <a:lnTo>
                  <a:pt x="798" y="547"/>
                </a:lnTo>
                <a:lnTo>
                  <a:pt x="826" y="550"/>
                </a:lnTo>
                <a:lnTo>
                  <a:pt x="852" y="557"/>
                </a:lnTo>
                <a:lnTo>
                  <a:pt x="875" y="569"/>
                </a:lnTo>
                <a:lnTo>
                  <a:pt x="897" y="584"/>
                </a:lnTo>
                <a:lnTo>
                  <a:pt x="914" y="604"/>
                </a:lnTo>
                <a:lnTo>
                  <a:pt x="928" y="630"/>
                </a:lnTo>
                <a:lnTo>
                  <a:pt x="934" y="663"/>
                </a:lnTo>
                <a:lnTo>
                  <a:pt x="936" y="701"/>
                </a:lnTo>
                <a:lnTo>
                  <a:pt x="829" y="702"/>
                </a:lnTo>
                <a:lnTo>
                  <a:pt x="829" y="689"/>
                </a:lnTo>
                <a:lnTo>
                  <a:pt x="828" y="676"/>
                </a:lnTo>
                <a:lnTo>
                  <a:pt x="823" y="667"/>
                </a:lnTo>
                <a:lnTo>
                  <a:pt x="817" y="658"/>
                </a:lnTo>
                <a:lnTo>
                  <a:pt x="809" y="650"/>
                </a:lnTo>
                <a:lnTo>
                  <a:pt x="800" y="646"/>
                </a:lnTo>
                <a:lnTo>
                  <a:pt x="787" y="643"/>
                </a:lnTo>
                <a:lnTo>
                  <a:pt x="775" y="641"/>
                </a:lnTo>
                <a:lnTo>
                  <a:pt x="766" y="643"/>
                </a:lnTo>
                <a:lnTo>
                  <a:pt x="758" y="646"/>
                </a:lnTo>
                <a:lnTo>
                  <a:pt x="750" y="650"/>
                </a:lnTo>
                <a:lnTo>
                  <a:pt x="744" y="655"/>
                </a:lnTo>
                <a:lnTo>
                  <a:pt x="738" y="663"/>
                </a:lnTo>
                <a:lnTo>
                  <a:pt x="733" y="670"/>
                </a:lnTo>
                <a:lnTo>
                  <a:pt x="732" y="678"/>
                </a:lnTo>
                <a:lnTo>
                  <a:pt x="730" y="687"/>
                </a:lnTo>
                <a:lnTo>
                  <a:pt x="732" y="699"/>
                </a:lnTo>
                <a:lnTo>
                  <a:pt x="736" y="710"/>
                </a:lnTo>
                <a:lnTo>
                  <a:pt x="743" y="719"/>
                </a:lnTo>
                <a:lnTo>
                  <a:pt x="750" y="727"/>
                </a:lnTo>
                <a:lnTo>
                  <a:pt x="760" y="733"/>
                </a:lnTo>
                <a:lnTo>
                  <a:pt x="770" y="738"/>
                </a:lnTo>
                <a:lnTo>
                  <a:pt x="781" y="742"/>
                </a:lnTo>
                <a:lnTo>
                  <a:pt x="792" y="745"/>
                </a:lnTo>
                <a:lnTo>
                  <a:pt x="817" y="753"/>
                </a:lnTo>
                <a:lnTo>
                  <a:pt x="843" y="761"/>
                </a:lnTo>
                <a:lnTo>
                  <a:pt x="869" y="772"/>
                </a:lnTo>
                <a:lnTo>
                  <a:pt x="894" y="785"/>
                </a:lnTo>
                <a:lnTo>
                  <a:pt x="916" y="805"/>
                </a:lnTo>
                <a:lnTo>
                  <a:pt x="933" y="832"/>
                </a:lnTo>
                <a:lnTo>
                  <a:pt x="943" y="865"/>
                </a:lnTo>
                <a:lnTo>
                  <a:pt x="948" y="910"/>
                </a:lnTo>
                <a:lnTo>
                  <a:pt x="945" y="947"/>
                </a:lnTo>
                <a:lnTo>
                  <a:pt x="934" y="977"/>
                </a:lnTo>
                <a:lnTo>
                  <a:pt x="919" y="1004"/>
                </a:lnTo>
                <a:lnTo>
                  <a:pt x="899" y="1025"/>
                </a:lnTo>
                <a:lnTo>
                  <a:pt x="872" y="1042"/>
                </a:lnTo>
                <a:lnTo>
                  <a:pt x="845" y="1054"/>
                </a:lnTo>
                <a:lnTo>
                  <a:pt x="815" y="1060"/>
                </a:lnTo>
                <a:lnTo>
                  <a:pt x="783" y="1062"/>
                </a:lnTo>
                <a:lnTo>
                  <a:pt x="750" y="1060"/>
                </a:lnTo>
                <a:lnTo>
                  <a:pt x="720" y="1056"/>
                </a:lnTo>
                <a:lnTo>
                  <a:pt x="690" y="1045"/>
                </a:lnTo>
                <a:lnTo>
                  <a:pt x="665" y="1030"/>
                </a:lnTo>
                <a:lnTo>
                  <a:pt x="645" y="1007"/>
                </a:lnTo>
                <a:lnTo>
                  <a:pt x="628" y="977"/>
                </a:lnTo>
                <a:lnTo>
                  <a:pt x="619" y="941"/>
                </a:lnTo>
                <a:lnTo>
                  <a:pt x="615" y="894"/>
                </a:lnTo>
                <a:lnTo>
                  <a:pt x="720" y="894"/>
                </a:lnTo>
                <a:lnTo>
                  <a:pt x="720" y="911"/>
                </a:lnTo>
                <a:lnTo>
                  <a:pt x="723" y="927"/>
                </a:lnTo>
                <a:lnTo>
                  <a:pt x="729" y="939"/>
                </a:lnTo>
                <a:lnTo>
                  <a:pt x="736" y="950"/>
                </a:lnTo>
                <a:lnTo>
                  <a:pt x="746" y="957"/>
                </a:lnTo>
                <a:lnTo>
                  <a:pt x="757" y="964"/>
                </a:lnTo>
                <a:lnTo>
                  <a:pt x="769" y="967"/>
                </a:lnTo>
                <a:lnTo>
                  <a:pt x="783" y="968"/>
                </a:lnTo>
                <a:lnTo>
                  <a:pt x="792" y="968"/>
                </a:lnTo>
                <a:lnTo>
                  <a:pt x="801" y="965"/>
                </a:lnTo>
                <a:lnTo>
                  <a:pt x="811" y="962"/>
                </a:lnTo>
                <a:lnTo>
                  <a:pt x="820" y="956"/>
                </a:lnTo>
                <a:lnTo>
                  <a:pt x="828" y="948"/>
                </a:lnTo>
                <a:lnTo>
                  <a:pt x="834" y="941"/>
                </a:lnTo>
                <a:lnTo>
                  <a:pt x="837" y="930"/>
                </a:lnTo>
                <a:lnTo>
                  <a:pt x="838" y="918"/>
                </a:lnTo>
                <a:lnTo>
                  <a:pt x="835" y="896"/>
                </a:lnTo>
                <a:lnTo>
                  <a:pt x="825" y="881"/>
                </a:lnTo>
                <a:lnTo>
                  <a:pt x="809" y="870"/>
                </a:lnTo>
                <a:lnTo>
                  <a:pt x="789" y="861"/>
                </a:lnTo>
                <a:lnTo>
                  <a:pt x="766" y="853"/>
                </a:lnTo>
                <a:lnTo>
                  <a:pt x="738" y="844"/>
                </a:lnTo>
                <a:lnTo>
                  <a:pt x="709" y="833"/>
                </a:lnTo>
                <a:lnTo>
                  <a:pt x="678" y="818"/>
                </a:lnTo>
                <a:lnTo>
                  <a:pt x="664" y="808"/>
                </a:lnTo>
                <a:lnTo>
                  <a:pt x="653" y="796"/>
                </a:lnTo>
                <a:lnTo>
                  <a:pt x="642" y="784"/>
                </a:lnTo>
                <a:lnTo>
                  <a:pt x="635" y="769"/>
                </a:lnTo>
                <a:lnTo>
                  <a:pt x="628" y="752"/>
                </a:lnTo>
                <a:lnTo>
                  <a:pt x="624" y="735"/>
                </a:lnTo>
                <a:lnTo>
                  <a:pt x="622" y="716"/>
                </a:lnTo>
                <a:lnTo>
                  <a:pt x="621" y="696"/>
                </a:lnTo>
                <a:lnTo>
                  <a:pt x="621" y="686"/>
                </a:lnTo>
                <a:lnTo>
                  <a:pt x="622" y="675"/>
                </a:lnTo>
                <a:lnTo>
                  <a:pt x="624" y="664"/>
                </a:lnTo>
                <a:lnTo>
                  <a:pt x="625" y="653"/>
                </a:lnTo>
                <a:lnTo>
                  <a:pt x="628" y="644"/>
                </a:lnTo>
                <a:lnTo>
                  <a:pt x="631" y="635"/>
                </a:lnTo>
                <a:lnTo>
                  <a:pt x="635" y="626"/>
                </a:lnTo>
                <a:lnTo>
                  <a:pt x="639" y="618"/>
                </a:lnTo>
                <a:lnTo>
                  <a:pt x="562" y="656"/>
                </a:lnTo>
                <a:lnTo>
                  <a:pt x="488" y="695"/>
                </a:lnTo>
                <a:lnTo>
                  <a:pt x="420" y="735"/>
                </a:lnTo>
                <a:lnTo>
                  <a:pt x="357" y="775"/>
                </a:lnTo>
                <a:lnTo>
                  <a:pt x="296" y="813"/>
                </a:lnTo>
                <a:lnTo>
                  <a:pt x="242" y="853"/>
                </a:lnTo>
                <a:lnTo>
                  <a:pt x="193" y="893"/>
                </a:lnTo>
                <a:lnTo>
                  <a:pt x="150" y="933"/>
                </a:lnTo>
                <a:lnTo>
                  <a:pt x="111" y="973"/>
                </a:lnTo>
                <a:lnTo>
                  <a:pt x="77" y="1011"/>
                </a:lnTo>
                <a:lnTo>
                  <a:pt x="49" y="1051"/>
                </a:lnTo>
                <a:lnTo>
                  <a:pt x="28" y="1090"/>
                </a:lnTo>
                <a:lnTo>
                  <a:pt x="12" y="1128"/>
                </a:lnTo>
                <a:lnTo>
                  <a:pt x="3" y="1165"/>
                </a:lnTo>
                <a:lnTo>
                  <a:pt x="0" y="1202"/>
                </a:lnTo>
                <a:lnTo>
                  <a:pt x="3" y="1239"/>
                </a:lnTo>
                <a:lnTo>
                  <a:pt x="12" y="1274"/>
                </a:lnTo>
                <a:lnTo>
                  <a:pt x="28" y="1306"/>
                </a:lnTo>
                <a:lnTo>
                  <a:pt x="49" y="1338"/>
                </a:lnTo>
                <a:lnTo>
                  <a:pt x="77" y="1368"/>
                </a:lnTo>
                <a:lnTo>
                  <a:pt x="110" y="1397"/>
                </a:lnTo>
                <a:lnTo>
                  <a:pt x="148" y="1423"/>
                </a:lnTo>
                <a:lnTo>
                  <a:pt x="191" y="1447"/>
                </a:lnTo>
                <a:lnTo>
                  <a:pt x="239" y="1472"/>
                </a:lnTo>
                <a:lnTo>
                  <a:pt x="293" y="1494"/>
                </a:lnTo>
                <a:lnTo>
                  <a:pt x="352" y="1514"/>
                </a:lnTo>
                <a:lnTo>
                  <a:pt x="415" y="1532"/>
                </a:lnTo>
                <a:lnTo>
                  <a:pt x="482" y="1549"/>
                </a:lnTo>
                <a:lnTo>
                  <a:pt x="554" y="1563"/>
                </a:lnTo>
                <a:lnTo>
                  <a:pt x="630" y="1577"/>
                </a:lnTo>
                <a:lnTo>
                  <a:pt x="710" y="1587"/>
                </a:lnTo>
                <a:lnTo>
                  <a:pt x="794" y="1596"/>
                </a:lnTo>
                <a:lnTo>
                  <a:pt x="882" y="1606"/>
                </a:lnTo>
                <a:lnTo>
                  <a:pt x="973" y="1610"/>
                </a:lnTo>
                <a:lnTo>
                  <a:pt x="1067" y="1615"/>
                </a:lnTo>
                <a:lnTo>
                  <a:pt x="1164" y="1618"/>
                </a:lnTo>
                <a:lnTo>
                  <a:pt x="1266" y="1618"/>
                </a:lnTo>
                <a:lnTo>
                  <a:pt x="1370" y="1616"/>
                </a:lnTo>
                <a:lnTo>
                  <a:pt x="1476" y="1613"/>
                </a:lnTo>
                <a:lnTo>
                  <a:pt x="1584" y="1607"/>
                </a:lnTo>
                <a:lnTo>
                  <a:pt x="1695" y="1601"/>
                </a:lnTo>
                <a:lnTo>
                  <a:pt x="1810" y="1592"/>
                </a:lnTo>
                <a:lnTo>
                  <a:pt x="1926" y="1581"/>
                </a:lnTo>
                <a:lnTo>
                  <a:pt x="2043" y="1567"/>
                </a:lnTo>
                <a:lnTo>
                  <a:pt x="2162" y="1552"/>
                </a:lnTo>
                <a:lnTo>
                  <a:pt x="2284" y="1535"/>
                </a:lnTo>
                <a:lnTo>
                  <a:pt x="2406" y="1517"/>
                </a:lnTo>
                <a:lnTo>
                  <a:pt x="2529" y="1495"/>
                </a:lnTo>
                <a:lnTo>
                  <a:pt x="2585" y="1484"/>
                </a:lnTo>
                <a:lnTo>
                  <a:pt x="2639" y="1475"/>
                </a:lnTo>
                <a:lnTo>
                  <a:pt x="2693" y="1464"/>
                </a:lnTo>
                <a:lnTo>
                  <a:pt x="2747" y="1454"/>
                </a:lnTo>
                <a:lnTo>
                  <a:pt x="2801" y="1441"/>
                </a:lnTo>
                <a:lnTo>
                  <a:pt x="2854" y="1431"/>
                </a:lnTo>
                <a:lnTo>
                  <a:pt x="2906" y="1418"/>
                </a:lnTo>
                <a:lnTo>
                  <a:pt x="2959" y="1408"/>
                </a:lnTo>
                <a:lnTo>
                  <a:pt x="3010" y="1395"/>
                </a:lnTo>
                <a:lnTo>
                  <a:pt x="3062" y="1383"/>
                </a:lnTo>
                <a:lnTo>
                  <a:pt x="3113" y="1369"/>
                </a:lnTo>
                <a:lnTo>
                  <a:pt x="3162" y="1357"/>
                </a:lnTo>
                <a:lnTo>
                  <a:pt x="3212" y="1343"/>
                </a:lnTo>
                <a:lnTo>
                  <a:pt x="3261" y="1331"/>
                </a:lnTo>
                <a:lnTo>
                  <a:pt x="3311" y="1317"/>
                </a:lnTo>
                <a:lnTo>
                  <a:pt x="3359" y="1303"/>
                </a:lnTo>
                <a:lnTo>
                  <a:pt x="3406" y="1289"/>
                </a:lnTo>
                <a:lnTo>
                  <a:pt x="3454" y="1275"/>
                </a:lnTo>
                <a:lnTo>
                  <a:pt x="3501" y="1260"/>
                </a:lnTo>
                <a:lnTo>
                  <a:pt x="3545" y="1246"/>
                </a:lnTo>
                <a:lnTo>
                  <a:pt x="3592" y="1231"/>
                </a:lnTo>
                <a:lnTo>
                  <a:pt x="3636" y="1216"/>
                </a:lnTo>
                <a:lnTo>
                  <a:pt x="3680" y="1202"/>
                </a:lnTo>
                <a:lnTo>
                  <a:pt x="3723" y="1186"/>
                </a:lnTo>
                <a:lnTo>
                  <a:pt x="3766" y="1171"/>
                </a:lnTo>
                <a:lnTo>
                  <a:pt x="3808" y="1156"/>
                </a:lnTo>
                <a:lnTo>
                  <a:pt x="3850" y="1139"/>
                </a:lnTo>
                <a:lnTo>
                  <a:pt x="3890" y="1123"/>
                </a:lnTo>
                <a:lnTo>
                  <a:pt x="3930" y="1108"/>
                </a:lnTo>
                <a:lnTo>
                  <a:pt x="3970" y="1091"/>
                </a:lnTo>
                <a:lnTo>
                  <a:pt x="4009" y="1076"/>
                </a:lnTo>
                <a:lnTo>
                  <a:pt x="4046" y="1059"/>
                </a:lnTo>
                <a:lnTo>
                  <a:pt x="4038" y="1060"/>
                </a:lnTo>
                <a:lnTo>
                  <a:pt x="4029" y="1060"/>
                </a:lnTo>
                <a:lnTo>
                  <a:pt x="4019" y="1062"/>
                </a:lnTo>
                <a:lnTo>
                  <a:pt x="4010" y="1062"/>
                </a:lnTo>
                <a:lnTo>
                  <a:pt x="3999" y="1063"/>
                </a:lnTo>
                <a:lnTo>
                  <a:pt x="3989" y="1063"/>
                </a:lnTo>
                <a:lnTo>
                  <a:pt x="3976" y="1063"/>
                </a:lnTo>
                <a:lnTo>
                  <a:pt x="3962" y="1063"/>
                </a:lnTo>
                <a:lnTo>
                  <a:pt x="3942" y="1062"/>
                </a:lnTo>
                <a:lnTo>
                  <a:pt x="3924" y="1057"/>
                </a:lnTo>
                <a:lnTo>
                  <a:pt x="3907" y="1051"/>
                </a:lnTo>
                <a:lnTo>
                  <a:pt x="3893" y="1043"/>
                </a:lnTo>
                <a:lnTo>
                  <a:pt x="3880" y="1033"/>
                </a:lnTo>
                <a:lnTo>
                  <a:pt x="3870" y="1020"/>
                </a:lnTo>
                <a:lnTo>
                  <a:pt x="3860" y="1007"/>
                </a:lnTo>
                <a:lnTo>
                  <a:pt x="3853" y="991"/>
                </a:lnTo>
                <a:lnTo>
                  <a:pt x="3847" y="973"/>
                </a:lnTo>
                <a:lnTo>
                  <a:pt x="3842" y="954"/>
                </a:lnTo>
                <a:lnTo>
                  <a:pt x="3837" y="933"/>
                </a:lnTo>
                <a:lnTo>
                  <a:pt x="3836" y="910"/>
                </a:lnTo>
                <a:lnTo>
                  <a:pt x="3833" y="887"/>
                </a:lnTo>
                <a:lnTo>
                  <a:pt x="3833" y="861"/>
                </a:lnTo>
                <a:lnTo>
                  <a:pt x="3831" y="833"/>
                </a:lnTo>
                <a:lnTo>
                  <a:pt x="3831" y="805"/>
                </a:lnTo>
                <a:lnTo>
                  <a:pt x="3831" y="776"/>
                </a:lnTo>
                <a:lnTo>
                  <a:pt x="3831" y="750"/>
                </a:lnTo>
                <a:lnTo>
                  <a:pt x="3833" y="724"/>
                </a:lnTo>
                <a:lnTo>
                  <a:pt x="3834" y="699"/>
                </a:lnTo>
                <a:lnTo>
                  <a:pt x="3837" y="676"/>
                </a:lnTo>
                <a:lnTo>
                  <a:pt x="3842" y="655"/>
                </a:lnTo>
                <a:lnTo>
                  <a:pt x="3847" y="636"/>
                </a:lnTo>
                <a:lnTo>
                  <a:pt x="3853" y="618"/>
                </a:lnTo>
                <a:lnTo>
                  <a:pt x="3859" y="603"/>
                </a:lnTo>
                <a:lnTo>
                  <a:pt x="3868" y="589"/>
                </a:lnTo>
                <a:lnTo>
                  <a:pt x="3879" y="577"/>
                </a:lnTo>
                <a:lnTo>
                  <a:pt x="3891" y="566"/>
                </a:lnTo>
                <a:lnTo>
                  <a:pt x="3907" y="558"/>
                </a:lnTo>
                <a:lnTo>
                  <a:pt x="3922" y="552"/>
                </a:lnTo>
                <a:lnTo>
                  <a:pt x="3941" y="547"/>
                </a:lnTo>
                <a:lnTo>
                  <a:pt x="3962" y="546"/>
                </a:lnTo>
                <a:lnTo>
                  <a:pt x="3996" y="546"/>
                </a:lnTo>
                <a:lnTo>
                  <a:pt x="4030" y="549"/>
                </a:lnTo>
                <a:lnTo>
                  <a:pt x="4063" y="557"/>
                </a:lnTo>
                <a:lnTo>
                  <a:pt x="4090" y="570"/>
                </a:lnTo>
                <a:lnTo>
                  <a:pt x="4115" y="590"/>
                </a:lnTo>
                <a:lnTo>
                  <a:pt x="4135" y="618"/>
                </a:lnTo>
                <a:lnTo>
                  <a:pt x="4148" y="656"/>
                </a:lnTo>
                <a:lnTo>
                  <a:pt x="4152" y="704"/>
                </a:lnTo>
                <a:lnTo>
                  <a:pt x="4047" y="704"/>
                </a:lnTo>
                <a:lnTo>
                  <a:pt x="4046" y="683"/>
                </a:lnTo>
                <a:lnTo>
                  <a:pt x="4041" y="666"/>
                </a:lnTo>
                <a:lnTo>
                  <a:pt x="4035" y="653"/>
                </a:lnTo>
                <a:lnTo>
                  <a:pt x="4026" y="647"/>
                </a:lnTo>
                <a:lnTo>
                  <a:pt x="4015" y="643"/>
                </a:lnTo>
                <a:lnTo>
                  <a:pt x="4002" y="641"/>
                </a:lnTo>
                <a:lnTo>
                  <a:pt x="3990" y="641"/>
                </a:lnTo>
                <a:lnTo>
                  <a:pt x="3978" y="643"/>
                </a:lnTo>
                <a:lnTo>
                  <a:pt x="3964" y="647"/>
                </a:lnTo>
                <a:lnTo>
                  <a:pt x="3955" y="658"/>
                </a:lnTo>
                <a:lnTo>
                  <a:pt x="3947" y="673"/>
                </a:lnTo>
                <a:lnTo>
                  <a:pt x="3944" y="695"/>
                </a:lnTo>
                <a:lnTo>
                  <a:pt x="3942" y="719"/>
                </a:lnTo>
                <a:lnTo>
                  <a:pt x="3942" y="745"/>
                </a:lnTo>
                <a:lnTo>
                  <a:pt x="3942" y="775"/>
                </a:lnTo>
                <a:lnTo>
                  <a:pt x="3942" y="805"/>
                </a:lnTo>
                <a:lnTo>
                  <a:pt x="3942" y="841"/>
                </a:lnTo>
                <a:lnTo>
                  <a:pt x="3944" y="871"/>
                </a:lnTo>
                <a:lnTo>
                  <a:pt x="3945" y="899"/>
                </a:lnTo>
                <a:lnTo>
                  <a:pt x="3950" y="924"/>
                </a:lnTo>
                <a:lnTo>
                  <a:pt x="3956" y="942"/>
                </a:lnTo>
                <a:lnTo>
                  <a:pt x="3965" y="956"/>
                </a:lnTo>
                <a:lnTo>
                  <a:pt x="3978" y="965"/>
                </a:lnTo>
                <a:lnTo>
                  <a:pt x="3995" y="968"/>
                </a:lnTo>
                <a:lnTo>
                  <a:pt x="4002" y="968"/>
                </a:lnTo>
                <a:lnTo>
                  <a:pt x="4010" y="967"/>
                </a:lnTo>
                <a:lnTo>
                  <a:pt x="4016" y="967"/>
                </a:lnTo>
                <a:lnTo>
                  <a:pt x="4024" y="965"/>
                </a:lnTo>
                <a:lnTo>
                  <a:pt x="4030" y="964"/>
                </a:lnTo>
                <a:lnTo>
                  <a:pt x="4038" y="962"/>
                </a:lnTo>
                <a:lnTo>
                  <a:pt x="4044" y="961"/>
                </a:lnTo>
                <a:lnTo>
                  <a:pt x="4050" y="959"/>
                </a:lnTo>
                <a:lnTo>
                  <a:pt x="4050" y="838"/>
                </a:lnTo>
                <a:lnTo>
                  <a:pt x="3973" y="836"/>
                </a:lnTo>
                <a:lnTo>
                  <a:pt x="3973" y="772"/>
                </a:lnTo>
                <a:lnTo>
                  <a:pt x="4155" y="773"/>
                </a:lnTo>
                <a:lnTo>
                  <a:pt x="4155" y="1010"/>
                </a:lnTo>
                <a:lnTo>
                  <a:pt x="4234" y="971"/>
                </a:lnTo>
                <a:lnTo>
                  <a:pt x="4310" y="931"/>
                </a:lnTo>
                <a:lnTo>
                  <a:pt x="4379" y="891"/>
                </a:lnTo>
                <a:lnTo>
                  <a:pt x="4446" y="851"/>
                </a:lnTo>
                <a:lnTo>
                  <a:pt x="4506" y="812"/>
                </a:lnTo>
                <a:lnTo>
                  <a:pt x="4561" y="770"/>
                </a:lnTo>
                <a:lnTo>
                  <a:pt x="4612" y="730"/>
                </a:lnTo>
                <a:lnTo>
                  <a:pt x="4657" y="690"/>
                </a:lnTo>
                <a:lnTo>
                  <a:pt x="4697" y="650"/>
                </a:lnTo>
                <a:lnTo>
                  <a:pt x="4731" y="610"/>
                </a:lnTo>
                <a:lnTo>
                  <a:pt x="4759" y="572"/>
                </a:lnTo>
                <a:lnTo>
                  <a:pt x="4781" y="532"/>
                </a:lnTo>
                <a:lnTo>
                  <a:pt x="4798" y="494"/>
                </a:lnTo>
                <a:lnTo>
                  <a:pt x="4807" y="455"/>
                </a:lnTo>
                <a:lnTo>
                  <a:pt x="4810" y="418"/>
                </a:lnTo>
                <a:lnTo>
                  <a:pt x="4807" y="381"/>
                </a:lnTo>
                <a:close/>
                <a:moveTo>
                  <a:pt x="1359" y="1054"/>
                </a:moveTo>
                <a:lnTo>
                  <a:pt x="1260" y="653"/>
                </a:lnTo>
                <a:lnTo>
                  <a:pt x="1258" y="655"/>
                </a:lnTo>
                <a:lnTo>
                  <a:pt x="1155" y="1054"/>
                </a:lnTo>
                <a:lnTo>
                  <a:pt x="1050" y="1053"/>
                </a:lnTo>
                <a:lnTo>
                  <a:pt x="1200" y="557"/>
                </a:lnTo>
                <a:lnTo>
                  <a:pt x="1328" y="557"/>
                </a:lnTo>
                <a:lnTo>
                  <a:pt x="1478" y="1054"/>
                </a:lnTo>
                <a:lnTo>
                  <a:pt x="1359" y="1054"/>
                </a:lnTo>
                <a:close/>
                <a:moveTo>
                  <a:pt x="2098" y="1054"/>
                </a:moveTo>
                <a:lnTo>
                  <a:pt x="1998" y="1054"/>
                </a:lnTo>
                <a:lnTo>
                  <a:pt x="1998" y="636"/>
                </a:lnTo>
                <a:lnTo>
                  <a:pt x="1997" y="635"/>
                </a:lnTo>
                <a:lnTo>
                  <a:pt x="1899" y="1054"/>
                </a:lnTo>
                <a:lnTo>
                  <a:pt x="1794" y="1054"/>
                </a:lnTo>
                <a:lnTo>
                  <a:pt x="1702" y="633"/>
                </a:lnTo>
                <a:lnTo>
                  <a:pt x="1702" y="633"/>
                </a:lnTo>
                <a:lnTo>
                  <a:pt x="1702" y="1054"/>
                </a:lnTo>
                <a:lnTo>
                  <a:pt x="1600" y="1054"/>
                </a:lnTo>
                <a:lnTo>
                  <a:pt x="1600" y="557"/>
                </a:lnTo>
                <a:lnTo>
                  <a:pt x="1783" y="557"/>
                </a:lnTo>
                <a:lnTo>
                  <a:pt x="1851" y="893"/>
                </a:lnTo>
                <a:lnTo>
                  <a:pt x="1853" y="893"/>
                </a:lnTo>
                <a:lnTo>
                  <a:pt x="1919" y="555"/>
                </a:lnTo>
                <a:lnTo>
                  <a:pt x="2098" y="557"/>
                </a:lnTo>
                <a:lnTo>
                  <a:pt x="2098" y="1054"/>
                </a:lnTo>
                <a:close/>
                <a:moveTo>
                  <a:pt x="2437" y="1063"/>
                </a:moveTo>
                <a:lnTo>
                  <a:pt x="2404" y="1062"/>
                </a:lnTo>
                <a:lnTo>
                  <a:pt x="2373" y="1056"/>
                </a:lnTo>
                <a:lnTo>
                  <a:pt x="2346" y="1045"/>
                </a:lnTo>
                <a:lnTo>
                  <a:pt x="2321" y="1030"/>
                </a:lnTo>
                <a:lnTo>
                  <a:pt x="2299" y="1007"/>
                </a:lnTo>
                <a:lnTo>
                  <a:pt x="2284" y="977"/>
                </a:lnTo>
                <a:lnTo>
                  <a:pt x="2273" y="941"/>
                </a:lnTo>
                <a:lnTo>
                  <a:pt x="2268" y="894"/>
                </a:lnTo>
                <a:lnTo>
                  <a:pt x="2375" y="894"/>
                </a:lnTo>
                <a:lnTo>
                  <a:pt x="2375" y="911"/>
                </a:lnTo>
                <a:lnTo>
                  <a:pt x="2380" y="927"/>
                </a:lnTo>
                <a:lnTo>
                  <a:pt x="2384" y="939"/>
                </a:lnTo>
                <a:lnTo>
                  <a:pt x="2392" y="950"/>
                </a:lnTo>
                <a:lnTo>
                  <a:pt x="2401" y="957"/>
                </a:lnTo>
                <a:lnTo>
                  <a:pt x="2413" y="964"/>
                </a:lnTo>
                <a:lnTo>
                  <a:pt x="2426" y="967"/>
                </a:lnTo>
                <a:lnTo>
                  <a:pt x="2440" y="968"/>
                </a:lnTo>
                <a:lnTo>
                  <a:pt x="2449" y="968"/>
                </a:lnTo>
                <a:lnTo>
                  <a:pt x="2457" y="965"/>
                </a:lnTo>
                <a:lnTo>
                  <a:pt x="2466" y="962"/>
                </a:lnTo>
                <a:lnTo>
                  <a:pt x="2475" y="956"/>
                </a:lnTo>
                <a:lnTo>
                  <a:pt x="2483" y="948"/>
                </a:lnTo>
                <a:lnTo>
                  <a:pt x="2489" y="941"/>
                </a:lnTo>
                <a:lnTo>
                  <a:pt x="2492" y="930"/>
                </a:lnTo>
                <a:lnTo>
                  <a:pt x="2494" y="918"/>
                </a:lnTo>
                <a:lnTo>
                  <a:pt x="2491" y="896"/>
                </a:lnTo>
                <a:lnTo>
                  <a:pt x="2480" y="881"/>
                </a:lnTo>
                <a:lnTo>
                  <a:pt x="2464" y="870"/>
                </a:lnTo>
                <a:lnTo>
                  <a:pt x="2444" y="861"/>
                </a:lnTo>
                <a:lnTo>
                  <a:pt x="2420" y="853"/>
                </a:lnTo>
                <a:lnTo>
                  <a:pt x="2392" y="844"/>
                </a:lnTo>
                <a:lnTo>
                  <a:pt x="2363" y="833"/>
                </a:lnTo>
                <a:lnTo>
                  <a:pt x="2332" y="818"/>
                </a:lnTo>
                <a:lnTo>
                  <a:pt x="2319" y="808"/>
                </a:lnTo>
                <a:lnTo>
                  <a:pt x="2307" y="796"/>
                </a:lnTo>
                <a:lnTo>
                  <a:pt x="2298" y="784"/>
                </a:lnTo>
                <a:lnTo>
                  <a:pt x="2290" y="769"/>
                </a:lnTo>
                <a:lnTo>
                  <a:pt x="2282" y="752"/>
                </a:lnTo>
                <a:lnTo>
                  <a:pt x="2278" y="735"/>
                </a:lnTo>
                <a:lnTo>
                  <a:pt x="2276" y="716"/>
                </a:lnTo>
                <a:lnTo>
                  <a:pt x="2275" y="696"/>
                </a:lnTo>
                <a:lnTo>
                  <a:pt x="2279" y="656"/>
                </a:lnTo>
                <a:lnTo>
                  <a:pt x="2292" y="624"/>
                </a:lnTo>
                <a:lnTo>
                  <a:pt x="2307" y="598"/>
                </a:lnTo>
                <a:lnTo>
                  <a:pt x="2329" y="577"/>
                </a:lnTo>
                <a:lnTo>
                  <a:pt x="2352" y="563"/>
                </a:lnTo>
                <a:lnTo>
                  <a:pt x="2380" y="553"/>
                </a:lnTo>
                <a:lnTo>
                  <a:pt x="2409" y="547"/>
                </a:lnTo>
                <a:lnTo>
                  <a:pt x="2438" y="546"/>
                </a:lnTo>
                <a:lnTo>
                  <a:pt x="2468" y="547"/>
                </a:lnTo>
                <a:lnTo>
                  <a:pt x="2495" y="553"/>
                </a:lnTo>
                <a:lnTo>
                  <a:pt x="2523" y="564"/>
                </a:lnTo>
                <a:lnTo>
                  <a:pt x="2546" y="580"/>
                </a:lnTo>
                <a:lnTo>
                  <a:pt x="2565" y="600"/>
                </a:lnTo>
                <a:lnTo>
                  <a:pt x="2580" y="627"/>
                </a:lnTo>
                <a:lnTo>
                  <a:pt x="2590" y="661"/>
                </a:lnTo>
                <a:lnTo>
                  <a:pt x="2591" y="701"/>
                </a:lnTo>
                <a:lnTo>
                  <a:pt x="2485" y="702"/>
                </a:lnTo>
                <a:lnTo>
                  <a:pt x="2485" y="689"/>
                </a:lnTo>
                <a:lnTo>
                  <a:pt x="2483" y="676"/>
                </a:lnTo>
                <a:lnTo>
                  <a:pt x="2478" y="667"/>
                </a:lnTo>
                <a:lnTo>
                  <a:pt x="2472" y="658"/>
                </a:lnTo>
                <a:lnTo>
                  <a:pt x="2464" y="650"/>
                </a:lnTo>
                <a:lnTo>
                  <a:pt x="2455" y="646"/>
                </a:lnTo>
                <a:lnTo>
                  <a:pt x="2443" y="644"/>
                </a:lnTo>
                <a:lnTo>
                  <a:pt x="2429" y="643"/>
                </a:lnTo>
                <a:lnTo>
                  <a:pt x="2413" y="646"/>
                </a:lnTo>
                <a:lnTo>
                  <a:pt x="2400" y="655"/>
                </a:lnTo>
                <a:lnTo>
                  <a:pt x="2389" y="670"/>
                </a:lnTo>
                <a:lnTo>
                  <a:pt x="2386" y="687"/>
                </a:lnTo>
                <a:lnTo>
                  <a:pt x="2387" y="699"/>
                </a:lnTo>
                <a:lnTo>
                  <a:pt x="2392" y="710"/>
                </a:lnTo>
                <a:lnTo>
                  <a:pt x="2398" y="719"/>
                </a:lnTo>
                <a:lnTo>
                  <a:pt x="2406" y="727"/>
                </a:lnTo>
                <a:lnTo>
                  <a:pt x="2415" y="733"/>
                </a:lnTo>
                <a:lnTo>
                  <a:pt x="2426" y="738"/>
                </a:lnTo>
                <a:lnTo>
                  <a:pt x="2437" y="742"/>
                </a:lnTo>
                <a:lnTo>
                  <a:pt x="2447" y="745"/>
                </a:lnTo>
                <a:lnTo>
                  <a:pt x="2472" y="753"/>
                </a:lnTo>
                <a:lnTo>
                  <a:pt x="2500" y="761"/>
                </a:lnTo>
                <a:lnTo>
                  <a:pt x="2525" y="772"/>
                </a:lnTo>
                <a:lnTo>
                  <a:pt x="2549" y="785"/>
                </a:lnTo>
                <a:lnTo>
                  <a:pt x="2571" y="805"/>
                </a:lnTo>
                <a:lnTo>
                  <a:pt x="2588" y="832"/>
                </a:lnTo>
                <a:lnTo>
                  <a:pt x="2599" y="865"/>
                </a:lnTo>
                <a:lnTo>
                  <a:pt x="2603" y="910"/>
                </a:lnTo>
                <a:lnTo>
                  <a:pt x="2600" y="947"/>
                </a:lnTo>
                <a:lnTo>
                  <a:pt x="2590" y="977"/>
                </a:lnTo>
                <a:lnTo>
                  <a:pt x="2574" y="1005"/>
                </a:lnTo>
                <a:lnTo>
                  <a:pt x="2552" y="1025"/>
                </a:lnTo>
                <a:lnTo>
                  <a:pt x="2528" y="1042"/>
                </a:lnTo>
                <a:lnTo>
                  <a:pt x="2500" y="1054"/>
                </a:lnTo>
                <a:lnTo>
                  <a:pt x="2469" y="1060"/>
                </a:lnTo>
                <a:lnTo>
                  <a:pt x="2437" y="1063"/>
                </a:lnTo>
                <a:close/>
                <a:moveTo>
                  <a:pt x="3101" y="871"/>
                </a:moveTo>
                <a:lnTo>
                  <a:pt x="3096" y="919"/>
                </a:lnTo>
                <a:lnTo>
                  <a:pt x="3085" y="959"/>
                </a:lnTo>
                <a:lnTo>
                  <a:pt x="3070" y="993"/>
                </a:lnTo>
                <a:lnTo>
                  <a:pt x="3048" y="1019"/>
                </a:lnTo>
                <a:lnTo>
                  <a:pt x="3022" y="1039"/>
                </a:lnTo>
                <a:lnTo>
                  <a:pt x="2994" y="1053"/>
                </a:lnTo>
                <a:lnTo>
                  <a:pt x="2962" y="1060"/>
                </a:lnTo>
                <a:lnTo>
                  <a:pt x="2929" y="1063"/>
                </a:lnTo>
                <a:lnTo>
                  <a:pt x="2895" y="1060"/>
                </a:lnTo>
                <a:lnTo>
                  <a:pt x="2863" y="1053"/>
                </a:lnTo>
                <a:lnTo>
                  <a:pt x="2834" y="1039"/>
                </a:lnTo>
                <a:lnTo>
                  <a:pt x="2809" y="1019"/>
                </a:lnTo>
                <a:lnTo>
                  <a:pt x="2787" y="993"/>
                </a:lnTo>
                <a:lnTo>
                  <a:pt x="2770" y="959"/>
                </a:lnTo>
                <a:lnTo>
                  <a:pt x="2759" y="919"/>
                </a:lnTo>
                <a:lnTo>
                  <a:pt x="2756" y="871"/>
                </a:lnTo>
                <a:lnTo>
                  <a:pt x="2756" y="557"/>
                </a:lnTo>
                <a:lnTo>
                  <a:pt x="2857" y="557"/>
                </a:lnTo>
                <a:lnTo>
                  <a:pt x="2857" y="864"/>
                </a:lnTo>
                <a:lnTo>
                  <a:pt x="2858" y="887"/>
                </a:lnTo>
                <a:lnTo>
                  <a:pt x="2861" y="907"/>
                </a:lnTo>
                <a:lnTo>
                  <a:pt x="2867" y="925"/>
                </a:lnTo>
                <a:lnTo>
                  <a:pt x="2875" y="939"/>
                </a:lnTo>
                <a:lnTo>
                  <a:pt x="2886" y="951"/>
                </a:lnTo>
                <a:lnTo>
                  <a:pt x="2898" y="961"/>
                </a:lnTo>
                <a:lnTo>
                  <a:pt x="2912" y="967"/>
                </a:lnTo>
                <a:lnTo>
                  <a:pt x="2929" y="968"/>
                </a:lnTo>
                <a:lnTo>
                  <a:pt x="2946" y="967"/>
                </a:lnTo>
                <a:lnTo>
                  <a:pt x="2960" y="962"/>
                </a:lnTo>
                <a:lnTo>
                  <a:pt x="2972" y="953"/>
                </a:lnTo>
                <a:lnTo>
                  <a:pt x="2982" y="941"/>
                </a:lnTo>
                <a:lnTo>
                  <a:pt x="2989" y="925"/>
                </a:lnTo>
                <a:lnTo>
                  <a:pt x="2996" y="907"/>
                </a:lnTo>
                <a:lnTo>
                  <a:pt x="3000" y="887"/>
                </a:lnTo>
                <a:lnTo>
                  <a:pt x="3002" y="864"/>
                </a:lnTo>
                <a:lnTo>
                  <a:pt x="3002" y="555"/>
                </a:lnTo>
                <a:lnTo>
                  <a:pt x="3101" y="557"/>
                </a:lnTo>
                <a:lnTo>
                  <a:pt x="3101" y="871"/>
                </a:lnTo>
                <a:close/>
                <a:moveTo>
                  <a:pt x="3650" y="1054"/>
                </a:moveTo>
                <a:lnTo>
                  <a:pt x="3496" y="1054"/>
                </a:lnTo>
                <a:lnTo>
                  <a:pt x="3360" y="672"/>
                </a:lnTo>
                <a:lnTo>
                  <a:pt x="3359" y="672"/>
                </a:lnTo>
                <a:lnTo>
                  <a:pt x="3359" y="1054"/>
                </a:lnTo>
                <a:lnTo>
                  <a:pt x="3260" y="1053"/>
                </a:lnTo>
                <a:lnTo>
                  <a:pt x="3260" y="557"/>
                </a:lnTo>
                <a:lnTo>
                  <a:pt x="3416" y="558"/>
                </a:lnTo>
                <a:lnTo>
                  <a:pt x="3548" y="928"/>
                </a:lnTo>
                <a:lnTo>
                  <a:pt x="3550" y="924"/>
                </a:lnTo>
                <a:lnTo>
                  <a:pt x="3550" y="557"/>
                </a:lnTo>
                <a:lnTo>
                  <a:pt x="3650" y="557"/>
                </a:lnTo>
                <a:lnTo>
                  <a:pt x="3650" y="10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38412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077320" y="3505320"/>
            <a:ext cx="415800" cy="412560"/>
          </a:xfrm>
          <a:prstGeom prst="rect">
            <a:avLst/>
          </a:prstGeom>
          <a:ln w="0">
            <a:noFill/>
          </a:ln>
        </p:spPr>
      </p:pic>
      <p:pic>
        <p:nvPicPr>
          <p:cNvPr id="112" name="bmw" descr=""/>
          <p:cNvPicPr/>
          <p:nvPr/>
        </p:nvPicPr>
        <p:blipFill>
          <a:blip r:embed="rId3"/>
          <a:stretch/>
        </p:blipFill>
        <p:spPr>
          <a:xfrm>
            <a:off x="7696080" y="4267080"/>
            <a:ext cx="621000" cy="4003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7086600" y="4724280"/>
            <a:ext cx="533520" cy="470160"/>
            <a:chOff x="7086600" y="4724280"/>
            <a:chExt cx="533520" cy="470160"/>
          </a:xfrm>
        </p:grpSpPr>
        <p:pic>
          <p:nvPicPr>
            <p:cNvPr id="114" name="dell-PC" descr=""/>
            <p:cNvPicPr/>
            <p:nvPr/>
          </p:nvPicPr>
          <p:blipFill>
            <a:blip r:embed="rId4"/>
            <a:stretch/>
          </p:blipFill>
          <p:spPr>
            <a:xfrm>
              <a:off x="7089480" y="4724280"/>
              <a:ext cx="530640" cy="4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7086600" y="4758120"/>
              <a:ext cx="533520" cy="89280"/>
              <a:chOff x="7086600" y="4758120"/>
              <a:chExt cx="533520" cy="89280"/>
            </a:xfrm>
          </p:grpSpPr>
          <p:sp>
            <p:nvSpPr>
              <p:cNvPr id="116" name=""/>
              <p:cNvSpPr/>
              <p:nvPr/>
            </p:nvSpPr>
            <p:spPr>
              <a:xfrm>
                <a:off x="7086600" y="4761720"/>
                <a:ext cx="75600" cy="7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62200" y="4758120"/>
                <a:ext cx="11520" cy="84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68560" y="4759560"/>
                <a:ext cx="151560" cy="4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21120" y="4786920"/>
                <a:ext cx="99000" cy="5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7509600" y="4799160"/>
                <a:ext cx="11520" cy="48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715000" y="129528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>
            <a:lum contrast="72000"/>
          </a:blip>
          <a:stretch/>
        </p:blipFill>
        <p:spPr>
          <a:xfrm>
            <a:off x="6400800" y="1219320"/>
            <a:ext cx="533520" cy="501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>
            <a:lum contrast="72000"/>
          </a:blip>
          <a:stretch/>
        </p:blipFill>
        <p:spPr>
          <a:xfrm>
            <a:off x="4343400" y="2133720"/>
            <a:ext cx="533520" cy="501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848720" y="19810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76920" y="1752480"/>
            <a:ext cx="3124080" cy="2971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7238880" y="1600200"/>
            <a:ext cx="476280" cy="384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4343400" y="2895480"/>
            <a:ext cx="458640" cy="30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14600" y="3052800"/>
            <a:ext cx="762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62320" y="2367000"/>
            <a:ext cx="685800" cy="533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81080" y="2061720"/>
            <a:ext cx="0" cy="6858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3000" y="2290680"/>
            <a:ext cx="533520" cy="533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62120" y="3052800"/>
            <a:ext cx="914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43000" y="4119480"/>
            <a:ext cx="45720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09480" y="4271760"/>
            <a:ext cx="53352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914040" y="3966840"/>
            <a:ext cx="228600" cy="3049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3281400"/>
            <a:ext cx="60948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Cloud"/>
          <p:cNvSpPr/>
          <p:nvPr/>
        </p:nvSpPr>
        <p:spPr>
          <a:xfrm>
            <a:off x="1523880" y="2762280"/>
            <a:ext cx="1289160" cy="519120"/>
          </a:xfrm>
          <a:prstGeom prst="pie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IPv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Network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685800" y="3738600"/>
            <a:ext cx="304920" cy="349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533520" y="2840040"/>
            <a:ext cx="4507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914400" y="4148280"/>
            <a:ext cx="456120" cy="248400"/>
            <a:chOff x="914400" y="4148280"/>
            <a:chExt cx="456120" cy="248400"/>
          </a:xfrm>
        </p:grpSpPr>
        <p:grpSp>
          <p:nvGrpSpPr>
            <p:cNvPr id="141" name=""/>
            <p:cNvGrpSpPr/>
            <p:nvPr/>
          </p:nvGrpSpPr>
          <p:grpSpPr>
            <a:xfrm>
              <a:off x="924120" y="4157280"/>
              <a:ext cx="446400" cy="239400"/>
              <a:chOff x="924120" y="4157280"/>
              <a:chExt cx="446400" cy="239400"/>
            </a:xfrm>
          </p:grpSpPr>
          <p:sp>
            <p:nvSpPr>
              <p:cNvPr id="142" name=""/>
              <p:cNvSpPr/>
              <p:nvPr/>
            </p:nvSpPr>
            <p:spPr>
              <a:xfrm>
                <a:off x="924120" y="4235400"/>
                <a:ext cx="446400" cy="874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7360" y="4242600"/>
                <a:ext cx="44100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27360" y="4157280"/>
                <a:ext cx="44100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14400" y="4223880"/>
              <a:ext cx="448920" cy="8532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8000" y="4231080"/>
              <a:ext cx="443520" cy="15408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8000" y="4148280"/>
              <a:ext cx="443520" cy="15156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001160" y="4167000"/>
              <a:ext cx="280440" cy="113040"/>
              <a:chOff x="1001160" y="4167000"/>
              <a:chExt cx="280440" cy="1130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001160" y="4167000"/>
                <a:ext cx="280440" cy="113040"/>
                <a:chOff x="1001160" y="4167000"/>
                <a:chExt cx="280440" cy="113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001160" y="4167000"/>
                  <a:ext cx="128520" cy="468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01160" y="4167000"/>
                  <a:ext cx="128520" cy="468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148760" y="4240080"/>
                  <a:ext cx="132840" cy="399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48760" y="4240080"/>
                  <a:ext cx="132840" cy="399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010520" y="4167000"/>
                <a:ext cx="261360" cy="112680"/>
                <a:chOff x="1010520" y="4167000"/>
                <a:chExt cx="261360" cy="112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139040" y="4167000"/>
                  <a:ext cx="132840" cy="468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9040" y="4167000"/>
                  <a:ext cx="132840" cy="468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10520" y="4230360"/>
                  <a:ext cx="126720" cy="4932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10520" y="4230360"/>
                  <a:ext cx="126720" cy="4932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762120" y="1986120"/>
            <a:ext cx="533160" cy="501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1447920" y="3814920"/>
            <a:ext cx="380880" cy="425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304920" y="4195800"/>
            <a:ext cx="533160" cy="501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1219320" y="4500720"/>
            <a:ext cx="609480" cy="50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 flipV="1">
            <a:off x="1218960" y="4424040"/>
            <a:ext cx="152280" cy="2286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7"/>
          <a:stretch/>
        </p:blipFill>
        <p:spPr>
          <a:xfrm>
            <a:off x="1752480" y="1681200"/>
            <a:ext cx="451080" cy="441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8"/>
          <a:stretch/>
        </p:blipFill>
        <p:spPr>
          <a:xfrm>
            <a:off x="2743200" y="1986120"/>
            <a:ext cx="533520" cy="501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9"/>
          <a:stretch/>
        </p:blipFill>
        <p:spPr>
          <a:xfrm>
            <a:off x="3048120" y="2779560"/>
            <a:ext cx="498240" cy="473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 flipV="1">
            <a:off x="2133360" y="3281400"/>
            <a:ext cx="533160" cy="533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8" name="camera2" descr=""/>
          <p:cNvPicPr/>
          <p:nvPr/>
        </p:nvPicPr>
        <p:blipFill>
          <a:blip r:embed="rId20"/>
          <a:stretch/>
        </p:blipFill>
        <p:spPr>
          <a:xfrm>
            <a:off x="5791320" y="4876920"/>
            <a:ext cx="4572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2666880" y="3782880"/>
            <a:ext cx="533520" cy="470160"/>
            <a:chOff x="2666880" y="3782880"/>
            <a:chExt cx="533520" cy="470160"/>
          </a:xfrm>
        </p:grpSpPr>
        <p:pic>
          <p:nvPicPr>
            <p:cNvPr id="170" name="dell-PC" descr=""/>
            <p:cNvPicPr/>
            <p:nvPr/>
          </p:nvPicPr>
          <p:blipFill>
            <a:blip r:embed="rId21"/>
            <a:stretch/>
          </p:blipFill>
          <p:spPr>
            <a:xfrm>
              <a:off x="2669760" y="3782880"/>
              <a:ext cx="530640" cy="4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"/>
            <p:cNvGrpSpPr/>
            <p:nvPr/>
          </p:nvGrpSpPr>
          <p:grpSpPr>
            <a:xfrm>
              <a:off x="2666880" y="3816720"/>
              <a:ext cx="533520" cy="89280"/>
              <a:chOff x="2666880" y="3816720"/>
              <a:chExt cx="533520" cy="89280"/>
            </a:xfrm>
          </p:grpSpPr>
          <p:sp>
            <p:nvSpPr>
              <p:cNvPr id="172" name=""/>
              <p:cNvSpPr/>
              <p:nvPr/>
            </p:nvSpPr>
            <p:spPr>
              <a:xfrm>
                <a:off x="2666880" y="3820320"/>
                <a:ext cx="75600" cy="7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2480" y="3816720"/>
                <a:ext cx="11520" cy="84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48840" y="3818160"/>
                <a:ext cx="151560" cy="4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01400" y="3845520"/>
                <a:ext cx="99000" cy="5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3089880" y="3857760"/>
                <a:ext cx="11520" cy="48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7" name=""/>
          <p:cNvGraphicFramePr/>
          <p:nvPr/>
        </p:nvGraphicFramePr>
        <p:xfrm>
          <a:off x="838080" y="5230800"/>
          <a:ext cx="304920" cy="331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38080" y="5230800"/>
                    <a:ext cx="3049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709200" y="4485240"/>
            <a:ext cx="639000" cy="657000"/>
            <a:chOff x="709200" y="4485240"/>
            <a:chExt cx="639000" cy="657000"/>
          </a:xfrm>
        </p:grpSpPr>
        <p:sp>
          <p:nvSpPr>
            <p:cNvPr id="180" name=""/>
            <p:cNvSpPr/>
            <p:nvPr/>
          </p:nvSpPr>
          <p:spPr>
            <a:xfrm flipH="1" rot="7820400">
              <a:off x="765000" y="4636080"/>
              <a:ext cx="530640" cy="36864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7820400">
              <a:off x="758880" y="4623120"/>
              <a:ext cx="538560" cy="38088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82" name="kyl" descr=""/>
          <p:cNvPicPr/>
          <p:nvPr/>
        </p:nvPicPr>
        <p:blipFill>
          <a:blip r:embed="rId24"/>
          <a:srcRect l="26925" t="0" r="23099" b="0"/>
          <a:stretch/>
        </p:blipFill>
        <p:spPr>
          <a:xfrm>
            <a:off x="6477120" y="4876920"/>
            <a:ext cx="458640" cy="685800"/>
          </a:xfrm>
          <a:prstGeom prst="rect">
            <a:avLst/>
          </a:prstGeom>
          <a:ln w="0">
            <a:noFill/>
          </a:ln>
        </p:spPr>
      </p:pic>
      <p:cxnSp>
        <p:nvCxnSpPr>
          <p:cNvPr id="183" name=""/>
          <p:cNvCxnSpPr/>
          <p:nvPr/>
        </p:nvCxnSpPr>
        <p:spPr>
          <a:xfrm flipV="1">
            <a:off x="1294920" y="4772880"/>
            <a:ext cx="129636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</p:cxnSp>
      <p:graphicFrame>
        <p:nvGraphicFramePr>
          <p:cNvPr id="184" name=""/>
          <p:cNvGraphicFramePr/>
          <p:nvPr/>
        </p:nvGraphicFramePr>
        <p:xfrm>
          <a:off x="2666880" y="4545000"/>
          <a:ext cx="304920" cy="331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4545000"/>
                    <a:ext cx="3049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14600" y="48499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견고딕"/>
                <a:ea typeface="견고딕"/>
              </a:rPr>
              <a:t>Where? How?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7" name="wint2930" descr=""/>
          <p:cNvPicPr/>
          <p:nvPr/>
        </p:nvPicPr>
        <p:blipFill>
          <a:blip r:embed="rId27"/>
          <a:stretch/>
        </p:blipFill>
        <p:spPr>
          <a:xfrm>
            <a:off x="5181480" y="4724280"/>
            <a:ext cx="457200" cy="3063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4800600" y="1143000"/>
            <a:ext cx="838080" cy="939960"/>
            <a:chOff x="4800600" y="1143000"/>
            <a:chExt cx="838080" cy="939960"/>
          </a:xfrm>
        </p:grpSpPr>
        <p:graphicFrame>
          <p:nvGraphicFramePr>
            <p:cNvPr id="189" name=""/>
            <p:cNvGraphicFramePr/>
            <p:nvPr/>
          </p:nvGraphicFramePr>
          <p:xfrm>
            <a:off x="4800600" y="1676520"/>
            <a:ext cx="450720" cy="40644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4800600" y="1676520"/>
                      <a:ext cx="4507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1" name=""/>
            <p:cNvGrpSpPr/>
            <p:nvPr/>
          </p:nvGrpSpPr>
          <p:grpSpPr>
            <a:xfrm>
              <a:off x="4800600" y="1143000"/>
              <a:ext cx="838080" cy="914400"/>
              <a:chOff x="4800600" y="1143000"/>
              <a:chExt cx="838080" cy="914400"/>
            </a:xfrm>
          </p:grpSpPr>
          <p:sp>
            <p:nvSpPr>
              <p:cNvPr id="192" name=""/>
              <p:cNvSpPr/>
              <p:nvPr/>
            </p:nvSpPr>
            <p:spPr>
              <a:xfrm>
                <a:off x="5105520" y="152388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2880" y="137160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00600" y="12193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96000" y="1143000"/>
                <a:ext cx="5522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Times New Roman"/>
                    <a:ea typeface="ＭＳ Ｐゴシック"/>
                  </a:rPr>
                  <a:t>Wireles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Times New Roman"/>
                    <a:ea typeface="ＭＳ Ｐゴシック"/>
                  </a:rPr>
                  <a:t>LA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1882080" y="3508560"/>
            <a:ext cx="884880" cy="832320"/>
            <a:chOff x="1882080" y="3508560"/>
            <a:chExt cx="884880" cy="832320"/>
          </a:xfrm>
        </p:grpSpPr>
        <p:sp>
          <p:nvSpPr>
            <p:cNvPr id="197" name=""/>
            <p:cNvSpPr/>
            <p:nvPr/>
          </p:nvSpPr>
          <p:spPr>
            <a:xfrm flipH="1" rot="7820400">
              <a:off x="2145240" y="3530520"/>
              <a:ext cx="375480" cy="81000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7820400">
              <a:off x="2133720" y="3505680"/>
              <a:ext cx="380880" cy="8373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666880" y="449568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42840" y="4543560"/>
            <a:ext cx="228600" cy="30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1" name="j0230477" descr=""/>
          <p:cNvPicPr/>
          <p:nvPr/>
        </p:nvPicPr>
        <p:blipFill>
          <a:blip r:embed="rId30"/>
          <a:stretch/>
        </p:blipFill>
        <p:spPr>
          <a:xfrm>
            <a:off x="0" y="1219320"/>
            <a:ext cx="503280" cy="533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61360" y="1219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Malicious user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152360" y="2743200"/>
            <a:ext cx="990720" cy="609480"/>
            <a:chOff x="1152360" y="2743200"/>
            <a:chExt cx="990720" cy="609480"/>
          </a:xfrm>
        </p:grpSpPr>
        <p:sp>
          <p:nvSpPr>
            <p:cNvPr id="204" name=""/>
            <p:cNvSpPr/>
            <p:nvPr/>
          </p:nvSpPr>
          <p:spPr>
            <a:xfrm>
              <a:off x="1152360" y="2743200"/>
              <a:ext cx="685800" cy="609480"/>
            </a:xfrm>
            <a:prstGeom prst="irregularSeal1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28954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견고딕"/>
                  <a:ea typeface="견고딕"/>
                </a:rPr>
                <a:t>Attack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cxnSp>
        <p:nvCxnSpPr>
          <p:cNvPr id="206" name=""/>
          <p:cNvCxnSpPr>
            <a:stCxn id="207" idx="0"/>
          </p:cNvCxnSpPr>
          <p:nvPr/>
        </p:nvCxnSpPr>
        <p:spPr>
          <a:xfrm flipH="1" flipV="1" rot="5400000">
            <a:off x="4317480" y="4773240"/>
            <a:ext cx="1372320" cy="20700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08" name="" descr=""/>
          <p:cNvPicPr/>
          <p:nvPr/>
        </p:nvPicPr>
        <p:blipFill>
          <a:blip r:embed="rId31"/>
          <a:stretch/>
        </p:blipFill>
        <p:spPr>
          <a:xfrm>
            <a:off x="8077320" y="2590920"/>
            <a:ext cx="384120" cy="609480"/>
          </a:xfrm>
          <a:prstGeom prst="rect">
            <a:avLst/>
          </a:prstGeom>
          <a:ln w="0">
            <a:noFill/>
          </a:ln>
        </p:spPr>
      </p:pic>
      <p:pic>
        <p:nvPicPr>
          <p:cNvPr id="209" name="j0230477" descr=""/>
          <p:cNvPicPr/>
          <p:nvPr/>
        </p:nvPicPr>
        <p:blipFill>
          <a:blip r:embed="rId32"/>
          <a:stretch/>
        </p:blipFill>
        <p:spPr>
          <a:xfrm>
            <a:off x="4648320" y="5562720"/>
            <a:ext cx="503280" cy="533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293720" y="59436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Malicious user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038480"/>
            <a:ext cx="685800" cy="609840"/>
          </a:xfrm>
          <a:prstGeom prst="irregularSeal1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견고딕"/>
                <a:ea typeface="견고딕"/>
              </a:rPr>
              <a:t>Attack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5204520" y="1956600"/>
            <a:ext cx="2470320" cy="2573280"/>
          </a:xfrm>
          <a:prstGeom prst="blockArc">
            <a:avLst>
              <a:gd name="adj1" fmla="val 10794613"/>
              <a:gd name="adj2" fmla="val 5387"/>
              <a:gd name="adj3" fmla="val 3227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16200000">
            <a:off x="5238720" y="1959120"/>
            <a:ext cx="2471760" cy="2573280"/>
          </a:xfrm>
          <a:prstGeom prst="blockArc">
            <a:avLst>
              <a:gd name="adj1" fmla="val 10794613"/>
              <a:gd name="adj2" fmla="val 5387"/>
              <a:gd name="adj3" fmla="val 3227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397400">
            <a:off x="5074560" y="2185200"/>
            <a:ext cx="2100240" cy="2162160"/>
          </a:xfrm>
          <a:prstGeom prst="blockArc">
            <a:avLst>
              <a:gd name="adj1" fmla="val 14843949"/>
              <a:gd name="adj2" fmla="val 17556051"/>
              <a:gd name="adj3" fmla="val 33921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9620600">
            <a:off x="5010120" y="1934640"/>
            <a:ext cx="2722680" cy="2641680"/>
          </a:xfrm>
          <a:prstGeom prst="blockArc">
            <a:avLst>
              <a:gd name="adj1" fmla="val 14393237"/>
              <a:gd name="adj2" fmla="val 18006763"/>
              <a:gd name="adj3" fmla="val 27551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1572800">
            <a:off x="5154120" y="1761840"/>
            <a:ext cx="2440080" cy="2805120"/>
          </a:xfrm>
          <a:prstGeom prst="blockArc">
            <a:avLst>
              <a:gd name="adj1" fmla="val 15383868"/>
              <a:gd name="adj2" fmla="val 17016132"/>
              <a:gd name="adj3" fmla="val 27324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3890600">
            <a:off x="5146560" y="2117520"/>
            <a:ext cx="2239920" cy="2392200"/>
          </a:xfrm>
          <a:prstGeom prst="blockArc">
            <a:avLst>
              <a:gd name="adj1" fmla="val 15047660"/>
              <a:gd name="adj2" fmla="val 17352340"/>
              <a:gd name="adj3" fmla="val 29977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7200" y="4178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6920" y="376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27640" y="3154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9240" y="22827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480200">
            <a:off x="5202000" y="1940040"/>
            <a:ext cx="2722320" cy="2641320"/>
          </a:xfrm>
          <a:prstGeom prst="blockArc">
            <a:avLst>
              <a:gd name="adj1" fmla="val 14748598"/>
              <a:gd name="adj2" fmla="val 17651402"/>
              <a:gd name="adj3" fmla="val 26921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8827800">
            <a:off x="5159160" y="1912680"/>
            <a:ext cx="2722320" cy="2641320"/>
          </a:xfrm>
          <a:prstGeom prst="blockArc">
            <a:avLst>
              <a:gd name="adj1" fmla="val 14393237"/>
              <a:gd name="adj2" fmla="val 18006763"/>
              <a:gd name="adj3" fmla="val 27551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27920" y="22845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3628800">
            <a:off x="5578560" y="1999800"/>
            <a:ext cx="2239920" cy="2392560"/>
          </a:xfrm>
          <a:prstGeom prst="blockArc">
            <a:avLst>
              <a:gd name="adj1" fmla="val 15554663"/>
              <a:gd name="adj2" fmla="val 16845337"/>
              <a:gd name="adj3" fmla="val 30106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4923000">
            <a:off x="5550480" y="2043720"/>
            <a:ext cx="2240280" cy="2394000"/>
          </a:xfrm>
          <a:prstGeom prst="blockArc">
            <a:avLst>
              <a:gd name="adj1" fmla="val 15601636"/>
              <a:gd name="adj2" fmla="val 16798364"/>
              <a:gd name="adj3" fmla="val 28644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6298200">
            <a:off x="5560200" y="2061000"/>
            <a:ext cx="2239920" cy="2394000"/>
          </a:xfrm>
          <a:prstGeom prst="blockArc">
            <a:avLst>
              <a:gd name="adj1" fmla="val 15554663"/>
              <a:gd name="adj2" fmla="val 16845337"/>
              <a:gd name="adj3" fmla="val 30106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16720" y="26640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2360" y="3021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5640" y="3405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1360" y="3935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Cloud"/>
          <p:cNvSpPr/>
          <p:nvPr/>
        </p:nvSpPr>
        <p:spPr>
          <a:xfrm>
            <a:off x="5924520" y="2971800"/>
            <a:ext cx="1231920" cy="519120"/>
          </a:xfrm>
          <a:prstGeom prst="pie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IPv6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Network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2" idx="1"/>
            <a:endCxn id="235" idx="0"/>
          </p:cNvCxnSpPr>
          <p:nvPr/>
        </p:nvCxnSpPr>
        <p:spPr>
          <a:xfrm flipV="1" rot="10800000">
            <a:off x="4266360" y="4327920"/>
            <a:ext cx="305640" cy="624600"/>
          </a:xfrm>
          <a:prstGeom prst="curvedConnector2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"/>
          <p:cNvCxnSpPr/>
          <p:nvPr/>
        </p:nvCxnSpPr>
        <p:spPr>
          <a:xfrm flipH="1" rot="16200000">
            <a:off x="204480" y="1880640"/>
            <a:ext cx="886680" cy="83880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7" name=""/>
          <p:cNvSpPr txBox="1"/>
          <p:nvPr/>
        </p:nvSpPr>
        <p:spPr>
          <a:xfrm rot="18873000">
            <a:off x="5448240" y="2484360"/>
            <a:ext cx="850680" cy="28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4553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Mobilit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38" name=""/>
          <p:cNvSpPr txBox="1"/>
          <p:nvPr/>
        </p:nvSpPr>
        <p:spPr>
          <a:xfrm rot="14319000">
            <a:off x="5314680" y="3168000"/>
            <a:ext cx="91440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754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IPsec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39" name=""/>
          <p:cNvSpPr txBox="1"/>
          <p:nvPr/>
        </p:nvSpPr>
        <p:spPr>
          <a:xfrm rot="11053800">
            <a:off x="5943600" y="3676320"/>
            <a:ext cx="38088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238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Qo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40" name=""/>
          <p:cNvSpPr txBox="1"/>
          <p:nvPr/>
        </p:nvSpPr>
        <p:spPr>
          <a:xfrm rot="1996800">
            <a:off x="6295680" y="2376360"/>
            <a:ext cx="1212840" cy="73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93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Addressing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41" name=""/>
          <p:cNvSpPr txBox="1"/>
          <p:nvPr/>
        </p:nvSpPr>
        <p:spPr>
          <a:xfrm rot="7956600">
            <a:off x="6076080" y="3047040"/>
            <a:ext cx="159228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93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Autoconfinuration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견고딕"/>
                <a:ea typeface="견고딕"/>
              </a:rPr>
              <a:t>FAIL!!!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28880" y="3961800"/>
            <a:ext cx="702000" cy="36828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Times New Roman"/>
              </a:rPr>
              <a:t>IPse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55040" y="5409360"/>
            <a:ext cx="1020600" cy="36828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bilit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0280" y="5561280"/>
            <a:ext cx="373932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eed to adopt embedded IPv6 stack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or any kinds of devic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2920" y="608760"/>
            <a:ext cx="753696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 technical base for BIZ. Opportunity and Leading IPv6 technology!!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Activitie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372600" y="2590920"/>
            <a:ext cx="4410000" cy="609480"/>
            <a:chOff x="9372600" y="2590920"/>
            <a:chExt cx="4410000" cy="609480"/>
          </a:xfrm>
        </p:grpSpPr>
        <p:sp>
          <p:nvSpPr>
            <p:cNvPr id="248" name=""/>
            <p:cNvSpPr/>
            <p:nvPr/>
          </p:nvSpPr>
          <p:spPr>
            <a:xfrm>
              <a:off x="9372600" y="259092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93120" y="289548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14000" y="320040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Activitie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advTm="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Impact"/>
              </a:rPr>
              <a:t>Activitie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8862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Korean-IPv6-network(2002-04-18)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276720" cy="5257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838080"/>
            <a:ext cx="5638680" cy="5867640"/>
          </a:xfrm>
          <a:prstGeom prst="wedgeRectCallout">
            <a:avLst>
              <a:gd name="adj1" fmla="val 57319"/>
              <a:gd name="adj2" fmla="val 2075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73520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WWW/FTP/Video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4600" y="2733840"/>
            <a:ext cx="0" cy="331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90640" y="2466720"/>
            <a:ext cx="236520" cy="530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362320" y="1981080"/>
            <a:ext cx="2338200" cy="3463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0560" y="4583160"/>
            <a:ext cx="3822480" cy="20462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e2e2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1" name="j0249811" descr=""/>
          <p:cNvPicPr/>
          <p:nvPr/>
        </p:nvPicPr>
        <p:blipFill>
          <a:blip r:embed="rId2"/>
          <a:stretch/>
        </p:blipFill>
        <p:spPr>
          <a:xfrm>
            <a:off x="2027160" y="2071800"/>
            <a:ext cx="379440" cy="48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515880" y="2071800"/>
          <a:ext cx="37800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880" y="2071800"/>
                    <a:ext cx="3780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366920" y="2071800"/>
          <a:ext cx="377640" cy="54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6920" y="2071800"/>
                    <a:ext cx="37764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203120" y="17352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DNS/IRC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60" y="2733840"/>
            <a:ext cx="13683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00080" y="3065400"/>
            <a:ext cx="0" cy="1741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2840" y="167652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Cisc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130400" y="3129120"/>
            <a:ext cx="425520" cy="2442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040" y="4780080"/>
            <a:ext cx="284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040" y="4054320"/>
            <a:ext cx="284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040" y="3262320"/>
            <a:ext cx="284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0080" y="3065400"/>
            <a:ext cx="4255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320" y="2536920"/>
            <a:ext cx="0" cy="196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5680" y="5821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Linux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(CN)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2280" y="3027240"/>
            <a:ext cx="330120" cy="422280"/>
            <a:chOff x="422280" y="3027240"/>
            <a:chExt cx="330120" cy="422280"/>
          </a:xfrm>
        </p:grpSpPr>
        <p:pic>
          <p:nvPicPr>
            <p:cNvPr id="278" name="j0239323" descr=""/>
            <p:cNvPicPr/>
            <p:nvPr/>
          </p:nvPicPr>
          <p:blipFill>
            <a:blip r:embed="rId7"/>
            <a:stretch/>
          </p:blipFill>
          <p:spPr>
            <a:xfrm>
              <a:off x="422280" y="3027240"/>
              <a:ext cx="3301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officialpenguin" descr="Linux Penguin"/>
            <p:cNvPicPr/>
            <p:nvPr/>
          </p:nvPicPr>
          <p:blipFill>
            <a:blip r:embed="rId8"/>
            <a:stretch/>
          </p:blipFill>
          <p:spPr>
            <a:xfrm>
              <a:off x="530280" y="3068280"/>
              <a:ext cx="6156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422280" y="3743280"/>
            <a:ext cx="330120" cy="422280"/>
            <a:chOff x="422280" y="3743280"/>
            <a:chExt cx="330120" cy="422280"/>
          </a:xfrm>
        </p:grpSpPr>
        <p:pic>
          <p:nvPicPr>
            <p:cNvPr id="281" name="j0239323" descr=""/>
            <p:cNvPicPr/>
            <p:nvPr/>
          </p:nvPicPr>
          <p:blipFill>
            <a:blip r:embed="rId9"/>
            <a:stretch/>
          </p:blipFill>
          <p:spPr>
            <a:xfrm>
              <a:off x="422280" y="3743280"/>
              <a:ext cx="3301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officialpenguin" descr="Linux Penguin"/>
            <p:cNvPicPr/>
            <p:nvPr/>
          </p:nvPicPr>
          <p:blipFill>
            <a:blip r:embed="rId10"/>
            <a:stretch/>
          </p:blipFill>
          <p:spPr>
            <a:xfrm>
              <a:off x="530280" y="3784320"/>
              <a:ext cx="6156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422280" y="4533840"/>
            <a:ext cx="330120" cy="425520"/>
            <a:chOff x="422280" y="4533840"/>
            <a:chExt cx="330120" cy="425520"/>
          </a:xfrm>
        </p:grpSpPr>
        <p:pic>
          <p:nvPicPr>
            <p:cNvPr id="284" name="j0239323" descr=""/>
            <p:cNvPicPr/>
            <p:nvPr/>
          </p:nvPicPr>
          <p:blipFill>
            <a:blip r:embed="rId11"/>
            <a:stretch/>
          </p:blipFill>
          <p:spPr>
            <a:xfrm>
              <a:off x="422280" y="4533840"/>
              <a:ext cx="33012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officialpenguin" descr="Linux Penguin"/>
            <p:cNvPicPr/>
            <p:nvPr/>
          </p:nvPicPr>
          <p:blipFill>
            <a:blip r:embed="rId12"/>
            <a:stretch/>
          </p:blipFill>
          <p:spPr>
            <a:xfrm>
              <a:off x="530280" y="4574880"/>
              <a:ext cx="61560" cy="12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38880" y="280656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Windows XP Hos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2440" y="35956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BSD Hos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4360" y="4389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Linux Hos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33560" y="4913280"/>
            <a:ext cx="660240" cy="65880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3560" y="5640480"/>
            <a:ext cx="660240" cy="65880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273320" y="5308560"/>
            <a:ext cx="471240" cy="2635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73320" y="5705640"/>
            <a:ext cx="517320" cy="1965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3"/>
          <a:stretch/>
        </p:blipFill>
        <p:spPr>
          <a:xfrm>
            <a:off x="2182680" y="5827680"/>
            <a:ext cx="189000" cy="265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50000" y="584352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Mobile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Nod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1956600" y="5459760"/>
            <a:ext cx="593640" cy="141480"/>
          </a:xfrm>
          <a:custGeom>
            <a:avLst/>
            <a:gdLst>
              <a:gd name="textAreaLeft" fmla="*/ 103680 w 593640"/>
              <a:gd name="textAreaRight" fmla="*/ 430560 w 5936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22360" y="549756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2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82480" y="61596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1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01640" y="5099040"/>
            <a:ext cx="331920" cy="407880"/>
            <a:chOff x="1601640" y="5099040"/>
            <a:chExt cx="331920" cy="407880"/>
          </a:xfrm>
        </p:grpSpPr>
        <p:pic>
          <p:nvPicPr>
            <p:cNvPr id="299" name="j0239323" descr=""/>
            <p:cNvPicPr/>
            <p:nvPr/>
          </p:nvPicPr>
          <p:blipFill>
            <a:blip r:embed="rId14"/>
            <a:stretch/>
          </p:blipFill>
          <p:spPr>
            <a:xfrm>
              <a:off x="1601640" y="5099040"/>
              <a:ext cx="3319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officialpenguin" descr="Linux Penguin"/>
            <p:cNvPicPr/>
            <p:nvPr/>
          </p:nvPicPr>
          <p:blipFill>
            <a:blip r:embed="rId15"/>
            <a:stretch/>
          </p:blipFill>
          <p:spPr>
            <a:xfrm>
              <a:off x="1710360" y="5138640"/>
              <a:ext cx="61920" cy="11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1035000" y="5429160"/>
            <a:ext cx="331920" cy="409680"/>
            <a:chOff x="1035000" y="5429160"/>
            <a:chExt cx="331920" cy="409680"/>
          </a:xfrm>
        </p:grpSpPr>
        <p:pic>
          <p:nvPicPr>
            <p:cNvPr id="302" name="j0239323" descr=""/>
            <p:cNvPicPr/>
            <p:nvPr/>
          </p:nvPicPr>
          <p:blipFill>
            <a:blip r:embed="rId16"/>
            <a:stretch/>
          </p:blipFill>
          <p:spPr>
            <a:xfrm>
              <a:off x="1035000" y="5429160"/>
              <a:ext cx="33192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officialpenguin" descr="Linux Penguin"/>
            <p:cNvPicPr/>
            <p:nvPr/>
          </p:nvPicPr>
          <p:blipFill>
            <a:blip r:embed="rId17"/>
            <a:stretch/>
          </p:blipFill>
          <p:spPr>
            <a:xfrm>
              <a:off x="1143720" y="5468760"/>
              <a:ext cx="61920" cy="1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1601640" y="5691240"/>
            <a:ext cx="331920" cy="409680"/>
            <a:chOff x="1601640" y="5691240"/>
            <a:chExt cx="331920" cy="409680"/>
          </a:xfrm>
        </p:grpSpPr>
        <p:pic>
          <p:nvPicPr>
            <p:cNvPr id="305" name="j0239323" descr=""/>
            <p:cNvPicPr/>
            <p:nvPr/>
          </p:nvPicPr>
          <p:blipFill>
            <a:blip r:embed="rId18"/>
            <a:stretch/>
          </p:blipFill>
          <p:spPr>
            <a:xfrm>
              <a:off x="1601640" y="5691240"/>
              <a:ext cx="33192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officialpenguin" descr="Linux Penguin"/>
            <p:cNvPicPr/>
            <p:nvPr/>
          </p:nvPicPr>
          <p:blipFill>
            <a:blip r:embed="rId19"/>
            <a:stretch/>
          </p:blipFill>
          <p:spPr>
            <a:xfrm>
              <a:off x="1710360" y="5730840"/>
              <a:ext cx="61920" cy="1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3821040" y="4716360"/>
            <a:ext cx="662040" cy="65736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9400" y="49068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Linux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(CN)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1040" y="5442120"/>
            <a:ext cx="662040" cy="65880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160800" y="5111640"/>
            <a:ext cx="471240" cy="2620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60800" y="5506920"/>
            <a:ext cx="520560" cy="1987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0"/>
          <a:stretch/>
        </p:blipFill>
        <p:spPr>
          <a:xfrm>
            <a:off x="4071960" y="5629320"/>
            <a:ext cx="189000" cy="26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40720" y="564840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Mobile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Nod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3844800" y="5261040"/>
            <a:ext cx="595440" cy="141120"/>
          </a:xfrm>
          <a:custGeom>
            <a:avLst/>
            <a:gdLst>
              <a:gd name="textAreaLeft" fmla="*/ 104040 w 595440"/>
              <a:gd name="textAreaRight" fmla="*/ 431640 w 5954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9840" y="52164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4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75000" y="58230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3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90920" y="4900680"/>
            <a:ext cx="330120" cy="407880"/>
            <a:chOff x="3490920" y="4900680"/>
            <a:chExt cx="330120" cy="407880"/>
          </a:xfrm>
        </p:grpSpPr>
        <p:pic>
          <p:nvPicPr>
            <p:cNvPr id="318" name="j0239323" descr=""/>
            <p:cNvPicPr/>
            <p:nvPr/>
          </p:nvPicPr>
          <p:blipFill>
            <a:blip r:embed="rId21"/>
            <a:stretch/>
          </p:blipFill>
          <p:spPr>
            <a:xfrm>
              <a:off x="3490920" y="4900680"/>
              <a:ext cx="3301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fficialpenguin" descr="Linux Penguin"/>
            <p:cNvPicPr/>
            <p:nvPr/>
          </p:nvPicPr>
          <p:blipFill>
            <a:blip r:embed="rId22"/>
            <a:stretch/>
          </p:blipFill>
          <p:spPr>
            <a:xfrm>
              <a:off x="3598920" y="4940280"/>
              <a:ext cx="61560" cy="11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925720" y="5308560"/>
            <a:ext cx="330120" cy="331920"/>
            <a:chOff x="2925720" y="5308560"/>
            <a:chExt cx="330120" cy="331920"/>
          </a:xfrm>
        </p:grpSpPr>
        <p:pic>
          <p:nvPicPr>
            <p:cNvPr id="321" name="j0239323" descr=""/>
            <p:cNvPicPr/>
            <p:nvPr/>
          </p:nvPicPr>
          <p:blipFill>
            <a:blip r:embed="rId23"/>
            <a:stretch/>
          </p:blipFill>
          <p:spPr>
            <a:xfrm>
              <a:off x="2925720" y="5308560"/>
              <a:ext cx="3301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officialpenguin" descr="Linux Penguin"/>
            <p:cNvPicPr/>
            <p:nvPr/>
          </p:nvPicPr>
          <p:blipFill>
            <a:blip r:embed="rId24"/>
            <a:stretch/>
          </p:blipFill>
          <p:spPr>
            <a:xfrm>
              <a:off x="3033720" y="5340600"/>
              <a:ext cx="61560" cy="9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3490920" y="5494320"/>
            <a:ext cx="330120" cy="407880"/>
            <a:chOff x="3490920" y="5494320"/>
            <a:chExt cx="330120" cy="407880"/>
          </a:xfrm>
        </p:grpSpPr>
        <p:pic>
          <p:nvPicPr>
            <p:cNvPr id="324" name="j0239323" descr=""/>
            <p:cNvPicPr/>
            <p:nvPr/>
          </p:nvPicPr>
          <p:blipFill>
            <a:blip r:embed="rId25"/>
            <a:stretch/>
          </p:blipFill>
          <p:spPr>
            <a:xfrm>
              <a:off x="3490920" y="5494320"/>
              <a:ext cx="3301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officialpenguin" descr="Linux Penguin"/>
            <p:cNvPicPr/>
            <p:nvPr/>
          </p:nvPicPr>
          <p:blipFill>
            <a:blip r:embed="rId26"/>
            <a:stretch/>
          </p:blipFill>
          <p:spPr>
            <a:xfrm>
              <a:off x="3598920" y="5533920"/>
              <a:ext cx="61560" cy="11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2288520" y="4419720"/>
            <a:ext cx="1247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Mobile IPv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9600" y="1609560"/>
            <a:ext cx="48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ETRI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576680" y="4078440"/>
            <a:ext cx="331920" cy="371160"/>
            <a:chOff x="4576680" y="4078440"/>
            <a:chExt cx="331920" cy="371160"/>
          </a:xfrm>
        </p:grpSpPr>
        <p:pic>
          <p:nvPicPr>
            <p:cNvPr id="329" name="j0239323" descr=""/>
            <p:cNvPicPr/>
            <p:nvPr/>
          </p:nvPicPr>
          <p:blipFill>
            <a:blip r:embed="rId27"/>
            <a:stretch/>
          </p:blipFill>
          <p:spPr>
            <a:xfrm>
              <a:off x="4576680" y="4078440"/>
              <a:ext cx="33192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officialpenguin" descr="Linux Penguin"/>
            <p:cNvPicPr/>
            <p:nvPr/>
          </p:nvPicPr>
          <p:blipFill>
            <a:blip r:embed="rId28"/>
            <a:stretch/>
          </p:blipFill>
          <p:spPr>
            <a:xfrm>
              <a:off x="4685400" y="4114440"/>
              <a:ext cx="61920" cy="1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"/>
          <p:cNvSpPr/>
          <p:nvPr/>
        </p:nvSpPr>
        <p:spPr>
          <a:xfrm>
            <a:off x="4435560" y="4527720"/>
            <a:ext cx="662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NAT-P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49800" y="3065400"/>
            <a:ext cx="23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34760" y="309096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FreeBS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67200" y="3657600"/>
            <a:ext cx="801360" cy="65880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067200" y="3881520"/>
            <a:ext cx="330120" cy="369720"/>
            <a:chOff x="3067200" y="3881520"/>
            <a:chExt cx="330120" cy="369720"/>
          </a:xfrm>
        </p:grpSpPr>
        <p:pic>
          <p:nvPicPr>
            <p:cNvPr id="336" name="j0239323" descr=""/>
            <p:cNvPicPr/>
            <p:nvPr/>
          </p:nvPicPr>
          <p:blipFill>
            <a:blip r:embed="rId29"/>
            <a:stretch/>
          </p:blipFill>
          <p:spPr>
            <a:xfrm>
              <a:off x="3067200" y="3881520"/>
              <a:ext cx="330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officialpenguin" descr="Linux Penguin"/>
            <p:cNvPicPr/>
            <p:nvPr/>
          </p:nvPicPr>
          <p:blipFill>
            <a:blip r:embed="rId30"/>
            <a:stretch/>
          </p:blipFill>
          <p:spPr>
            <a:xfrm>
              <a:off x="3175200" y="3917160"/>
              <a:ext cx="61560" cy="10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3538440" y="3881520"/>
            <a:ext cx="330120" cy="369720"/>
            <a:chOff x="3538440" y="3881520"/>
            <a:chExt cx="330120" cy="369720"/>
          </a:xfrm>
        </p:grpSpPr>
        <p:pic>
          <p:nvPicPr>
            <p:cNvPr id="339" name="j0239323" descr=""/>
            <p:cNvPicPr/>
            <p:nvPr/>
          </p:nvPicPr>
          <p:blipFill>
            <a:blip r:embed="rId31"/>
            <a:stretch/>
          </p:blipFill>
          <p:spPr>
            <a:xfrm>
              <a:off x="3538440" y="3881520"/>
              <a:ext cx="330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officialpenguin" descr="Linux Penguin"/>
            <p:cNvPicPr/>
            <p:nvPr/>
          </p:nvPicPr>
          <p:blipFill>
            <a:blip r:embed="rId32"/>
            <a:stretch/>
          </p:blipFill>
          <p:spPr>
            <a:xfrm>
              <a:off x="3646440" y="3917160"/>
              <a:ext cx="61560" cy="10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3349800" y="4054320"/>
            <a:ext cx="23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24360" y="3576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Confer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34760" y="408132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FreeBS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600" y="4251240"/>
            <a:ext cx="2826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143680" y="4054320"/>
            <a:ext cx="463320" cy="395280"/>
            <a:chOff x="5143680" y="4054320"/>
            <a:chExt cx="463320" cy="395280"/>
          </a:xfrm>
        </p:grpSpPr>
        <p:sp>
          <p:nvSpPr>
            <p:cNvPr id="346" name=""/>
            <p:cNvSpPr/>
            <p:nvPr/>
          </p:nvSpPr>
          <p:spPr>
            <a:xfrm>
              <a:off x="5143680" y="4054320"/>
              <a:ext cx="463320" cy="395280"/>
            </a:xfrm>
            <a:custGeom>
              <a:avLst/>
              <a:gdLst/>
              <a:ahLst/>
              <a:rect l="l" t="t" r="r" b="b"/>
              <a:pathLst>
                <a:path w="1136" h="680">
                  <a:moveTo>
                    <a:pt x="167" y="504"/>
                  </a:moveTo>
                  <a:lnTo>
                    <a:pt x="179" y="531"/>
                  </a:lnTo>
                  <a:lnTo>
                    <a:pt x="195" y="556"/>
                  </a:lnTo>
                  <a:lnTo>
                    <a:pt x="210" y="579"/>
                  </a:lnTo>
                  <a:lnTo>
                    <a:pt x="228" y="600"/>
                  </a:lnTo>
                  <a:lnTo>
                    <a:pt x="248" y="619"/>
                  </a:lnTo>
                  <a:lnTo>
                    <a:pt x="269" y="635"/>
                  </a:lnTo>
                  <a:lnTo>
                    <a:pt x="291" y="650"/>
                  </a:lnTo>
                  <a:lnTo>
                    <a:pt x="314" y="661"/>
                  </a:lnTo>
                  <a:lnTo>
                    <a:pt x="337" y="670"/>
                  </a:lnTo>
                  <a:lnTo>
                    <a:pt x="361" y="676"/>
                  </a:lnTo>
                  <a:lnTo>
                    <a:pt x="385" y="679"/>
                  </a:lnTo>
                  <a:lnTo>
                    <a:pt x="410" y="680"/>
                  </a:lnTo>
                  <a:lnTo>
                    <a:pt x="434" y="677"/>
                  </a:lnTo>
                  <a:lnTo>
                    <a:pt x="459" y="672"/>
                  </a:lnTo>
                  <a:lnTo>
                    <a:pt x="482" y="664"/>
                  </a:lnTo>
                  <a:lnTo>
                    <a:pt x="505" y="653"/>
                  </a:lnTo>
                  <a:lnTo>
                    <a:pt x="527" y="640"/>
                  </a:lnTo>
                  <a:lnTo>
                    <a:pt x="548" y="624"/>
                  </a:lnTo>
                  <a:lnTo>
                    <a:pt x="568" y="605"/>
                  </a:lnTo>
                  <a:lnTo>
                    <a:pt x="588" y="624"/>
                  </a:lnTo>
                  <a:lnTo>
                    <a:pt x="609" y="640"/>
                  </a:lnTo>
                  <a:lnTo>
                    <a:pt x="631" y="653"/>
                  </a:lnTo>
                  <a:lnTo>
                    <a:pt x="654" y="664"/>
                  </a:lnTo>
                  <a:lnTo>
                    <a:pt x="677" y="672"/>
                  </a:lnTo>
                  <a:lnTo>
                    <a:pt x="702" y="677"/>
                  </a:lnTo>
                  <a:lnTo>
                    <a:pt x="726" y="680"/>
                  </a:lnTo>
                  <a:lnTo>
                    <a:pt x="750" y="679"/>
                  </a:lnTo>
                  <a:lnTo>
                    <a:pt x="775" y="676"/>
                  </a:lnTo>
                  <a:lnTo>
                    <a:pt x="799" y="670"/>
                  </a:lnTo>
                  <a:lnTo>
                    <a:pt x="822" y="661"/>
                  </a:lnTo>
                  <a:lnTo>
                    <a:pt x="845" y="650"/>
                  </a:lnTo>
                  <a:lnTo>
                    <a:pt x="867" y="635"/>
                  </a:lnTo>
                  <a:lnTo>
                    <a:pt x="887" y="619"/>
                  </a:lnTo>
                  <a:lnTo>
                    <a:pt x="907" y="600"/>
                  </a:lnTo>
                  <a:lnTo>
                    <a:pt x="925" y="579"/>
                  </a:lnTo>
                  <a:lnTo>
                    <a:pt x="942" y="556"/>
                  </a:lnTo>
                  <a:lnTo>
                    <a:pt x="956" y="531"/>
                  </a:lnTo>
                  <a:lnTo>
                    <a:pt x="969" y="504"/>
                  </a:lnTo>
                  <a:lnTo>
                    <a:pt x="985" y="509"/>
                  </a:lnTo>
                  <a:lnTo>
                    <a:pt x="1001" y="510"/>
                  </a:lnTo>
                  <a:lnTo>
                    <a:pt x="1017" y="509"/>
                  </a:lnTo>
                  <a:lnTo>
                    <a:pt x="1033" y="505"/>
                  </a:lnTo>
                  <a:lnTo>
                    <a:pt x="1049" y="499"/>
                  </a:lnTo>
                  <a:lnTo>
                    <a:pt x="1064" y="491"/>
                  </a:lnTo>
                  <a:lnTo>
                    <a:pt x="1078" y="481"/>
                  </a:lnTo>
                  <a:lnTo>
                    <a:pt x="1091" y="468"/>
                  </a:lnTo>
                  <a:lnTo>
                    <a:pt x="1103" y="453"/>
                  </a:lnTo>
                  <a:lnTo>
                    <a:pt x="1113" y="437"/>
                  </a:lnTo>
                  <a:lnTo>
                    <a:pt x="1121" y="419"/>
                  </a:lnTo>
                  <a:lnTo>
                    <a:pt x="1128" y="401"/>
                  </a:lnTo>
                  <a:lnTo>
                    <a:pt x="1132" y="381"/>
                  </a:lnTo>
                  <a:lnTo>
                    <a:pt x="1135" y="360"/>
                  </a:lnTo>
                  <a:lnTo>
                    <a:pt x="1136" y="339"/>
                  </a:lnTo>
                  <a:lnTo>
                    <a:pt x="1135" y="319"/>
                  </a:lnTo>
                  <a:lnTo>
                    <a:pt x="1132" y="299"/>
                  </a:lnTo>
                  <a:lnTo>
                    <a:pt x="1128" y="279"/>
                  </a:lnTo>
                  <a:lnTo>
                    <a:pt x="1121" y="260"/>
                  </a:lnTo>
                  <a:lnTo>
                    <a:pt x="1113" y="243"/>
                  </a:lnTo>
                  <a:lnTo>
                    <a:pt x="1103" y="226"/>
                  </a:lnTo>
                  <a:lnTo>
                    <a:pt x="1091" y="212"/>
                  </a:lnTo>
                  <a:lnTo>
                    <a:pt x="1078" y="199"/>
                  </a:lnTo>
                  <a:lnTo>
                    <a:pt x="1064" y="189"/>
                  </a:lnTo>
                  <a:lnTo>
                    <a:pt x="1049" y="180"/>
                  </a:lnTo>
                  <a:lnTo>
                    <a:pt x="1033" y="175"/>
                  </a:lnTo>
                  <a:lnTo>
                    <a:pt x="1017" y="171"/>
                  </a:lnTo>
                  <a:lnTo>
                    <a:pt x="1001" y="170"/>
                  </a:lnTo>
                  <a:lnTo>
                    <a:pt x="985" y="171"/>
                  </a:lnTo>
                  <a:lnTo>
                    <a:pt x="969" y="175"/>
                  </a:lnTo>
                  <a:lnTo>
                    <a:pt x="956" y="149"/>
                  </a:lnTo>
                  <a:lnTo>
                    <a:pt x="942" y="123"/>
                  </a:lnTo>
                  <a:lnTo>
                    <a:pt x="925" y="100"/>
                  </a:lnTo>
                  <a:lnTo>
                    <a:pt x="907" y="80"/>
                  </a:lnTo>
                  <a:lnTo>
                    <a:pt x="887" y="61"/>
                  </a:lnTo>
                  <a:lnTo>
                    <a:pt x="867" y="44"/>
                  </a:lnTo>
                  <a:lnTo>
                    <a:pt x="845" y="30"/>
                  </a:lnTo>
                  <a:lnTo>
                    <a:pt x="822" y="18"/>
                  </a:lnTo>
                  <a:lnTo>
                    <a:pt x="799" y="10"/>
                  </a:lnTo>
                  <a:lnTo>
                    <a:pt x="775" y="3"/>
                  </a:lnTo>
                  <a:lnTo>
                    <a:pt x="750" y="0"/>
                  </a:lnTo>
                  <a:lnTo>
                    <a:pt x="726" y="0"/>
                  </a:lnTo>
                  <a:lnTo>
                    <a:pt x="702" y="3"/>
                  </a:lnTo>
                  <a:lnTo>
                    <a:pt x="677" y="8"/>
                  </a:lnTo>
                  <a:lnTo>
                    <a:pt x="654" y="16"/>
                  </a:lnTo>
                  <a:lnTo>
                    <a:pt x="631" y="26"/>
                  </a:lnTo>
                  <a:lnTo>
                    <a:pt x="609" y="40"/>
                  </a:lnTo>
                  <a:lnTo>
                    <a:pt x="588" y="56"/>
                  </a:lnTo>
                  <a:lnTo>
                    <a:pt x="568" y="75"/>
                  </a:lnTo>
                  <a:lnTo>
                    <a:pt x="548" y="56"/>
                  </a:lnTo>
                  <a:lnTo>
                    <a:pt x="527" y="40"/>
                  </a:lnTo>
                  <a:lnTo>
                    <a:pt x="505" y="26"/>
                  </a:lnTo>
                  <a:lnTo>
                    <a:pt x="482" y="16"/>
                  </a:lnTo>
                  <a:lnTo>
                    <a:pt x="459" y="8"/>
                  </a:lnTo>
                  <a:lnTo>
                    <a:pt x="434" y="3"/>
                  </a:lnTo>
                  <a:lnTo>
                    <a:pt x="410" y="0"/>
                  </a:lnTo>
                  <a:lnTo>
                    <a:pt x="385" y="0"/>
                  </a:lnTo>
                  <a:lnTo>
                    <a:pt x="361" y="3"/>
                  </a:lnTo>
                  <a:lnTo>
                    <a:pt x="337" y="10"/>
                  </a:lnTo>
                  <a:lnTo>
                    <a:pt x="314" y="18"/>
                  </a:lnTo>
                  <a:lnTo>
                    <a:pt x="291" y="30"/>
                  </a:lnTo>
                  <a:lnTo>
                    <a:pt x="269" y="44"/>
                  </a:lnTo>
                  <a:lnTo>
                    <a:pt x="248" y="61"/>
                  </a:lnTo>
                  <a:lnTo>
                    <a:pt x="228" y="80"/>
                  </a:lnTo>
                  <a:lnTo>
                    <a:pt x="210" y="100"/>
                  </a:lnTo>
                  <a:lnTo>
                    <a:pt x="195" y="123"/>
                  </a:lnTo>
                  <a:lnTo>
                    <a:pt x="179" y="149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5" y="170"/>
                  </a:lnTo>
                  <a:lnTo>
                    <a:pt x="119" y="171"/>
                  </a:lnTo>
                  <a:lnTo>
                    <a:pt x="102" y="175"/>
                  </a:lnTo>
                  <a:lnTo>
                    <a:pt x="87" y="180"/>
                  </a:lnTo>
                  <a:lnTo>
                    <a:pt x="72" y="189"/>
                  </a:lnTo>
                  <a:lnTo>
                    <a:pt x="58" y="199"/>
                  </a:lnTo>
                  <a:lnTo>
                    <a:pt x="45" y="212"/>
                  </a:lnTo>
                  <a:lnTo>
                    <a:pt x="34" y="226"/>
                  </a:lnTo>
                  <a:lnTo>
                    <a:pt x="24" y="243"/>
                  </a:lnTo>
                  <a:lnTo>
                    <a:pt x="15" y="260"/>
                  </a:lnTo>
                  <a:lnTo>
                    <a:pt x="8" y="279"/>
                  </a:lnTo>
                  <a:lnTo>
                    <a:pt x="3" y="299"/>
                  </a:lnTo>
                  <a:lnTo>
                    <a:pt x="0" y="319"/>
                  </a:lnTo>
                  <a:lnTo>
                    <a:pt x="0" y="339"/>
                  </a:lnTo>
                  <a:lnTo>
                    <a:pt x="0" y="360"/>
                  </a:lnTo>
                  <a:lnTo>
                    <a:pt x="3" y="381"/>
                  </a:lnTo>
                  <a:lnTo>
                    <a:pt x="8" y="401"/>
                  </a:lnTo>
                  <a:lnTo>
                    <a:pt x="15" y="419"/>
                  </a:lnTo>
                  <a:lnTo>
                    <a:pt x="24" y="437"/>
                  </a:lnTo>
                  <a:lnTo>
                    <a:pt x="34" y="453"/>
                  </a:lnTo>
                  <a:lnTo>
                    <a:pt x="45" y="468"/>
                  </a:lnTo>
                  <a:lnTo>
                    <a:pt x="58" y="481"/>
                  </a:lnTo>
                  <a:lnTo>
                    <a:pt x="72" y="491"/>
                  </a:lnTo>
                  <a:lnTo>
                    <a:pt x="87" y="499"/>
                  </a:lnTo>
                  <a:lnTo>
                    <a:pt x="102" y="505"/>
                  </a:lnTo>
                  <a:lnTo>
                    <a:pt x="119" y="509"/>
                  </a:lnTo>
                  <a:lnTo>
                    <a:pt x="135" y="510"/>
                  </a:lnTo>
                  <a:lnTo>
                    <a:pt x="151" y="509"/>
                  </a:lnTo>
                  <a:lnTo>
                    <a:pt x="167" y="5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56720" y="4183560"/>
              <a:ext cx="21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Times New Roman"/>
                </a:rPr>
                <a:t>IPv4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303720" y="3262320"/>
            <a:ext cx="139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Windows 2000/XP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8160" y="3065400"/>
            <a:ext cx="1229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90640" y="3129120"/>
            <a:ext cx="0" cy="792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90640" y="3921120"/>
            <a:ext cx="13701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55920" y="2536920"/>
            <a:ext cx="0" cy="196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1240" y="4251240"/>
            <a:ext cx="139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Windows 2000/XP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4" name="j0249811" descr=""/>
          <p:cNvPicPr/>
          <p:nvPr/>
        </p:nvPicPr>
        <p:blipFill>
          <a:blip r:embed="rId33"/>
          <a:stretch/>
        </p:blipFill>
        <p:spPr>
          <a:xfrm>
            <a:off x="4724280" y="1676520"/>
            <a:ext cx="378000" cy="482400"/>
          </a:xfrm>
          <a:prstGeom prst="rect">
            <a:avLst/>
          </a:prstGeom>
          <a:ln w="0">
            <a:noFill/>
          </a:ln>
        </p:spPr>
      </p:pic>
      <p:cxnSp>
        <p:nvCxnSpPr>
          <p:cNvPr id="355" name=""/>
          <p:cNvCxnSpPr>
            <a:endCxn id="321" idx="1"/>
          </p:cNvCxnSpPr>
          <p:nvPr/>
        </p:nvCxnSpPr>
        <p:spPr>
          <a:xfrm flipH="1" rot="16200000">
            <a:off x="1001520" y="3549600"/>
            <a:ext cx="2542320" cy="1307160"/>
          </a:xfrm>
          <a:prstGeom prst="bentConnector4">
            <a:avLst>
              <a:gd name="adj1" fmla="val 49398"/>
              <a:gd name="adj2" fmla="val 57079"/>
            </a:avLst>
          </a:prstGeom>
          <a:ln w="9360">
            <a:solidFill>
              <a:srgbClr val="000099"/>
            </a:solidFill>
            <a:miter/>
          </a:ln>
        </p:spPr>
      </p:cxnSp>
      <p:graphicFrame>
        <p:nvGraphicFramePr>
          <p:cNvPr id="356" name=""/>
          <p:cNvGraphicFramePr/>
          <p:nvPr/>
        </p:nvGraphicFramePr>
        <p:xfrm>
          <a:off x="1035000" y="2932200"/>
          <a:ext cx="1168560" cy="436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035000" y="2932200"/>
                    <a:ext cx="1168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 rot="20887200">
            <a:off x="2357280" y="6234120"/>
            <a:ext cx="1346400" cy="196920"/>
          </a:xfrm>
          <a:custGeom>
            <a:avLst/>
            <a:gdLst>
              <a:gd name="textAreaLeft" fmla="*/ 235440 w 1346400"/>
              <a:gd name="textAreaRight" fmla="*/ 976320 w 1346400"/>
              <a:gd name="textAreaTop" fmla="*/ 26280 h 196920"/>
              <a:gd name="textAreaBottom" fmla="*/ 17064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2b2b2"/>
          </a:solidFill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2362320"/>
            <a:ext cx="2286000" cy="7596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13716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돋움"/>
              </a:rPr>
              <a:t>3FFE:2E01:2B::/48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Testbed(Mobile IPv6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3360" y="2209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SIS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03720" y="1976400"/>
            <a:ext cx="604800" cy="617400"/>
          </a:xfrm>
          <a:custGeom>
            <a:avLst/>
            <a:gdLst/>
            <a:ahLst/>
            <a:rect l="l" t="t" r="r" b="b"/>
            <a:pathLst>
              <a:path w="1136" h="680">
                <a:moveTo>
                  <a:pt x="167" y="504"/>
                </a:moveTo>
                <a:lnTo>
                  <a:pt x="179" y="531"/>
                </a:lnTo>
                <a:lnTo>
                  <a:pt x="195" y="556"/>
                </a:lnTo>
                <a:lnTo>
                  <a:pt x="210" y="579"/>
                </a:lnTo>
                <a:lnTo>
                  <a:pt x="228" y="600"/>
                </a:lnTo>
                <a:lnTo>
                  <a:pt x="248" y="619"/>
                </a:lnTo>
                <a:lnTo>
                  <a:pt x="269" y="635"/>
                </a:lnTo>
                <a:lnTo>
                  <a:pt x="291" y="650"/>
                </a:lnTo>
                <a:lnTo>
                  <a:pt x="314" y="661"/>
                </a:lnTo>
                <a:lnTo>
                  <a:pt x="337" y="670"/>
                </a:lnTo>
                <a:lnTo>
                  <a:pt x="361" y="676"/>
                </a:lnTo>
                <a:lnTo>
                  <a:pt x="385" y="679"/>
                </a:lnTo>
                <a:lnTo>
                  <a:pt x="410" y="680"/>
                </a:lnTo>
                <a:lnTo>
                  <a:pt x="434" y="677"/>
                </a:lnTo>
                <a:lnTo>
                  <a:pt x="459" y="672"/>
                </a:lnTo>
                <a:lnTo>
                  <a:pt x="482" y="664"/>
                </a:lnTo>
                <a:lnTo>
                  <a:pt x="505" y="653"/>
                </a:lnTo>
                <a:lnTo>
                  <a:pt x="527" y="640"/>
                </a:lnTo>
                <a:lnTo>
                  <a:pt x="548" y="624"/>
                </a:lnTo>
                <a:lnTo>
                  <a:pt x="568" y="605"/>
                </a:lnTo>
                <a:lnTo>
                  <a:pt x="588" y="624"/>
                </a:lnTo>
                <a:lnTo>
                  <a:pt x="609" y="640"/>
                </a:lnTo>
                <a:lnTo>
                  <a:pt x="631" y="653"/>
                </a:lnTo>
                <a:lnTo>
                  <a:pt x="654" y="664"/>
                </a:lnTo>
                <a:lnTo>
                  <a:pt x="677" y="672"/>
                </a:lnTo>
                <a:lnTo>
                  <a:pt x="702" y="677"/>
                </a:lnTo>
                <a:lnTo>
                  <a:pt x="726" y="680"/>
                </a:lnTo>
                <a:lnTo>
                  <a:pt x="750" y="679"/>
                </a:lnTo>
                <a:lnTo>
                  <a:pt x="775" y="676"/>
                </a:lnTo>
                <a:lnTo>
                  <a:pt x="799" y="670"/>
                </a:lnTo>
                <a:lnTo>
                  <a:pt x="822" y="661"/>
                </a:lnTo>
                <a:lnTo>
                  <a:pt x="845" y="650"/>
                </a:lnTo>
                <a:lnTo>
                  <a:pt x="867" y="635"/>
                </a:lnTo>
                <a:lnTo>
                  <a:pt x="887" y="619"/>
                </a:lnTo>
                <a:lnTo>
                  <a:pt x="907" y="600"/>
                </a:lnTo>
                <a:lnTo>
                  <a:pt x="925" y="579"/>
                </a:lnTo>
                <a:lnTo>
                  <a:pt x="942" y="556"/>
                </a:lnTo>
                <a:lnTo>
                  <a:pt x="956" y="531"/>
                </a:lnTo>
                <a:lnTo>
                  <a:pt x="969" y="504"/>
                </a:lnTo>
                <a:lnTo>
                  <a:pt x="985" y="509"/>
                </a:lnTo>
                <a:lnTo>
                  <a:pt x="1001" y="510"/>
                </a:lnTo>
                <a:lnTo>
                  <a:pt x="1017" y="509"/>
                </a:lnTo>
                <a:lnTo>
                  <a:pt x="1033" y="505"/>
                </a:lnTo>
                <a:lnTo>
                  <a:pt x="1049" y="499"/>
                </a:lnTo>
                <a:lnTo>
                  <a:pt x="1064" y="491"/>
                </a:lnTo>
                <a:lnTo>
                  <a:pt x="1078" y="481"/>
                </a:lnTo>
                <a:lnTo>
                  <a:pt x="1091" y="468"/>
                </a:lnTo>
                <a:lnTo>
                  <a:pt x="1103" y="453"/>
                </a:lnTo>
                <a:lnTo>
                  <a:pt x="1113" y="437"/>
                </a:lnTo>
                <a:lnTo>
                  <a:pt x="1121" y="419"/>
                </a:lnTo>
                <a:lnTo>
                  <a:pt x="1128" y="401"/>
                </a:lnTo>
                <a:lnTo>
                  <a:pt x="1132" y="381"/>
                </a:lnTo>
                <a:lnTo>
                  <a:pt x="1135" y="360"/>
                </a:lnTo>
                <a:lnTo>
                  <a:pt x="1136" y="339"/>
                </a:lnTo>
                <a:lnTo>
                  <a:pt x="1135" y="319"/>
                </a:lnTo>
                <a:lnTo>
                  <a:pt x="1132" y="299"/>
                </a:lnTo>
                <a:lnTo>
                  <a:pt x="1128" y="279"/>
                </a:lnTo>
                <a:lnTo>
                  <a:pt x="1121" y="260"/>
                </a:lnTo>
                <a:lnTo>
                  <a:pt x="1113" y="243"/>
                </a:lnTo>
                <a:lnTo>
                  <a:pt x="1103" y="226"/>
                </a:lnTo>
                <a:lnTo>
                  <a:pt x="1091" y="212"/>
                </a:lnTo>
                <a:lnTo>
                  <a:pt x="1078" y="199"/>
                </a:lnTo>
                <a:lnTo>
                  <a:pt x="1064" y="189"/>
                </a:lnTo>
                <a:lnTo>
                  <a:pt x="1049" y="180"/>
                </a:lnTo>
                <a:lnTo>
                  <a:pt x="1033" y="175"/>
                </a:lnTo>
                <a:lnTo>
                  <a:pt x="1017" y="171"/>
                </a:lnTo>
                <a:lnTo>
                  <a:pt x="1001" y="170"/>
                </a:lnTo>
                <a:lnTo>
                  <a:pt x="985" y="171"/>
                </a:lnTo>
                <a:lnTo>
                  <a:pt x="969" y="175"/>
                </a:lnTo>
                <a:lnTo>
                  <a:pt x="956" y="149"/>
                </a:lnTo>
                <a:lnTo>
                  <a:pt x="942" y="123"/>
                </a:lnTo>
                <a:lnTo>
                  <a:pt x="925" y="100"/>
                </a:lnTo>
                <a:lnTo>
                  <a:pt x="907" y="80"/>
                </a:lnTo>
                <a:lnTo>
                  <a:pt x="887" y="61"/>
                </a:lnTo>
                <a:lnTo>
                  <a:pt x="867" y="44"/>
                </a:lnTo>
                <a:lnTo>
                  <a:pt x="845" y="30"/>
                </a:lnTo>
                <a:lnTo>
                  <a:pt x="822" y="18"/>
                </a:lnTo>
                <a:lnTo>
                  <a:pt x="799" y="10"/>
                </a:lnTo>
                <a:lnTo>
                  <a:pt x="775" y="3"/>
                </a:lnTo>
                <a:lnTo>
                  <a:pt x="750" y="0"/>
                </a:lnTo>
                <a:lnTo>
                  <a:pt x="726" y="0"/>
                </a:lnTo>
                <a:lnTo>
                  <a:pt x="702" y="3"/>
                </a:lnTo>
                <a:lnTo>
                  <a:pt x="677" y="8"/>
                </a:lnTo>
                <a:lnTo>
                  <a:pt x="654" y="16"/>
                </a:lnTo>
                <a:lnTo>
                  <a:pt x="631" y="26"/>
                </a:lnTo>
                <a:lnTo>
                  <a:pt x="609" y="40"/>
                </a:lnTo>
                <a:lnTo>
                  <a:pt x="588" y="56"/>
                </a:lnTo>
                <a:lnTo>
                  <a:pt x="568" y="75"/>
                </a:lnTo>
                <a:lnTo>
                  <a:pt x="548" y="56"/>
                </a:lnTo>
                <a:lnTo>
                  <a:pt x="527" y="40"/>
                </a:lnTo>
                <a:lnTo>
                  <a:pt x="505" y="26"/>
                </a:lnTo>
                <a:lnTo>
                  <a:pt x="482" y="16"/>
                </a:lnTo>
                <a:lnTo>
                  <a:pt x="459" y="8"/>
                </a:lnTo>
                <a:lnTo>
                  <a:pt x="434" y="3"/>
                </a:lnTo>
                <a:lnTo>
                  <a:pt x="410" y="0"/>
                </a:lnTo>
                <a:lnTo>
                  <a:pt x="385" y="0"/>
                </a:lnTo>
                <a:lnTo>
                  <a:pt x="361" y="3"/>
                </a:lnTo>
                <a:lnTo>
                  <a:pt x="337" y="10"/>
                </a:lnTo>
                <a:lnTo>
                  <a:pt x="314" y="18"/>
                </a:lnTo>
                <a:lnTo>
                  <a:pt x="291" y="30"/>
                </a:lnTo>
                <a:lnTo>
                  <a:pt x="269" y="44"/>
                </a:lnTo>
                <a:lnTo>
                  <a:pt x="248" y="61"/>
                </a:lnTo>
                <a:lnTo>
                  <a:pt x="228" y="80"/>
                </a:lnTo>
                <a:lnTo>
                  <a:pt x="210" y="100"/>
                </a:lnTo>
                <a:lnTo>
                  <a:pt x="195" y="123"/>
                </a:lnTo>
                <a:lnTo>
                  <a:pt x="179" y="149"/>
                </a:lnTo>
                <a:lnTo>
                  <a:pt x="167" y="175"/>
                </a:lnTo>
                <a:lnTo>
                  <a:pt x="151" y="171"/>
                </a:lnTo>
                <a:lnTo>
                  <a:pt x="135" y="170"/>
                </a:lnTo>
                <a:lnTo>
                  <a:pt x="119" y="171"/>
                </a:lnTo>
                <a:lnTo>
                  <a:pt x="102" y="175"/>
                </a:lnTo>
                <a:lnTo>
                  <a:pt x="87" y="180"/>
                </a:lnTo>
                <a:lnTo>
                  <a:pt x="72" y="189"/>
                </a:lnTo>
                <a:lnTo>
                  <a:pt x="58" y="199"/>
                </a:lnTo>
                <a:lnTo>
                  <a:pt x="45" y="212"/>
                </a:lnTo>
                <a:lnTo>
                  <a:pt x="34" y="226"/>
                </a:lnTo>
                <a:lnTo>
                  <a:pt x="24" y="243"/>
                </a:lnTo>
                <a:lnTo>
                  <a:pt x="15" y="260"/>
                </a:lnTo>
                <a:lnTo>
                  <a:pt x="8" y="279"/>
                </a:lnTo>
                <a:lnTo>
                  <a:pt x="3" y="299"/>
                </a:lnTo>
                <a:lnTo>
                  <a:pt x="0" y="319"/>
                </a:lnTo>
                <a:lnTo>
                  <a:pt x="0" y="339"/>
                </a:lnTo>
                <a:lnTo>
                  <a:pt x="0" y="360"/>
                </a:lnTo>
                <a:lnTo>
                  <a:pt x="3" y="381"/>
                </a:lnTo>
                <a:lnTo>
                  <a:pt x="8" y="401"/>
                </a:lnTo>
                <a:lnTo>
                  <a:pt x="15" y="419"/>
                </a:lnTo>
                <a:lnTo>
                  <a:pt x="24" y="437"/>
                </a:lnTo>
                <a:lnTo>
                  <a:pt x="34" y="453"/>
                </a:lnTo>
                <a:lnTo>
                  <a:pt x="45" y="468"/>
                </a:lnTo>
                <a:lnTo>
                  <a:pt x="58" y="481"/>
                </a:lnTo>
                <a:lnTo>
                  <a:pt x="72" y="491"/>
                </a:lnTo>
                <a:lnTo>
                  <a:pt x="87" y="499"/>
                </a:lnTo>
                <a:lnTo>
                  <a:pt x="102" y="505"/>
                </a:lnTo>
                <a:lnTo>
                  <a:pt x="119" y="509"/>
                </a:lnTo>
                <a:lnTo>
                  <a:pt x="135" y="510"/>
                </a:lnTo>
                <a:lnTo>
                  <a:pt x="151" y="509"/>
                </a:lnTo>
                <a:lnTo>
                  <a:pt x="167" y="50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276720" y="2590920"/>
            <a:ext cx="1523880" cy="380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220032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IPv4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7200" y="2665440"/>
            <a:ext cx="801360" cy="6620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067200" y="2890800"/>
            <a:ext cx="330120" cy="371520"/>
            <a:chOff x="3067200" y="2890800"/>
            <a:chExt cx="330120" cy="371520"/>
          </a:xfrm>
        </p:grpSpPr>
        <p:pic>
          <p:nvPicPr>
            <p:cNvPr id="368" name="j0239323" descr=""/>
            <p:cNvPicPr/>
            <p:nvPr/>
          </p:nvPicPr>
          <p:blipFill>
            <a:blip r:embed="rId36"/>
            <a:stretch/>
          </p:blipFill>
          <p:spPr>
            <a:xfrm>
              <a:off x="3067200" y="2890800"/>
              <a:ext cx="3301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fficialpenguin" descr="Linux Penguin"/>
            <p:cNvPicPr/>
            <p:nvPr/>
          </p:nvPicPr>
          <p:blipFill>
            <a:blip r:embed="rId37"/>
            <a:stretch/>
          </p:blipFill>
          <p:spPr>
            <a:xfrm>
              <a:off x="3175200" y="2926800"/>
              <a:ext cx="61560" cy="10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3538440" y="2890800"/>
            <a:ext cx="330120" cy="371520"/>
            <a:chOff x="3538440" y="2890800"/>
            <a:chExt cx="330120" cy="371520"/>
          </a:xfrm>
        </p:grpSpPr>
        <p:pic>
          <p:nvPicPr>
            <p:cNvPr id="371" name="j0239323" descr=""/>
            <p:cNvPicPr/>
            <p:nvPr/>
          </p:nvPicPr>
          <p:blipFill>
            <a:blip r:embed="rId38"/>
            <a:stretch/>
          </p:blipFill>
          <p:spPr>
            <a:xfrm>
              <a:off x="3538440" y="2890800"/>
              <a:ext cx="3301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officialpenguin" descr="Linux Penguin"/>
            <p:cNvPicPr/>
            <p:nvPr/>
          </p:nvPicPr>
          <p:blipFill>
            <a:blip r:embed="rId39"/>
            <a:stretch/>
          </p:blipFill>
          <p:spPr>
            <a:xfrm>
              <a:off x="3646440" y="2926800"/>
              <a:ext cx="61560" cy="1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"/>
          <p:cNvSpPr/>
          <p:nvPr/>
        </p:nvSpPr>
        <p:spPr>
          <a:xfrm>
            <a:off x="3042000" y="2576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Confer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74" name="j0249811" descr=""/>
          <p:cNvPicPr/>
          <p:nvPr/>
        </p:nvPicPr>
        <p:blipFill>
          <a:blip r:embed="rId40"/>
          <a:stretch/>
        </p:blipFill>
        <p:spPr>
          <a:xfrm>
            <a:off x="4648320" y="2286000"/>
            <a:ext cx="3776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3520" y="1295280"/>
            <a:ext cx="8076960" cy="42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core specif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Upcoming Operational Scenarios  (Mobility, QoS, IPsec,Multicast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dentifying and testing application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Interoperability Issu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Conformance Issu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Operational Experience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Testbed Purpos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57200" y="1676520"/>
            <a:ext cx="3962520" cy="4572000"/>
          </a:xfrm>
          <a:custGeom>
            <a:avLst/>
            <a:gdLst>
              <a:gd name="textAreaLeft" fmla="*/ 619200 w 3962520"/>
              <a:gd name="textAreaRight" fmla="*/ 3265920 w 3962520"/>
              <a:gd name="textAreaTop" fmla="*/ 735120 h 4572000"/>
              <a:gd name="textAreaBottom" fmla="*/ 3836880 h 4572000"/>
            </a:gdLst>
            <a:ahLst/>
            <a:rect l="textAreaLeft" t="textAreaTop" r="textAreaRight" b="textAreaBottom"/>
            <a:pathLst>
              <a:path w="21600" h="21600">
                <a:moveTo>
                  <a:pt x="3375" y="3473"/>
                </a:moveTo>
                <a:lnTo>
                  <a:pt x="16001" y="3473"/>
                </a:lnTo>
                <a:lnTo>
                  <a:pt x="16001" y="0"/>
                </a:lnTo>
                <a:lnTo>
                  <a:pt x="21600" y="10800"/>
                </a:lnTo>
                <a:lnTo>
                  <a:pt x="16001" y="21600"/>
                </a:lnTo>
                <a:lnTo>
                  <a:pt x="16001" y="18127"/>
                </a:lnTo>
                <a:lnTo>
                  <a:pt x="3375" y="18127"/>
                </a:lnTo>
                <a:close/>
              </a:path>
              <a:path w="21600" h="21600">
                <a:moveTo>
                  <a:pt x="0" y="3473"/>
                </a:moveTo>
                <a:lnTo>
                  <a:pt x="675" y="3473"/>
                </a:lnTo>
                <a:lnTo>
                  <a:pt x="675" y="18127"/>
                </a:lnTo>
                <a:lnTo>
                  <a:pt x="0" y="18127"/>
                </a:lnTo>
                <a:close/>
              </a:path>
              <a:path w="21600" h="21600">
                <a:moveTo>
                  <a:pt x="1350" y="3473"/>
                </a:moveTo>
                <a:lnTo>
                  <a:pt x="2700" y="3473"/>
                </a:lnTo>
                <a:lnTo>
                  <a:pt x="2700" y="18127"/>
                </a:lnTo>
                <a:lnTo>
                  <a:pt x="1350" y="18127"/>
                </a:lnTo>
                <a:close/>
              </a:path>
            </a:pathLst>
          </a:custGeom>
          <a:gradFill rotWithShape="0">
            <a:gsLst>
              <a:gs pos="0">
                <a:srgbClr val="c2c274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5760" y="3029040"/>
            <a:ext cx="2363760" cy="17524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stac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2200" y="4800600"/>
            <a:ext cx="1922400" cy="76212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mbedded Linux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Pv6 basic stack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Psec Funct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3360" y="2457360"/>
            <a:ext cx="1987560" cy="60984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bility Funct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743200"/>
            <a:ext cx="4191120" cy="2438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usable IPv6 embedded stack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on Platfor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IOP at ETSI/TAHI test ev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S Independent Stac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ake a Best Functionality &amp; Usability &amp; Extensibility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Security, Mobility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,(Qo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articipate to the IPv6 Test Event (Interoperability, Conformance etc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iz. Opportunity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7000" y="3036960"/>
            <a:ext cx="4754520" cy="216828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040" y="2338560"/>
            <a:ext cx="3119400" cy="23079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3640" y="3260880"/>
            <a:ext cx="1413000" cy="111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06640" y="3260880"/>
            <a:ext cx="1411200" cy="111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7840" y="3260880"/>
            <a:ext cx="1411200" cy="111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1360" y="25455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rget Boar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33480" y="4548240"/>
            <a:ext cx="3542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mbedded Linux on Platfor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ith OS independent Architectur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5160" y="1917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.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5160" y="52729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.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121200"/>
            <a:ext cx="8840880" cy="1468440"/>
          </a:xfrm>
          <a:prstGeom prst="roundRect">
            <a:avLst>
              <a:gd name="adj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26080" y="3440160"/>
            <a:ext cx="26067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mplementation to adop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specific OS on targ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86040" y="3440160"/>
            <a:ext cx="93060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Times New Roman"/>
              </a:rPr>
              <a:t>IPse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1640" y="3440160"/>
            <a:ext cx="138312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bile IPv6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4280" y="3440160"/>
            <a:ext cx="119124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Pv6 basi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5880" y="4504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ture Pla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7840" y="5415120"/>
            <a:ext cx="326880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ase platform of Produc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79720" y="1219320"/>
            <a:ext cx="327024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OP&amp;Conformance Test Ev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7560" y="2141640"/>
            <a:ext cx="326844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IZ. Opportunity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857240" y="2058120"/>
            <a:ext cx="1857600" cy="559080"/>
          </a:xfrm>
          <a:custGeom>
            <a:avLst/>
            <a:gdLst>
              <a:gd name="textAreaLeft" fmla="*/ 325080 w 1857600"/>
              <a:gd name="textAreaRight" fmla="*/ 1346760 w 1857600"/>
              <a:gd name="textAreaTop" fmla="*/ 74880 h 559080"/>
              <a:gd name="textAreaBottom" fmla="*/ 484200 h 55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 rot="16521600">
            <a:off x="7744320" y="3090240"/>
            <a:ext cx="1747800" cy="593640"/>
          </a:xfrm>
          <a:custGeom>
            <a:avLst/>
            <a:gdLst>
              <a:gd name="textAreaLeft" fmla="*/ 305640 w 1747800"/>
              <a:gd name="textAreaRight" fmla="*/ 1267200 w 1747800"/>
              <a:gd name="textAreaTop" fmla="*/ 79560 h 593640"/>
              <a:gd name="textAreaBottom" fmla="*/ 514080 h 59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 rot="2308200">
            <a:off x="2450880" y="5764680"/>
            <a:ext cx="1857240" cy="558720"/>
          </a:xfrm>
          <a:custGeom>
            <a:avLst/>
            <a:gdLst>
              <a:gd name="textAreaLeft" fmla="*/ 325080 w 1857240"/>
              <a:gd name="textAreaRight" fmla="*/ 1346760 w 1857240"/>
              <a:gd name="textAreaTop" fmla="*/ 74880 h 558720"/>
              <a:gd name="textAreaBottom" fmla="*/ 483840 h 55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1371600"/>
            <a:ext cx="8305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2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ur Features for plugtests - Embedded IPv6 Stack Func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Pv6 basic stack on PowerPC based Embedded Linu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Psec function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bility function ( Based on Internet Draft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HA / MN/ CN function implement with optimized stack    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pplication in Target System : Teln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09680" y="1952640"/>
            <a:ext cx="3429000" cy="32004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04920" y="1981080"/>
            <a:ext cx="2123640" cy="3124440"/>
            <a:chOff x="304920" y="1981080"/>
            <a:chExt cx="2123640" cy="3124440"/>
          </a:xfrm>
        </p:grpSpPr>
        <p:sp>
          <p:nvSpPr>
            <p:cNvPr id="411" name=""/>
            <p:cNvSpPr/>
            <p:nvPr/>
          </p:nvSpPr>
          <p:spPr>
            <a:xfrm>
              <a:off x="304920" y="1981080"/>
              <a:ext cx="1084320" cy="312444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9240" y="2832840"/>
              <a:ext cx="1039320" cy="12780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363680" y="1981080"/>
            <a:ext cx="2598840" cy="1490400"/>
            <a:chOff x="1363680" y="1981080"/>
            <a:chExt cx="2598840" cy="1490400"/>
          </a:xfrm>
        </p:grpSpPr>
        <p:sp>
          <p:nvSpPr>
            <p:cNvPr id="414" name=""/>
            <p:cNvSpPr/>
            <p:nvPr/>
          </p:nvSpPr>
          <p:spPr>
            <a:xfrm>
              <a:off x="1363680" y="1981080"/>
              <a:ext cx="2598840" cy="85176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97240" y="2832840"/>
              <a:ext cx="1559160" cy="63864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185840" y="4111560"/>
            <a:ext cx="2771640" cy="993960"/>
          </a:xfrm>
          <a:prstGeom prst="rect">
            <a:avLst/>
          </a:pr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97240" y="3409920"/>
            <a:ext cx="1558800" cy="1065240"/>
          </a:xfrm>
          <a:prstGeom prst="rect">
            <a:avLst/>
          </a:pr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360" y="304632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Get the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Confidence 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37480" y="235116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Strong Sale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Points !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42640" y="42973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신그래픽"/>
              </a:rPr>
              <a:t>Share Experience !!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Cloud"/>
          <p:cNvSpPr/>
          <p:nvPr/>
        </p:nvSpPr>
        <p:spPr>
          <a:xfrm>
            <a:off x="6019920" y="2371680"/>
            <a:ext cx="2743200" cy="242892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44320" y="302256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vent can b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duce developm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2514600"/>
            <a:ext cx="1676520" cy="2133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33520 h 2133720"/>
              <a:gd name="textAreaBottom" fmla="*/ 1600560 h 2133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Participate to the Plugtest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Times New Roman"/>
              </a:rPr>
              <a:t>Introduction of SAMSUNG’s IPv6</a:t>
            </a:r>
            <a:br>
              <a:rPr sz="4000"/>
            </a:br>
            <a:r>
              <a:rPr b="1" lang="ko-KR" sz="4000" spc="-1" strike="noStrike">
                <a:solidFill>
                  <a:srgbClr val="ff0000"/>
                </a:solidFill>
                <a:latin typeface="Times New Roman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yan K. Chang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schang@samsung.com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amsung Advanced Institute of Technology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191120" y="1752480"/>
            <a:ext cx="3124080" cy="2971800"/>
          </a:xfrm>
          <a:prstGeom prst="ellipse">
            <a:avLst/>
          </a:prstGeom>
          <a:noFill/>
          <a:ln w="633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467480" y="3505320"/>
            <a:ext cx="981360" cy="1295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04920" y="11430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견고딕"/>
              </a:rPr>
              <a:t>Ad-Hoc Network Tiny Chip-set Develop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533520" cy="45720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5378400" y="1295280"/>
            <a:ext cx="992160" cy="866880"/>
            <a:chOff x="5378400" y="1295280"/>
            <a:chExt cx="992160" cy="866880"/>
          </a:xfrm>
        </p:grpSpPr>
        <p:pic>
          <p:nvPicPr>
            <p:cNvPr id="433" name="dell-PC" descr=""/>
            <p:cNvPicPr/>
            <p:nvPr/>
          </p:nvPicPr>
          <p:blipFill>
            <a:blip r:embed="rId5"/>
            <a:stretch/>
          </p:blipFill>
          <p:spPr>
            <a:xfrm>
              <a:off x="5384160" y="1295280"/>
              <a:ext cx="986400" cy="8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5378400" y="1357920"/>
              <a:ext cx="992160" cy="164520"/>
              <a:chOff x="5378400" y="1357920"/>
              <a:chExt cx="992160" cy="164520"/>
            </a:xfrm>
          </p:grpSpPr>
          <p:sp>
            <p:nvSpPr>
              <p:cNvPr id="435" name=""/>
              <p:cNvSpPr/>
              <p:nvPr/>
            </p:nvSpPr>
            <p:spPr>
              <a:xfrm>
                <a:off x="5378400" y="1364760"/>
                <a:ext cx="140760" cy="13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19160" y="1357920"/>
                <a:ext cx="21600" cy="1548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88680" y="1360800"/>
                <a:ext cx="28188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86240" y="1411200"/>
                <a:ext cx="184320" cy="10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6164640" y="1433880"/>
                <a:ext cx="21600" cy="885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6934320" y="3733920"/>
            <a:ext cx="5284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4343400" y="4114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2" name="wint2930" descr=""/>
          <p:cNvPicPr/>
          <p:nvPr/>
        </p:nvPicPr>
        <p:blipFill>
          <a:blip r:embed="rId8"/>
          <a:stretch/>
        </p:blipFill>
        <p:spPr>
          <a:xfrm>
            <a:off x="5562720" y="44197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443" name="PC001" descr=""/>
          <p:cNvPicPr/>
          <p:nvPr/>
        </p:nvPicPr>
        <p:blipFill>
          <a:blip r:embed="rId9"/>
          <a:stretch/>
        </p:blipFill>
        <p:spPr>
          <a:xfrm>
            <a:off x="3809880" y="2836800"/>
            <a:ext cx="577800" cy="592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0"/>
          <a:stretch/>
        </p:blipFill>
        <p:spPr>
          <a:xfrm>
            <a:off x="6629400" y="1676520"/>
            <a:ext cx="6112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361840" y="1988280"/>
            <a:ext cx="787320" cy="938520"/>
            <a:chOff x="5361840" y="1988280"/>
            <a:chExt cx="787320" cy="938520"/>
          </a:xfrm>
        </p:grpSpPr>
        <p:sp>
          <p:nvSpPr>
            <p:cNvPr id="446" name=""/>
            <p:cNvSpPr/>
            <p:nvPr/>
          </p:nvSpPr>
          <p:spPr>
            <a:xfrm flipH="1" rot="9549600">
              <a:off x="5491080" y="208440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rot="9549600">
              <a:off x="5486040" y="2057760"/>
              <a:ext cx="538200" cy="79920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07720" y="2148120"/>
            <a:ext cx="948240" cy="813960"/>
            <a:chOff x="4707720" y="2148120"/>
            <a:chExt cx="948240" cy="813960"/>
          </a:xfrm>
        </p:grpSpPr>
        <p:sp>
          <p:nvSpPr>
            <p:cNvPr id="449" name=""/>
            <p:cNvSpPr/>
            <p:nvPr/>
          </p:nvSpPr>
          <p:spPr>
            <a:xfrm flipH="1" rot="6822600">
              <a:off x="4926600" y="217728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rot="6822600">
              <a:off x="4912560" y="2155320"/>
              <a:ext cx="538200" cy="79920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991840" y="2149200"/>
            <a:ext cx="745560" cy="920880"/>
            <a:chOff x="5991840" y="2149200"/>
            <a:chExt cx="745560" cy="920880"/>
          </a:xfrm>
        </p:grpSpPr>
        <p:sp>
          <p:nvSpPr>
            <p:cNvPr id="452" name=""/>
            <p:cNvSpPr/>
            <p:nvPr/>
          </p:nvSpPr>
          <p:spPr>
            <a:xfrm flipH="1" rot="1002000">
              <a:off x="6107040" y="2211480"/>
              <a:ext cx="530280" cy="77364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rot="1002000">
              <a:off x="6094800" y="2209680"/>
              <a:ext cx="538200" cy="79992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48120" y="3541680"/>
            <a:ext cx="664920" cy="878400"/>
            <a:chOff x="4848120" y="3541680"/>
            <a:chExt cx="664920" cy="878400"/>
          </a:xfrm>
        </p:grpSpPr>
        <p:sp>
          <p:nvSpPr>
            <p:cNvPr id="455" name=""/>
            <p:cNvSpPr/>
            <p:nvPr/>
          </p:nvSpPr>
          <p:spPr>
            <a:xfrm flipH="1" rot="580800">
              <a:off x="4921200" y="3581640"/>
              <a:ext cx="530280" cy="77400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rot="580800">
              <a:off x="4910760" y="3580920"/>
              <a:ext cx="538200" cy="7995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490280" y="2715480"/>
            <a:ext cx="963720" cy="888120"/>
            <a:chOff x="4490280" y="2715480"/>
            <a:chExt cx="963720" cy="888120"/>
          </a:xfrm>
        </p:grpSpPr>
        <p:sp>
          <p:nvSpPr>
            <p:cNvPr id="458" name=""/>
            <p:cNvSpPr/>
            <p:nvPr/>
          </p:nvSpPr>
          <p:spPr>
            <a:xfrm flipH="1" rot="3405600">
              <a:off x="4719600" y="2768760"/>
              <a:ext cx="530280" cy="77400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rot="3405600">
              <a:off x="4702680" y="2759760"/>
              <a:ext cx="537840" cy="7995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167160" y="2715480"/>
            <a:ext cx="963360" cy="887760"/>
            <a:chOff x="6167160" y="2715480"/>
            <a:chExt cx="963360" cy="887760"/>
          </a:xfrm>
        </p:grpSpPr>
        <p:sp>
          <p:nvSpPr>
            <p:cNvPr id="461" name=""/>
            <p:cNvSpPr/>
            <p:nvPr/>
          </p:nvSpPr>
          <p:spPr>
            <a:xfrm flipH="1" rot="3405600">
              <a:off x="6396480" y="276876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rot="3405600">
              <a:off x="6379560" y="2759760"/>
              <a:ext cx="537840" cy="79920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45640" y="3422880"/>
            <a:ext cx="806760" cy="550080"/>
            <a:chOff x="6245640" y="3422880"/>
            <a:chExt cx="806760" cy="550080"/>
          </a:xfrm>
        </p:grpSpPr>
        <p:sp>
          <p:nvSpPr>
            <p:cNvPr id="464" name=""/>
            <p:cNvSpPr/>
            <p:nvPr/>
          </p:nvSpPr>
          <p:spPr>
            <a:xfrm flipH="1" rot="5451600">
              <a:off x="6396480" y="331524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51600">
              <a:off x="6379200" y="3298320"/>
              <a:ext cx="538200" cy="79884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525640" y="3576960"/>
            <a:ext cx="917280" cy="961200"/>
            <a:chOff x="5525640" y="3576960"/>
            <a:chExt cx="917280" cy="961200"/>
          </a:xfrm>
        </p:grpSpPr>
        <p:sp>
          <p:nvSpPr>
            <p:cNvPr id="467" name=""/>
            <p:cNvSpPr/>
            <p:nvPr/>
          </p:nvSpPr>
          <p:spPr>
            <a:xfrm flipH="1" rot="8507400">
              <a:off x="5722920" y="3683160"/>
              <a:ext cx="530280" cy="77364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8507400">
              <a:off x="5715360" y="3657600"/>
              <a:ext cx="538200" cy="7995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89560" y="2882880"/>
            <a:ext cx="727200" cy="72396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03920" y="2400480"/>
            <a:ext cx="1698480" cy="168876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17720"/>
            <a:ext cx="2666880" cy="265428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2362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ireles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3581280"/>
            <a:ext cx="3809880" cy="2667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Peer-to-Peer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Low Cost &amp; Simple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Fast Network Setup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dependen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fast adapt to mobile device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0800000">
            <a:off x="1447560" y="2057400"/>
            <a:ext cx="2514600" cy="1295280"/>
          </a:xfrm>
          <a:custGeom>
            <a:avLst/>
            <a:gdLst>
              <a:gd name="textAreaLeft" fmla="*/ 1077480 w 2514600"/>
              <a:gd name="textAreaRight" fmla="*/ 2166840 w 2514600"/>
              <a:gd name="textAreaTop" fmla="*/ 739440 h 1295280"/>
              <a:gd name="textAreaBottom" fmla="*/ 111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318"/>
                </a:moveTo>
                <a:lnTo>
                  <a:pt x="12329" y="15318"/>
                </a:lnTo>
                <a:lnTo>
                  <a:pt x="12329" y="9257"/>
                </a:lnTo>
                <a:lnTo>
                  <a:pt x="9340" y="9257"/>
                </a:lnTo>
                <a:lnTo>
                  <a:pt x="15470" y="0"/>
                </a:lnTo>
                <a:lnTo>
                  <a:pt x="21600" y="9257"/>
                </a:lnTo>
                <a:lnTo>
                  <a:pt x="18611" y="9257"/>
                </a:lnTo>
                <a:lnTo>
                  <a:pt x="1861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0" y="203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Featur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2895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휴먼매직체"/>
              </a:rPr>
              <a:t>Ad–Hoc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휴먼매직체"/>
              </a:rPr>
              <a:t>Networ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86280" y="227880"/>
            <a:ext cx="34290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-hoc Tiny Chips develop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uro6IX Particip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9" name="capture5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686800" cy="4062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47640" y="9144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 IPv6 over xDSL,  Mobile Service Environ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1447920"/>
            <a:ext cx="548640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옛체"/>
              </a:rPr>
              <a:t>Our action pla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icipate in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P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Network Implementation 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velopment featu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DSL(ADSL) + WLA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ke available an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Pv6 xDSL access technology.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 at least one central IX node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esee the technical evolution and future   usability of the Euro6IX network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53000" y="2733840"/>
            <a:ext cx="1676520" cy="914400"/>
          </a:xfrm>
          <a:prstGeom prst="wedgeEllipseCallout">
            <a:avLst>
              <a:gd name="adj1" fmla="val -84467"/>
              <a:gd name="adj2" fmla="val -79342"/>
            </a:avLst>
          </a:prstGeom>
          <a:noFill/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59680" y="685800"/>
            <a:ext cx="2209680" cy="34290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32040" y="762120"/>
            <a:ext cx="3132000" cy="281916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5" name="CPU" descr=""/>
          <p:cNvPicPr/>
          <p:nvPr/>
        </p:nvPicPr>
        <p:blipFill>
          <a:blip r:embed="rId1"/>
          <a:stretch/>
        </p:blipFill>
        <p:spPr>
          <a:xfrm>
            <a:off x="2819520" y="2882880"/>
            <a:ext cx="174600" cy="28116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2687760" y="3014640"/>
            <a:ext cx="198360" cy="185760"/>
            <a:chOff x="2687760" y="3014640"/>
            <a:chExt cx="198360" cy="185760"/>
          </a:xfrm>
        </p:grpSpPr>
        <p:grpSp>
          <p:nvGrpSpPr>
            <p:cNvPr id="487" name=""/>
            <p:cNvGrpSpPr/>
            <p:nvPr/>
          </p:nvGrpSpPr>
          <p:grpSpPr>
            <a:xfrm>
              <a:off x="2687760" y="3014640"/>
              <a:ext cx="198360" cy="185760"/>
              <a:chOff x="2687760" y="3014640"/>
              <a:chExt cx="198360" cy="185760"/>
            </a:xfrm>
          </p:grpSpPr>
          <p:sp>
            <p:nvSpPr>
              <p:cNvPr id="488" name=""/>
              <p:cNvSpPr/>
              <p:nvPr/>
            </p:nvSpPr>
            <p:spPr>
              <a:xfrm>
                <a:off x="2755800" y="313956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83880" y="3144240"/>
                <a:ext cx="33840" cy="1116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28160" y="3138480"/>
                <a:ext cx="30600" cy="288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55800" y="3161160"/>
                <a:ext cx="72360" cy="9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83880" y="3140640"/>
                <a:ext cx="48600" cy="1476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9840" y="3173400"/>
                <a:ext cx="19440" cy="2628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69920" y="3014640"/>
                <a:ext cx="16200" cy="12708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28440" y="3015000"/>
                <a:ext cx="156960" cy="1476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88120" y="3190320"/>
                <a:ext cx="172080" cy="1008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87760" y="3173400"/>
                <a:ext cx="191520" cy="1728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2698200" y="3175920"/>
                <a:ext cx="168120" cy="11520"/>
                <a:chOff x="2698200" y="3175920"/>
                <a:chExt cx="168120" cy="115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710440" y="3175920"/>
                  <a:ext cx="15588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706840" y="3179520"/>
                  <a:ext cx="15588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702880" y="3183840"/>
                  <a:ext cx="1566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698200" y="3187440"/>
                  <a:ext cx="1562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2728440" y="3029400"/>
                <a:ext cx="141480" cy="1116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42840" y="3043440"/>
                <a:ext cx="112320" cy="8136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42840" y="3043440"/>
                <a:ext cx="112320" cy="8136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2746440" y="3048120"/>
              <a:ext cx="104040" cy="7200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acac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6280" bIns="2628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752560" y="2043000"/>
            <a:ext cx="153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144520" y="2200320"/>
            <a:ext cx="45396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78040" y="22860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06840" y="1447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83160" y="1981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78040" y="3200400"/>
            <a:ext cx="459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굴림체"/>
                <a:ea typeface="바탕"/>
              </a:rPr>
              <a:t>EMS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98640" y="2060640"/>
            <a:ext cx="919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굴림체"/>
                <a:ea typeface="바탕"/>
              </a:rPr>
              <a:t>STM-1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578200" y="1382760"/>
            <a:ext cx="572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603400" y="1382760"/>
            <a:ext cx="572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573880" y="1949400"/>
            <a:ext cx="568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598720" y="1949400"/>
            <a:ext cx="57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5000" y="2270160"/>
            <a:ext cx="6256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굴림체"/>
                <a:ea typeface="바탕"/>
              </a:rPr>
              <a:t>Router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97360" y="2666880"/>
            <a:ext cx="919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굴림체"/>
                <a:ea typeface="굴림체"/>
              </a:rPr>
              <a:t>Central Office</a:t>
            </a:r>
            <a:endParaRPr b="0" lang="en-US" sz="11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679920" y="228276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rcRect l="12937" t="0" r="20369" b="26457"/>
          <a:stretch/>
        </p:blipFill>
        <p:spPr>
          <a:xfrm>
            <a:off x="3544920" y="2563920"/>
            <a:ext cx="255600" cy="266760"/>
          </a:xfrm>
          <a:prstGeom prst="rect">
            <a:avLst/>
          </a:prstGeom>
          <a:ln w="0">
            <a:noFill/>
          </a:ln>
        </p:spPr>
      </p:pic>
      <p:pic>
        <p:nvPicPr>
          <p:cNvPr id="522" name="VMSicon" descr=""/>
          <p:cNvPicPr/>
          <p:nvPr/>
        </p:nvPicPr>
        <p:blipFill>
          <a:blip r:embed="rId3"/>
          <a:stretch/>
        </p:blipFill>
        <p:spPr>
          <a:xfrm>
            <a:off x="4076640" y="1746360"/>
            <a:ext cx="513000" cy="685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3" name="VMSicon" descr=""/>
          <p:cNvPicPr/>
          <p:nvPr/>
        </p:nvPicPr>
        <p:blipFill>
          <a:blip r:embed="rId4"/>
          <a:stretch/>
        </p:blipFill>
        <p:spPr>
          <a:xfrm>
            <a:off x="3873600" y="1609560"/>
            <a:ext cx="512640" cy="825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4" name="VMSicon" descr=""/>
          <p:cNvPicPr/>
          <p:nvPr/>
        </p:nvPicPr>
        <p:blipFill>
          <a:blip r:embed="rId5"/>
          <a:stretch/>
        </p:blipFill>
        <p:spPr>
          <a:xfrm>
            <a:off x="3670200" y="1476360"/>
            <a:ext cx="513000" cy="96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6946920" y="146700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005600" y="1255320"/>
            <a:ext cx="18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05600" y="1255680"/>
            <a:ext cx="62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7058160" y="1398600"/>
            <a:ext cx="261720" cy="122400"/>
          </a:xfrm>
          <a:prstGeom prst="rect">
            <a:avLst/>
          </a:prstGeom>
          <a:ln w="0">
            <a:noFill/>
          </a:ln>
        </p:spPr>
      </p:pic>
      <p:pic>
        <p:nvPicPr>
          <p:cNvPr id="529" name="pc_bw" descr=""/>
          <p:cNvPicPr/>
          <p:nvPr/>
        </p:nvPicPr>
        <p:blipFill>
          <a:blip r:embed="rId7"/>
          <a:stretch/>
        </p:blipFill>
        <p:spPr>
          <a:xfrm>
            <a:off x="7481880" y="1392120"/>
            <a:ext cx="216000" cy="196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265880" y="12304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69160" y="1515960"/>
            <a:ext cx="6127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S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08880" y="120024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40560" y="124632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2864400">
            <a:off x="7435440" y="1238040"/>
            <a:ext cx="104760" cy="5724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15360" y="1203480"/>
            <a:ext cx="106200" cy="5220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39120" y="124452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51720" y="126216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69360" y="125892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88080" y="1254240"/>
            <a:ext cx="1620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558200" y="1274760"/>
            <a:ext cx="17280" cy="1116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75480" y="1271520"/>
            <a:ext cx="1584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94560" y="1266840"/>
            <a:ext cx="15840" cy="1260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62880" y="1287360"/>
            <a:ext cx="17280" cy="1296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580160" y="1285920"/>
            <a:ext cx="1620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599240" y="1281240"/>
            <a:ext cx="1584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69360" y="1301760"/>
            <a:ext cx="17280" cy="1260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86640" y="1298520"/>
            <a:ext cx="176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05720" y="1293840"/>
            <a:ext cx="15840" cy="1260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524720" y="1260360"/>
            <a:ext cx="34920" cy="10980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07440" y="1270080"/>
            <a:ext cx="42840" cy="9828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08960" y="1235160"/>
            <a:ext cx="55440" cy="11880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61440" y="1355760"/>
            <a:ext cx="9504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59640" y="1330200"/>
            <a:ext cx="96840" cy="1296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481160" y="1148400"/>
            <a:ext cx="172080" cy="153360"/>
            <a:chOff x="7481160" y="1148400"/>
            <a:chExt cx="172080" cy="153360"/>
          </a:xfrm>
        </p:grpSpPr>
        <p:sp>
          <p:nvSpPr>
            <p:cNvPr id="555" name=""/>
            <p:cNvSpPr/>
            <p:nvPr/>
          </p:nvSpPr>
          <p:spPr>
            <a:xfrm rot="6550800">
              <a:off x="7510680" y="1153440"/>
              <a:ext cx="112680" cy="14292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6550800">
              <a:off x="7513920" y="1162080"/>
              <a:ext cx="100440" cy="12492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1447920" y="2666880"/>
            <a:ext cx="706320" cy="4730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9"/>
          <a:stretch/>
        </p:blipFill>
        <p:spPr>
          <a:xfrm>
            <a:off x="2362320" y="1674720"/>
            <a:ext cx="463320" cy="6336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921360" y="1962000"/>
            <a:ext cx="61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981840" y="1750680"/>
            <a:ext cx="14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81840" y="1751040"/>
            <a:ext cx="62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0"/>
          <a:stretch/>
        </p:blipFill>
        <p:spPr>
          <a:xfrm>
            <a:off x="7034040" y="1892160"/>
            <a:ext cx="262080" cy="123840"/>
          </a:xfrm>
          <a:prstGeom prst="rect">
            <a:avLst/>
          </a:prstGeom>
          <a:ln w="0">
            <a:noFill/>
          </a:ln>
        </p:spPr>
      </p:pic>
      <p:pic>
        <p:nvPicPr>
          <p:cNvPr id="563" name="pc_bw" descr=""/>
          <p:cNvPicPr/>
          <p:nvPr/>
        </p:nvPicPr>
        <p:blipFill>
          <a:blip r:embed="rId11"/>
          <a:stretch/>
        </p:blipFill>
        <p:spPr>
          <a:xfrm>
            <a:off x="7458120" y="1887480"/>
            <a:ext cx="216000" cy="1954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242120" y="17254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45400" y="2009880"/>
            <a:ext cx="612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A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50200" y="170820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81880" y="175428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864400">
            <a:off x="7378560" y="1746360"/>
            <a:ext cx="104760" cy="5688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8120" y="1711440"/>
            <a:ext cx="104760" cy="5220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80440" y="175248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94480" y="177012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12120" y="176688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31200" y="1762200"/>
            <a:ext cx="1404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500960" y="1782720"/>
            <a:ext cx="15840" cy="1116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18240" y="1779480"/>
            <a:ext cx="1620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35880" y="1774800"/>
            <a:ext cx="15840" cy="1260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05640" y="1795320"/>
            <a:ext cx="15840" cy="1296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23280" y="1793880"/>
            <a:ext cx="1584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42360" y="1789200"/>
            <a:ext cx="1404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12120" y="1809720"/>
            <a:ext cx="15840" cy="1260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29400" y="1806480"/>
            <a:ext cx="158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7040" y="1801800"/>
            <a:ext cx="15840" cy="1260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1768320"/>
            <a:ext cx="33480" cy="10980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48400" y="1778040"/>
            <a:ext cx="42840" cy="9828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551720" y="1743120"/>
            <a:ext cx="54000" cy="11916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02400" y="1863720"/>
            <a:ext cx="9540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02400" y="1838160"/>
            <a:ext cx="95400" cy="1296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422840" y="1656360"/>
            <a:ext cx="171720" cy="153360"/>
            <a:chOff x="7422840" y="1656360"/>
            <a:chExt cx="171720" cy="153360"/>
          </a:xfrm>
        </p:grpSpPr>
        <p:sp>
          <p:nvSpPr>
            <p:cNvPr id="589" name=""/>
            <p:cNvSpPr/>
            <p:nvPr/>
          </p:nvSpPr>
          <p:spPr>
            <a:xfrm rot="6550800">
              <a:off x="7452360" y="1661400"/>
              <a:ext cx="112680" cy="14256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6550800">
              <a:off x="7455600" y="1670040"/>
              <a:ext cx="100440" cy="12456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12"/>
          <a:stretch/>
        </p:blipFill>
        <p:spPr>
          <a:xfrm>
            <a:off x="6829560" y="2549520"/>
            <a:ext cx="261720" cy="1238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640560" y="2666880"/>
            <a:ext cx="612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A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06840" y="2438280"/>
            <a:ext cx="0" cy="2286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06840" y="2666880"/>
            <a:ext cx="22860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573880" y="2649600"/>
            <a:ext cx="568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98720" y="2649600"/>
            <a:ext cx="57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792840" y="243792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92840" y="2438280"/>
            <a:ext cx="62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53120" y="24130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61200" y="239544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92880" y="244152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2864400">
            <a:off x="7189560" y="2433600"/>
            <a:ext cx="104760" cy="5724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69120" y="2398680"/>
            <a:ext cx="104760" cy="5256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91440" y="244008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05840" y="245736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23120" y="245412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42200" y="2449440"/>
            <a:ext cx="1440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311960" y="2470320"/>
            <a:ext cx="15840" cy="1080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29600" y="2467080"/>
            <a:ext cx="1584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46880" y="2462040"/>
            <a:ext cx="15840" cy="1296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16640" y="2482920"/>
            <a:ext cx="16200" cy="1260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34280" y="2481120"/>
            <a:ext cx="1584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53360" y="2476440"/>
            <a:ext cx="1440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23120" y="2496960"/>
            <a:ext cx="15840" cy="1296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40760" y="2494080"/>
            <a:ext cx="158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58040" y="2489040"/>
            <a:ext cx="15840" cy="129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78840" y="2455920"/>
            <a:ext cx="33120" cy="10944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59760" y="2465280"/>
            <a:ext cx="42840" cy="9864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62720" y="2430360"/>
            <a:ext cx="54000" cy="11916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13760" y="2550960"/>
            <a:ext cx="9504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3760" y="2525760"/>
            <a:ext cx="95040" cy="1260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233480" y="2343600"/>
            <a:ext cx="172080" cy="153360"/>
            <a:chOff x="7233480" y="2343600"/>
            <a:chExt cx="172080" cy="153360"/>
          </a:xfrm>
        </p:grpSpPr>
        <p:sp>
          <p:nvSpPr>
            <p:cNvPr id="623" name=""/>
            <p:cNvSpPr/>
            <p:nvPr/>
          </p:nvSpPr>
          <p:spPr>
            <a:xfrm rot="6550800">
              <a:off x="7263000" y="2348640"/>
              <a:ext cx="112680" cy="14292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6550800">
              <a:off x="7266240" y="2357280"/>
              <a:ext cx="100440" cy="12492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 flipH="1" rot="5451600">
            <a:off x="7212600" y="2633400"/>
            <a:ext cx="150840" cy="220680"/>
          </a:xfrm>
          <a:custGeom>
            <a:avLst/>
            <a:gdLst/>
            <a:ahLst/>
            <a:rect l="l" t="t" r="r" b="b"/>
            <a:pathLst>
              <a:path w="409" h="176">
                <a:moveTo>
                  <a:pt x="0" y="0"/>
                </a:moveTo>
                <a:lnTo>
                  <a:pt x="231" y="124"/>
                </a:lnTo>
                <a:lnTo>
                  <a:pt x="206" y="79"/>
                </a:lnTo>
                <a:lnTo>
                  <a:pt x="408" y="175"/>
                </a:lnTo>
                <a:lnTo>
                  <a:pt x="166" y="46"/>
                </a:lnTo>
                <a:lnTo>
                  <a:pt x="187" y="87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rot="5451600">
            <a:off x="7211160" y="2629080"/>
            <a:ext cx="152640" cy="228600"/>
          </a:xfrm>
          <a:custGeom>
            <a:avLst/>
            <a:gdLst/>
            <a:ahLst/>
            <a:rect l="l" t="t" r="r" b="b"/>
            <a:pathLst>
              <a:path w="415" h="182">
                <a:moveTo>
                  <a:pt x="0" y="0"/>
                </a:moveTo>
                <a:lnTo>
                  <a:pt x="234" y="128"/>
                </a:lnTo>
                <a:lnTo>
                  <a:pt x="209" y="82"/>
                </a:lnTo>
                <a:lnTo>
                  <a:pt x="414" y="181"/>
                </a:lnTo>
                <a:lnTo>
                  <a:pt x="168" y="48"/>
                </a:lnTo>
                <a:lnTo>
                  <a:pt x="190" y="90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3"/>
          <a:stretch/>
        </p:blipFill>
        <p:spPr>
          <a:xfrm>
            <a:off x="747864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6640560" y="3505320"/>
            <a:ext cx="612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A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21360" y="3427560"/>
            <a:ext cx="61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0" name="pc_bw" descr=""/>
          <p:cNvPicPr/>
          <p:nvPr/>
        </p:nvPicPr>
        <p:blipFill>
          <a:blip r:embed="rId14"/>
          <a:stretch/>
        </p:blipFill>
        <p:spPr>
          <a:xfrm>
            <a:off x="7458120" y="3352680"/>
            <a:ext cx="216000" cy="1954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>
            <a:off x="6829560" y="3352680"/>
            <a:ext cx="261720" cy="123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 flipH="1" rot="5451600">
            <a:off x="7212600" y="3623760"/>
            <a:ext cx="150840" cy="220680"/>
          </a:xfrm>
          <a:custGeom>
            <a:avLst/>
            <a:gdLst/>
            <a:ahLst/>
            <a:rect l="l" t="t" r="r" b="b"/>
            <a:pathLst>
              <a:path w="409" h="176">
                <a:moveTo>
                  <a:pt x="0" y="0"/>
                </a:moveTo>
                <a:lnTo>
                  <a:pt x="231" y="124"/>
                </a:lnTo>
                <a:lnTo>
                  <a:pt x="206" y="79"/>
                </a:lnTo>
                <a:lnTo>
                  <a:pt x="408" y="175"/>
                </a:lnTo>
                <a:lnTo>
                  <a:pt x="166" y="46"/>
                </a:lnTo>
                <a:lnTo>
                  <a:pt x="187" y="87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51600">
            <a:off x="7211160" y="3619080"/>
            <a:ext cx="152280" cy="228600"/>
          </a:xfrm>
          <a:custGeom>
            <a:avLst/>
            <a:gdLst/>
            <a:ahLst/>
            <a:rect l="l" t="t" r="r" b="b"/>
            <a:pathLst>
              <a:path w="415" h="182">
                <a:moveTo>
                  <a:pt x="0" y="0"/>
                </a:moveTo>
                <a:lnTo>
                  <a:pt x="234" y="128"/>
                </a:lnTo>
                <a:lnTo>
                  <a:pt x="209" y="82"/>
                </a:lnTo>
                <a:lnTo>
                  <a:pt x="414" y="181"/>
                </a:lnTo>
                <a:lnTo>
                  <a:pt x="168" y="48"/>
                </a:lnTo>
                <a:lnTo>
                  <a:pt x="190" y="90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6"/>
          <a:stretch/>
        </p:blipFill>
        <p:spPr>
          <a:xfrm>
            <a:off x="747864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5" name="pc_bw" descr=""/>
          <p:cNvPicPr/>
          <p:nvPr/>
        </p:nvPicPr>
        <p:blipFill>
          <a:blip r:embed="rId17"/>
          <a:stretch/>
        </p:blipFill>
        <p:spPr>
          <a:xfrm>
            <a:off x="7783560" y="3352680"/>
            <a:ext cx="216000" cy="1954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7097760" y="3352680"/>
            <a:ext cx="3049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402680" y="3200040"/>
            <a:ext cx="0" cy="152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02680" y="3200400"/>
            <a:ext cx="457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9880" y="3200400"/>
            <a:ext cx="0" cy="152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753240" y="3122280"/>
            <a:ext cx="14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53240" y="3122640"/>
            <a:ext cx="62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13520" y="30970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1600" y="307980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53280" y="312588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2864400">
            <a:off x="7149960" y="3117960"/>
            <a:ext cx="104760" cy="5688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29520" y="3083040"/>
            <a:ext cx="104760" cy="5220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51840" y="312408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65880" y="314172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83520" y="313848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02600" y="3133800"/>
            <a:ext cx="1404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72360" y="3154320"/>
            <a:ext cx="15840" cy="1116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89640" y="3151080"/>
            <a:ext cx="1620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07280" y="3146400"/>
            <a:ext cx="15840" cy="1260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77040" y="3166920"/>
            <a:ext cx="15840" cy="1296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94680" y="3165480"/>
            <a:ext cx="1584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3760" y="3160800"/>
            <a:ext cx="1404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83520" y="3181320"/>
            <a:ext cx="15840" cy="1260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00800" y="3178080"/>
            <a:ext cx="158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18440" y="3173400"/>
            <a:ext cx="15840" cy="1260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3139920"/>
            <a:ext cx="33480" cy="10980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19800" y="3149640"/>
            <a:ext cx="42840" cy="9828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23120" y="3114720"/>
            <a:ext cx="54000" cy="11916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73800" y="3235320"/>
            <a:ext cx="9540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3800" y="3209760"/>
            <a:ext cx="95400" cy="1296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194240" y="3027960"/>
            <a:ext cx="171720" cy="153360"/>
            <a:chOff x="7194240" y="3027960"/>
            <a:chExt cx="171720" cy="153360"/>
          </a:xfrm>
        </p:grpSpPr>
        <p:sp>
          <p:nvSpPr>
            <p:cNvPr id="666" name=""/>
            <p:cNvSpPr/>
            <p:nvPr/>
          </p:nvSpPr>
          <p:spPr>
            <a:xfrm rot="6550800">
              <a:off x="7223760" y="3033000"/>
              <a:ext cx="112680" cy="14256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6550800">
              <a:off x="7227000" y="3041640"/>
              <a:ext cx="100440" cy="12456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583160" y="3352680"/>
            <a:ext cx="22096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573880" y="3335400"/>
            <a:ext cx="568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598720" y="3335400"/>
            <a:ext cx="57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583160" y="2438280"/>
            <a:ext cx="0" cy="9144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506840" y="1447920"/>
            <a:ext cx="0" cy="3045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xDSL  Configur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3886200"/>
          <a:ext cx="7443720" cy="2457360"/>
        </p:xfrm>
        <a:graphic>
          <a:graphicData uri="http://schemas.openxmlformats.org/drawingml/2006/table">
            <a:tbl>
              <a:tblPr/>
              <a:tblGrid>
                <a:gridCol w="976320"/>
                <a:gridCol w="924840"/>
                <a:gridCol w="216000"/>
                <a:gridCol w="924840"/>
                <a:gridCol w="791640"/>
                <a:gridCol w="216000"/>
                <a:gridCol w="907560"/>
                <a:gridCol w="863640"/>
                <a:gridCol w="216000"/>
                <a:gridCol w="1406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CP/UD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v6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penden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ayer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LC/SNA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LC/SNA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CP/UD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AL5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AL5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v6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M1/DS3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M1/DS3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/100B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/100B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outer/RAS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U-C(DSLAM)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U-R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ser PC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83-br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earch Are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2120" y="1371600"/>
            <a:ext cx="8076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P Mobility Protoco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ETF  Activity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AN concentrated mobility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P enabled LCNA service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cur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바탕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바탕체"/>
              </a:rPr>
              <a:t>AAA under All IP (Authentication, Authorization, Accounting)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3" marL="171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바탕체"/>
              </a:rPr>
              <a:t>QoS under All I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Thank You !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62200" y="4267080"/>
            <a:ext cx="3819600" cy="1284480"/>
          </a:xfrm>
          <a:custGeom>
            <a:avLst/>
            <a:gdLst/>
            <a:ahLst/>
            <a:rect l="l" t="t" r="r" b="b"/>
            <a:pathLst>
              <a:path w="4810" h="1618">
                <a:moveTo>
                  <a:pt x="4807" y="381"/>
                </a:moveTo>
                <a:lnTo>
                  <a:pt x="4798" y="346"/>
                </a:lnTo>
                <a:lnTo>
                  <a:pt x="4782" y="314"/>
                </a:lnTo>
                <a:lnTo>
                  <a:pt x="4761" y="282"/>
                </a:lnTo>
                <a:lnTo>
                  <a:pt x="4734" y="252"/>
                </a:lnTo>
                <a:lnTo>
                  <a:pt x="4702" y="223"/>
                </a:lnTo>
                <a:lnTo>
                  <a:pt x="4663" y="197"/>
                </a:lnTo>
                <a:lnTo>
                  <a:pt x="4620" y="173"/>
                </a:lnTo>
                <a:lnTo>
                  <a:pt x="4571" y="148"/>
                </a:lnTo>
                <a:lnTo>
                  <a:pt x="4518" y="126"/>
                </a:lnTo>
                <a:lnTo>
                  <a:pt x="4460" y="106"/>
                </a:lnTo>
                <a:lnTo>
                  <a:pt x="4396" y="88"/>
                </a:lnTo>
                <a:lnTo>
                  <a:pt x="4330" y="71"/>
                </a:lnTo>
                <a:lnTo>
                  <a:pt x="4257" y="56"/>
                </a:lnTo>
                <a:lnTo>
                  <a:pt x="4182" y="43"/>
                </a:lnTo>
                <a:lnTo>
                  <a:pt x="4101" y="31"/>
                </a:lnTo>
                <a:lnTo>
                  <a:pt x="4018" y="22"/>
                </a:lnTo>
                <a:lnTo>
                  <a:pt x="3930" y="14"/>
                </a:lnTo>
                <a:lnTo>
                  <a:pt x="3839" y="8"/>
                </a:lnTo>
                <a:lnTo>
                  <a:pt x="3745" y="4"/>
                </a:lnTo>
                <a:lnTo>
                  <a:pt x="3647" y="2"/>
                </a:lnTo>
                <a:lnTo>
                  <a:pt x="3547" y="0"/>
                </a:lnTo>
                <a:lnTo>
                  <a:pt x="3443" y="2"/>
                </a:lnTo>
                <a:lnTo>
                  <a:pt x="3337" y="5"/>
                </a:lnTo>
                <a:lnTo>
                  <a:pt x="3227" y="11"/>
                </a:lnTo>
                <a:lnTo>
                  <a:pt x="3116" y="17"/>
                </a:lnTo>
                <a:lnTo>
                  <a:pt x="3003" y="27"/>
                </a:lnTo>
                <a:lnTo>
                  <a:pt x="2888" y="37"/>
                </a:lnTo>
                <a:lnTo>
                  <a:pt x="2769" y="51"/>
                </a:lnTo>
                <a:lnTo>
                  <a:pt x="2650" y="67"/>
                </a:lnTo>
                <a:lnTo>
                  <a:pt x="2529" y="83"/>
                </a:lnTo>
                <a:lnTo>
                  <a:pt x="2406" y="102"/>
                </a:lnTo>
                <a:lnTo>
                  <a:pt x="2282" y="123"/>
                </a:lnTo>
                <a:lnTo>
                  <a:pt x="2228" y="133"/>
                </a:lnTo>
                <a:lnTo>
                  <a:pt x="2176" y="143"/>
                </a:lnTo>
                <a:lnTo>
                  <a:pt x="2123" y="154"/>
                </a:lnTo>
                <a:lnTo>
                  <a:pt x="2071" y="165"/>
                </a:lnTo>
                <a:lnTo>
                  <a:pt x="2018" y="176"/>
                </a:lnTo>
                <a:lnTo>
                  <a:pt x="1967" y="186"/>
                </a:lnTo>
                <a:lnTo>
                  <a:pt x="1916" y="197"/>
                </a:lnTo>
                <a:lnTo>
                  <a:pt x="1865" y="209"/>
                </a:lnTo>
                <a:lnTo>
                  <a:pt x="1814" y="220"/>
                </a:lnTo>
                <a:lnTo>
                  <a:pt x="1765" y="232"/>
                </a:lnTo>
                <a:lnTo>
                  <a:pt x="1716" y="245"/>
                </a:lnTo>
                <a:lnTo>
                  <a:pt x="1666" y="259"/>
                </a:lnTo>
                <a:lnTo>
                  <a:pt x="1617" y="271"/>
                </a:lnTo>
                <a:lnTo>
                  <a:pt x="1569" y="283"/>
                </a:lnTo>
                <a:lnTo>
                  <a:pt x="1521" y="297"/>
                </a:lnTo>
                <a:lnTo>
                  <a:pt x="1475" y="309"/>
                </a:lnTo>
                <a:lnTo>
                  <a:pt x="1428" y="323"/>
                </a:lnTo>
                <a:lnTo>
                  <a:pt x="1382" y="337"/>
                </a:lnTo>
                <a:lnTo>
                  <a:pt x="1336" y="351"/>
                </a:lnTo>
                <a:lnTo>
                  <a:pt x="1291" y="366"/>
                </a:lnTo>
                <a:lnTo>
                  <a:pt x="1246" y="380"/>
                </a:lnTo>
                <a:lnTo>
                  <a:pt x="1203" y="394"/>
                </a:lnTo>
                <a:lnTo>
                  <a:pt x="1160" y="409"/>
                </a:lnTo>
                <a:lnTo>
                  <a:pt x="1116" y="423"/>
                </a:lnTo>
                <a:lnTo>
                  <a:pt x="1075" y="438"/>
                </a:lnTo>
                <a:lnTo>
                  <a:pt x="1033" y="454"/>
                </a:lnTo>
                <a:lnTo>
                  <a:pt x="993" y="469"/>
                </a:lnTo>
                <a:lnTo>
                  <a:pt x="953" y="484"/>
                </a:lnTo>
                <a:lnTo>
                  <a:pt x="913" y="500"/>
                </a:lnTo>
                <a:lnTo>
                  <a:pt x="874" y="515"/>
                </a:lnTo>
                <a:lnTo>
                  <a:pt x="835" y="532"/>
                </a:lnTo>
                <a:lnTo>
                  <a:pt x="798" y="547"/>
                </a:lnTo>
                <a:lnTo>
                  <a:pt x="826" y="550"/>
                </a:lnTo>
                <a:lnTo>
                  <a:pt x="852" y="557"/>
                </a:lnTo>
                <a:lnTo>
                  <a:pt x="875" y="569"/>
                </a:lnTo>
                <a:lnTo>
                  <a:pt x="897" y="584"/>
                </a:lnTo>
                <a:lnTo>
                  <a:pt x="914" y="604"/>
                </a:lnTo>
                <a:lnTo>
                  <a:pt x="928" y="630"/>
                </a:lnTo>
                <a:lnTo>
                  <a:pt x="934" y="663"/>
                </a:lnTo>
                <a:lnTo>
                  <a:pt x="936" y="701"/>
                </a:lnTo>
                <a:lnTo>
                  <a:pt x="829" y="702"/>
                </a:lnTo>
                <a:lnTo>
                  <a:pt x="829" y="689"/>
                </a:lnTo>
                <a:lnTo>
                  <a:pt x="828" y="676"/>
                </a:lnTo>
                <a:lnTo>
                  <a:pt x="823" y="667"/>
                </a:lnTo>
                <a:lnTo>
                  <a:pt x="817" y="658"/>
                </a:lnTo>
                <a:lnTo>
                  <a:pt x="809" y="650"/>
                </a:lnTo>
                <a:lnTo>
                  <a:pt x="800" y="646"/>
                </a:lnTo>
                <a:lnTo>
                  <a:pt x="787" y="643"/>
                </a:lnTo>
                <a:lnTo>
                  <a:pt x="775" y="641"/>
                </a:lnTo>
                <a:lnTo>
                  <a:pt x="766" y="643"/>
                </a:lnTo>
                <a:lnTo>
                  <a:pt x="758" y="646"/>
                </a:lnTo>
                <a:lnTo>
                  <a:pt x="750" y="650"/>
                </a:lnTo>
                <a:lnTo>
                  <a:pt x="744" y="655"/>
                </a:lnTo>
                <a:lnTo>
                  <a:pt x="738" y="663"/>
                </a:lnTo>
                <a:lnTo>
                  <a:pt x="733" y="670"/>
                </a:lnTo>
                <a:lnTo>
                  <a:pt x="732" y="678"/>
                </a:lnTo>
                <a:lnTo>
                  <a:pt x="730" y="687"/>
                </a:lnTo>
                <a:lnTo>
                  <a:pt x="732" y="699"/>
                </a:lnTo>
                <a:lnTo>
                  <a:pt x="736" y="710"/>
                </a:lnTo>
                <a:lnTo>
                  <a:pt x="743" y="719"/>
                </a:lnTo>
                <a:lnTo>
                  <a:pt x="750" y="727"/>
                </a:lnTo>
                <a:lnTo>
                  <a:pt x="760" y="733"/>
                </a:lnTo>
                <a:lnTo>
                  <a:pt x="770" y="738"/>
                </a:lnTo>
                <a:lnTo>
                  <a:pt x="781" y="742"/>
                </a:lnTo>
                <a:lnTo>
                  <a:pt x="792" y="745"/>
                </a:lnTo>
                <a:lnTo>
                  <a:pt x="817" y="753"/>
                </a:lnTo>
                <a:lnTo>
                  <a:pt x="843" y="761"/>
                </a:lnTo>
                <a:lnTo>
                  <a:pt x="869" y="772"/>
                </a:lnTo>
                <a:lnTo>
                  <a:pt x="894" y="785"/>
                </a:lnTo>
                <a:lnTo>
                  <a:pt x="916" y="805"/>
                </a:lnTo>
                <a:lnTo>
                  <a:pt x="933" y="832"/>
                </a:lnTo>
                <a:lnTo>
                  <a:pt x="943" y="865"/>
                </a:lnTo>
                <a:lnTo>
                  <a:pt x="948" y="910"/>
                </a:lnTo>
                <a:lnTo>
                  <a:pt x="945" y="947"/>
                </a:lnTo>
                <a:lnTo>
                  <a:pt x="934" y="977"/>
                </a:lnTo>
                <a:lnTo>
                  <a:pt x="919" y="1004"/>
                </a:lnTo>
                <a:lnTo>
                  <a:pt x="899" y="1025"/>
                </a:lnTo>
                <a:lnTo>
                  <a:pt x="872" y="1042"/>
                </a:lnTo>
                <a:lnTo>
                  <a:pt x="845" y="1054"/>
                </a:lnTo>
                <a:lnTo>
                  <a:pt x="815" y="1060"/>
                </a:lnTo>
                <a:lnTo>
                  <a:pt x="783" y="1062"/>
                </a:lnTo>
                <a:lnTo>
                  <a:pt x="750" y="1060"/>
                </a:lnTo>
                <a:lnTo>
                  <a:pt x="720" y="1056"/>
                </a:lnTo>
                <a:lnTo>
                  <a:pt x="690" y="1045"/>
                </a:lnTo>
                <a:lnTo>
                  <a:pt x="665" y="1030"/>
                </a:lnTo>
                <a:lnTo>
                  <a:pt x="645" y="1007"/>
                </a:lnTo>
                <a:lnTo>
                  <a:pt x="628" y="977"/>
                </a:lnTo>
                <a:lnTo>
                  <a:pt x="619" y="941"/>
                </a:lnTo>
                <a:lnTo>
                  <a:pt x="615" y="894"/>
                </a:lnTo>
                <a:lnTo>
                  <a:pt x="720" y="894"/>
                </a:lnTo>
                <a:lnTo>
                  <a:pt x="720" y="911"/>
                </a:lnTo>
                <a:lnTo>
                  <a:pt x="723" y="927"/>
                </a:lnTo>
                <a:lnTo>
                  <a:pt x="729" y="939"/>
                </a:lnTo>
                <a:lnTo>
                  <a:pt x="736" y="950"/>
                </a:lnTo>
                <a:lnTo>
                  <a:pt x="746" y="957"/>
                </a:lnTo>
                <a:lnTo>
                  <a:pt x="757" y="964"/>
                </a:lnTo>
                <a:lnTo>
                  <a:pt x="769" y="967"/>
                </a:lnTo>
                <a:lnTo>
                  <a:pt x="783" y="968"/>
                </a:lnTo>
                <a:lnTo>
                  <a:pt x="792" y="968"/>
                </a:lnTo>
                <a:lnTo>
                  <a:pt x="801" y="965"/>
                </a:lnTo>
                <a:lnTo>
                  <a:pt x="811" y="962"/>
                </a:lnTo>
                <a:lnTo>
                  <a:pt x="820" y="956"/>
                </a:lnTo>
                <a:lnTo>
                  <a:pt x="828" y="948"/>
                </a:lnTo>
                <a:lnTo>
                  <a:pt x="834" y="941"/>
                </a:lnTo>
                <a:lnTo>
                  <a:pt x="837" y="930"/>
                </a:lnTo>
                <a:lnTo>
                  <a:pt x="838" y="918"/>
                </a:lnTo>
                <a:lnTo>
                  <a:pt x="835" y="896"/>
                </a:lnTo>
                <a:lnTo>
                  <a:pt x="825" y="881"/>
                </a:lnTo>
                <a:lnTo>
                  <a:pt x="809" y="870"/>
                </a:lnTo>
                <a:lnTo>
                  <a:pt x="789" y="861"/>
                </a:lnTo>
                <a:lnTo>
                  <a:pt x="766" y="853"/>
                </a:lnTo>
                <a:lnTo>
                  <a:pt x="738" y="844"/>
                </a:lnTo>
                <a:lnTo>
                  <a:pt x="709" y="833"/>
                </a:lnTo>
                <a:lnTo>
                  <a:pt x="678" y="818"/>
                </a:lnTo>
                <a:lnTo>
                  <a:pt x="664" y="808"/>
                </a:lnTo>
                <a:lnTo>
                  <a:pt x="653" y="796"/>
                </a:lnTo>
                <a:lnTo>
                  <a:pt x="642" y="784"/>
                </a:lnTo>
                <a:lnTo>
                  <a:pt x="635" y="769"/>
                </a:lnTo>
                <a:lnTo>
                  <a:pt x="628" y="752"/>
                </a:lnTo>
                <a:lnTo>
                  <a:pt x="624" y="735"/>
                </a:lnTo>
                <a:lnTo>
                  <a:pt x="622" y="716"/>
                </a:lnTo>
                <a:lnTo>
                  <a:pt x="621" y="696"/>
                </a:lnTo>
                <a:lnTo>
                  <a:pt x="621" y="686"/>
                </a:lnTo>
                <a:lnTo>
                  <a:pt x="622" y="675"/>
                </a:lnTo>
                <a:lnTo>
                  <a:pt x="624" y="664"/>
                </a:lnTo>
                <a:lnTo>
                  <a:pt x="625" y="653"/>
                </a:lnTo>
                <a:lnTo>
                  <a:pt x="628" y="644"/>
                </a:lnTo>
                <a:lnTo>
                  <a:pt x="631" y="635"/>
                </a:lnTo>
                <a:lnTo>
                  <a:pt x="635" y="626"/>
                </a:lnTo>
                <a:lnTo>
                  <a:pt x="639" y="618"/>
                </a:lnTo>
                <a:lnTo>
                  <a:pt x="562" y="656"/>
                </a:lnTo>
                <a:lnTo>
                  <a:pt x="488" y="695"/>
                </a:lnTo>
                <a:lnTo>
                  <a:pt x="420" y="735"/>
                </a:lnTo>
                <a:lnTo>
                  <a:pt x="357" y="775"/>
                </a:lnTo>
                <a:lnTo>
                  <a:pt x="296" y="813"/>
                </a:lnTo>
                <a:lnTo>
                  <a:pt x="242" y="853"/>
                </a:lnTo>
                <a:lnTo>
                  <a:pt x="193" y="893"/>
                </a:lnTo>
                <a:lnTo>
                  <a:pt x="150" y="933"/>
                </a:lnTo>
                <a:lnTo>
                  <a:pt x="111" y="973"/>
                </a:lnTo>
                <a:lnTo>
                  <a:pt x="77" y="1011"/>
                </a:lnTo>
                <a:lnTo>
                  <a:pt x="49" y="1051"/>
                </a:lnTo>
                <a:lnTo>
                  <a:pt x="28" y="1090"/>
                </a:lnTo>
                <a:lnTo>
                  <a:pt x="12" y="1128"/>
                </a:lnTo>
                <a:lnTo>
                  <a:pt x="3" y="1165"/>
                </a:lnTo>
                <a:lnTo>
                  <a:pt x="0" y="1202"/>
                </a:lnTo>
                <a:lnTo>
                  <a:pt x="3" y="1239"/>
                </a:lnTo>
                <a:lnTo>
                  <a:pt x="12" y="1274"/>
                </a:lnTo>
                <a:lnTo>
                  <a:pt x="28" y="1306"/>
                </a:lnTo>
                <a:lnTo>
                  <a:pt x="49" y="1338"/>
                </a:lnTo>
                <a:lnTo>
                  <a:pt x="77" y="1368"/>
                </a:lnTo>
                <a:lnTo>
                  <a:pt x="110" y="1397"/>
                </a:lnTo>
                <a:lnTo>
                  <a:pt x="148" y="1423"/>
                </a:lnTo>
                <a:lnTo>
                  <a:pt x="191" y="1447"/>
                </a:lnTo>
                <a:lnTo>
                  <a:pt x="239" y="1472"/>
                </a:lnTo>
                <a:lnTo>
                  <a:pt x="293" y="1494"/>
                </a:lnTo>
                <a:lnTo>
                  <a:pt x="352" y="1514"/>
                </a:lnTo>
                <a:lnTo>
                  <a:pt x="415" y="1532"/>
                </a:lnTo>
                <a:lnTo>
                  <a:pt x="482" y="1549"/>
                </a:lnTo>
                <a:lnTo>
                  <a:pt x="554" y="1563"/>
                </a:lnTo>
                <a:lnTo>
                  <a:pt x="630" y="1577"/>
                </a:lnTo>
                <a:lnTo>
                  <a:pt x="710" y="1587"/>
                </a:lnTo>
                <a:lnTo>
                  <a:pt x="794" y="1596"/>
                </a:lnTo>
                <a:lnTo>
                  <a:pt x="882" y="1606"/>
                </a:lnTo>
                <a:lnTo>
                  <a:pt x="973" y="1610"/>
                </a:lnTo>
                <a:lnTo>
                  <a:pt x="1067" y="1615"/>
                </a:lnTo>
                <a:lnTo>
                  <a:pt x="1164" y="1618"/>
                </a:lnTo>
                <a:lnTo>
                  <a:pt x="1266" y="1618"/>
                </a:lnTo>
                <a:lnTo>
                  <a:pt x="1370" y="1616"/>
                </a:lnTo>
                <a:lnTo>
                  <a:pt x="1476" y="1613"/>
                </a:lnTo>
                <a:lnTo>
                  <a:pt x="1584" y="1607"/>
                </a:lnTo>
                <a:lnTo>
                  <a:pt x="1695" y="1601"/>
                </a:lnTo>
                <a:lnTo>
                  <a:pt x="1810" y="1592"/>
                </a:lnTo>
                <a:lnTo>
                  <a:pt x="1926" y="1581"/>
                </a:lnTo>
                <a:lnTo>
                  <a:pt x="2043" y="1567"/>
                </a:lnTo>
                <a:lnTo>
                  <a:pt x="2162" y="1552"/>
                </a:lnTo>
                <a:lnTo>
                  <a:pt x="2284" y="1535"/>
                </a:lnTo>
                <a:lnTo>
                  <a:pt x="2406" y="1517"/>
                </a:lnTo>
                <a:lnTo>
                  <a:pt x="2529" y="1495"/>
                </a:lnTo>
                <a:lnTo>
                  <a:pt x="2585" y="1484"/>
                </a:lnTo>
                <a:lnTo>
                  <a:pt x="2639" y="1475"/>
                </a:lnTo>
                <a:lnTo>
                  <a:pt x="2693" y="1464"/>
                </a:lnTo>
                <a:lnTo>
                  <a:pt x="2747" y="1454"/>
                </a:lnTo>
                <a:lnTo>
                  <a:pt x="2801" y="1441"/>
                </a:lnTo>
                <a:lnTo>
                  <a:pt x="2854" y="1431"/>
                </a:lnTo>
                <a:lnTo>
                  <a:pt x="2906" y="1418"/>
                </a:lnTo>
                <a:lnTo>
                  <a:pt x="2959" y="1408"/>
                </a:lnTo>
                <a:lnTo>
                  <a:pt x="3010" y="1395"/>
                </a:lnTo>
                <a:lnTo>
                  <a:pt x="3062" y="1383"/>
                </a:lnTo>
                <a:lnTo>
                  <a:pt x="3113" y="1369"/>
                </a:lnTo>
                <a:lnTo>
                  <a:pt x="3162" y="1357"/>
                </a:lnTo>
                <a:lnTo>
                  <a:pt x="3212" y="1343"/>
                </a:lnTo>
                <a:lnTo>
                  <a:pt x="3261" y="1331"/>
                </a:lnTo>
                <a:lnTo>
                  <a:pt x="3311" y="1317"/>
                </a:lnTo>
                <a:lnTo>
                  <a:pt x="3359" y="1303"/>
                </a:lnTo>
                <a:lnTo>
                  <a:pt x="3406" y="1289"/>
                </a:lnTo>
                <a:lnTo>
                  <a:pt x="3454" y="1275"/>
                </a:lnTo>
                <a:lnTo>
                  <a:pt x="3501" y="1260"/>
                </a:lnTo>
                <a:lnTo>
                  <a:pt x="3545" y="1246"/>
                </a:lnTo>
                <a:lnTo>
                  <a:pt x="3592" y="1231"/>
                </a:lnTo>
                <a:lnTo>
                  <a:pt x="3636" y="1216"/>
                </a:lnTo>
                <a:lnTo>
                  <a:pt x="3680" y="1202"/>
                </a:lnTo>
                <a:lnTo>
                  <a:pt x="3723" y="1186"/>
                </a:lnTo>
                <a:lnTo>
                  <a:pt x="3766" y="1171"/>
                </a:lnTo>
                <a:lnTo>
                  <a:pt x="3808" y="1156"/>
                </a:lnTo>
                <a:lnTo>
                  <a:pt x="3850" y="1139"/>
                </a:lnTo>
                <a:lnTo>
                  <a:pt x="3890" y="1123"/>
                </a:lnTo>
                <a:lnTo>
                  <a:pt x="3930" y="1108"/>
                </a:lnTo>
                <a:lnTo>
                  <a:pt x="3970" y="1091"/>
                </a:lnTo>
                <a:lnTo>
                  <a:pt x="4009" y="1076"/>
                </a:lnTo>
                <a:lnTo>
                  <a:pt x="4046" y="1059"/>
                </a:lnTo>
                <a:lnTo>
                  <a:pt x="4038" y="1060"/>
                </a:lnTo>
                <a:lnTo>
                  <a:pt x="4029" y="1060"/>
                </a:lnTo>
                <a:lnTo>
                  <a:pt x="4019" y="1062"/>
                </a:lnTo>
                <a:lnTo>
                  <a:pt x="4010" y="1062"/>
                </a:lnTo>
                <a:lnTo>
                  <a:pt x="3999" y="1063"/>
                </a:lnTo>
                <a:lnTo>
                  <a:pt x="3989" y="1063"/>
                </a:lnTo>
                <a:lnTo>
                  <a:pt x="3976" y="1063"/>
                </a:lnTo>
                <a:lnTo>
                  <a:pt x="3962" y="1063"/>
                </a:lnTo>
                <a:lnTo>
                  <a:pt x="3942" y="1062"/>
                </a:lnTo>
                <a:lnTo>
                  <a:pt x="3924" y="1057"/>
                </a:lnTo>
                <a:lnTo>
                  <a:pt x="3907" y="1051"/>
                </a:lnTo>
                <a:lnTo>
                  <a:pt x="3893" y="1043"/>
                </a:lnTo>
                <a:lnTo>
                  <a:pt x="3880" y="1033"/>
                </a:lnTo>
                <a:lnTo>
                  <a:pt x="3870" y="1020"/>
                </a:lnTo>
                <a:lnTo>
                  <a:pt x="3860" y="1007"/>
                </a:lnTo>
                <a:lnTo>
                  <a:pt x="3853" y="991"/>
                </a:lnTo>
                <a:lnTo>
                  <a:pt x="3847" y="973"/>
                </a:lnTo>
                <a:lnTo>
                  <a:pt x="3842" y="954"/>
                </a:lnTo>
                <a:lnTo>
                  <a:pt x="3837" y="933"/>
                </a:lnTo>
                <a:lnTo>
                  <a:pt x="3836" y="910"/>
                </a:lnTo>
                <a:lnTo>
                  <a:pt x="3833" y="887"/>
                </a:lnTo>
                <a:lnTo>
                  <a:pt x="3833" y="861"/>
                </a:lnTo>
                <a:lnTo>
                  <a:pt x="3831" y="833"/>
                </a:lnTo>
                <a:lnTo>
                  <a:pt x="3831" y="805"/>
                </a:lnTo>
                <a:lnTo>
                  <a:pt x="3831" y="776"/>
                </a:lnTo>
                <a:lnTo>
                  <a:pt x="3831" y="750"/>
                </a:lnTo>
                <a:lnTo>
                  <a:pt x="3833" y="724"/>
                </a:lnTo>
                <a:lnTo>
                  <a:pt x="3834" y="699"/>
                </a:lnTo>
                <a:lnTo>
                  <a:pt x="3837" y="676"/>
                </a:lnTo>
                <a:lnTo>
                  <a:pt x="3842" y="655"/>
                </a:lnTo>
                <a:lnTo>
                  <a:pt x="3847" y="636"/>
                </a:lnTo>
                <a:lnTo>
                  <a:pt x="3853" y="618"/>
                </a:lnTo>
                <a:lnTo>
                  <a:pt x="3859" y="603"/>
                </a:lnTo>
                <a:lnTo>
                  <a:pt x="3868" y="589"/>
                </a:lnTo>
                <a:lnTo>
                  <a:pt x="3879" y="577"/>
                </a:lnTo>
                <a:lnTo>
                  <a:pt x="3891" y="566"/>
                </a:lnTo>
                <a:lnTo>
                  <a:pt x="3907" y="558"/>
                </a:lnTo>
                <a:lnTo>
                  <a:pt x="3922" y="552"/>
                </a:lnTo>
                <a:lnTo>
                  <a:pt x="3941" y="547"/>
                </a:lnTo>
                <a:lnTo>
                  <a:pt x="3962" y="546"/>
                </a:lnTo>
                <a:lnTo>
                  <a:pt x="3996" y="546"/>
                </a:lnTo>
                <a:lnTo>
                  <a:pt x="4030" y="549"/>
                </a:lnTo>
                <a:lnTo>
                  <a:pt x="4063" y="557"/>
                </a:lnTo>
                <a:lnTo>
                  <a:pt x="4090" y="570"/>
                </a:lnTo>
                <a:lnTo>
                  <a:pt x="4115" y="590"/>
                </a:lnTo>
                <a:lnTo>
                  <a:pt x="4135" y="618"/>
                </a:lnTo>
                <a:lnTo>
                  <a:pt x="4148" y="656"/>
                </a:lnTo>
                <a:lnTo>
                  <a:pt x="4152" y="704"/>
                </a:lnTo>
                <a:lnTo>
                  <a:pt x="4047" y="704"/>
                </a:lnTo>
                <a:lnTo>
                  <a:pt x="4046" y="683"/>
                </a:lnTo>
                <a:lnTo>
                  <a:pt x="4041" y="666"/>
                </a:lnTo>
                <a:lnTo>
                  <a:pt x="4035" y="653"/>
                </a:lnTo>
                <a:lnTo>
                  <a:pt x="4026" y="647"/>
                </a:lnTo>
                <a:lnTo>
                  <a:pt x="4015" y="643"/>
                </a:lnTo>
                <a:lnTo>
                  <a:pt x="4002" y="641"/>
                </a:lnTo>
                <a:lnTo>
                  <a:pt x="3990" y="641"/>
                </a:lnTo>
                <a:lnTo>
                  <a:pt x="3978" y="643"/>
                </a:lnTo>
                <a:lnTo>
                  <a:pt x="3964" y="647"/>
                </a:lnTo>
                <a:lnTo>
                  <a:pt x="3955" y="658"/>
                </a:lnTo>
                <a:lnTo>
                  <a:pt x="3947" y="673"/>
                </a:lnTo>
                <a:lnTo>
                  <a:pt x="3944" y="695"/>
                </a:lnTo>
                <a:lnTo>
                  <a:pt x="3942" y="719"/>
                </a:lnTo>
                <a:lnTo>
                  <a:pt x="3942" y="745"/>
                </a:lnTo>
                <a:lnTo>
                  <a:pt x="3942" y="775"/>
                </a:lnTo>
                <a:lnTo>
                  <a:pt x="3942" y="805"/>
                </a:lnTo>
                <a:lnTo>
                  <a:pt x="3942" y="841"/>
                </a:lnTo>
                <a:lnTo>
                  <a:pt x="3944" y="871"/>
                </a:lnTo>
                <a:lnTo>
                  <a:pt x="3945" y="899"/>
                </a:lnTo>
                <a:lnTo>
                  <a:pt x="3950" y="924"/>
                </a:lnTo>
                <a:lnTo>
                  <a:pt x="3956" y="942"/>
                </a:lnTo>
                <a:lnTo>
                  <a:pt x="3965" y="956"/>
                </a:lnTo>
                <a:lnTo>
                  <a:pt x="3978" y="965"/>
                </a:lnTo>
                <a:lnTo>
                  <a:pt x="3995" y="968"/>
                </a:lnTo>
                <a:lnTo>
                  <a:pt x="4002" y="968"/>
                </a:lnTo>
                <a:lnTo>
                  <a:pt x="4010" y="967"/>
                </a:lnTo>
                <a:lnTo>
                  <a:pt x="4016" y="967"/>
                </a:lnTo>
                <a:lnTo>
                  <a:pt x="4024" y="965"/>
                </a:lnTo>
                <a:lnTo>
                  <a:pt x="4030" y="964"/>
                </a:lnTo>
                <a:lnTo>
                  <a:pt x="4038" y="962"/>
                </a:lnTo>
                <a:lnTo>
                  <a:pt x="4044" y="961"/>
                </a:lnTo>
                <a:lnTo>
                  <a:pt x="4050" y="959"/>
                </a:lnTo>
                <a:lnTo>
                  <a:pt x="4050" y="838"/>
                </a:lnTo>
                <a:lnTo>
                  <a:pt x="3973" y="836"/>
                </a:lnTo>
                <a:lnTo>
                  <a:pt x="3973" y="772"/>
                </a:lnTo>
                <a:lnTo>
                  <a:pt x="4155" y="773"/>
                </a:lnTo>
                <a:lnTo>
                  <a:pt x="4155" y="1010"/>
                </a:lnTo>
                <a:lnTo>
                  <a:pt x="4234" y="971"/>
                </a:lnTo>
                <a:lnTo>
                  <a:pt x="4310" y="931"/>
                </a:lnTo>
                <a:lnTo>
                  <a:pt x="4379" y="891"/>
                </a:lnTo>
                <a:lnTo>
                  <a:pt x="4446" y="851"/>
                </a:lnTo>
                <a:lnTo>
                  <a:pt x="4506" y="812"/>
                </a:lnTo>
                <a:lnTo>
                  <a:pt x="4561" y="770"/>
                </a:lnTo>
                <a:lnTo>
                  <a:pt x="4612" y="730"/>
                </a:lnTo>
                <a:lnTo>
                  <a:pt x="4657" y="690"/>
                </a:lnTo>
                <a:lnTo>
                  <a:pt x="4697" y="650"/>
                </a:lnTo>
                <a:lnTo>
                  <a:pt x="4731" y="610"/>
                </a:lnTo>
                <a:lnTo>
                  <a:pt x="4759" y="572"/>
                </a:lnTo>
                <a:lnTo>
                  <a:pt x="4781" y="532"/>
                </a:lnTo>
                <a:lnTo>
                  <a:pt x="4798" y="494"/>
                </a:lnTo>
                <a:lnTo>
                  <a:pt x="4807" y="455"/>
                </a:lnTo>
                <a:lnTo>
                  <a:pt x="4810" y="418"/>
                </a:lnTo>
                <a:lnTo>
                  <a:pt x="4807" y="381"/>
                </a:lnTo>
                <a:close/>
                <a:moveTo>
                  <a:pt x="1359" y="1054"/>
                </a:moveTo>
                <a:lnTo>
                  <a:pt x="1260" y="653"/>
                </a:lnTo>
                <a:lnTo>
                  <a:pt x="1258" y="655"/>
                </a:lnTo>
                <a:lnTo>
                  <a:pt x="1155" y="1054"/>
                </a:lnTo>
                <a:lnTo>
                  <a:pt x="1050" y="1053"/>
                </a:lnTo>
                <a:lnTo>
                  <a:pt x="1200" y="557"/>
                </a:lnTo>
                <a:lnTo>
                  <a:pt x="1328" y="557"/>
                </a:lnTo>
                <a:lnTo>
                  <a:pt x="1478" y="1054"/>
                </a:lnTo>
                <a:lnTo>
                  <a:pt x="1359" y="1054"/>
                </a:lnTo>
                <a:close/>
                <a:moveTo>
                  <a:pt x="2098" y="1054"/>
                </a:moveTo>
                <a:lnTo>
                  <a:pt x="1998" y="1054"/>
                </a:lnTo>
                <a:lnTo>
                  <a:pt x="1998" y="636"/>
                </a:lnTo>
                <a:lnTo>
                  <a:pt x="1997" y="635"/>
                </a:lnTo>
                <a:lnTo>
                  <a:pt x="1899" y="1054"/>
                </a:lnTo>
                <a:lnTo>
                  <a:pt x="1794" y="1054"/>
                </a:lnTo>
                <a:lnTo>
                  <a:pt x="1702" y="633"/>
                </a:lnTo>
                <a:lnTo>
                  <a:pt x="1702" y="633"/>
                </a:lnTo>
                <a:lnTo>
                  <a:pt x="1702" y="1054"/>
                </a:lnTo>
                <a:lnTo>
                  <a:pt x="1600" y="1054"/>
                </a:lnTo>
                <a:lnTo>
                  <a:pt x="1600" y="557"/>
                </a:lnTo>
                <a:lnTo>
                  <a:pt x="1783" y="557"/>
                </a:lnTo>
                <a:lnTo>
                  <a:pt x="1851" y="893"/>
                </a:lnTo>
                <a:lnTo>
                  <a:pt x="1853" y="893"/>
                </a:lnTo>
                <a:lnTo>
                  <a:pt x="1919" y="555"/>
                </a:lnTo>
                <a:lnTo>
                  <a:pt x="2098" y="557"/>
                </a:lnTo>
                <a:lnTo>
                  <a:pt x="2098" y="1054"/>
                </a:lnTo>
                <a:close/>
                <a:moveTo>
                  <a:pt x="2437" y="1063"/>
                </a:moveTo>
                <a:lnTo>
                  <a:pt x="2404" y="1062"/>
                </a:lnTo>
                <a:lnTo>
                  <a:pt x="2373" y="1056"/>
                </a:lnTo>
                <a:lnTo>
                  <a:pt x="2346" y="1045"/>
                </a:lnTo>
                <a:lnTo>
                  <a:pt x="2321" y="1030"/>
                </a:lnTo>
                <a:lnTo>
                  <a:pt x="2299" y="1007"/>
                </a:lnTo>
                <a:lnTo>
                  <a:pt x="2284" y="977"/>
                </a:lnTo>
                <a:lnTo>
                  <a:pt x="2273" y="941"/>
                </a:lnTo>
                <a:lnTo>
                  <a:pt x="2268" y="894"/>
                </a:lnTo>
                <a:lnTo>
                  <a:pt x="2375" y="894"/>
                </a:lnTo>
                <a:lnTo>
                  <a:pt x="2375" y="911"/>
                </a:lnTo>
                <a:lnTo>
                  <a:pt x="2380" y="927"/>
                </a:lnTo>
                <a:lnTo>
                  <a:pt x="2384" y="939"/>
                </a:lnTo>
                <a:lnTo>
                  <a:pt x="2392" y="950"/>
                </a:lnTo>
                <a:lnTo>
                  <a:pt x="2401" y="957"/>
                </a:lnTo>
                <a:lnTo>
                  <a:pt x="2413" y="964"/>
                </a:lnTo>
                <a:lnTo>
                  <a:pt x="2426" y="967"/>
                </a:lnTo>
                <a:lnTo>
                  <a:pt x="2440" y="968"/>
                </a:lnTo>
                <a:lnTo>
                  <a:pt x="2449" y="968"/>
                </a:lnTo>
                <a:lnTo>
                  <a:pt x="2457" y="965"/>
                </a:lnTo>
                <a:lnTo>
                  <a:pt x="2466" y="962"/>
                </a:lnTo>
                <a:lnTo>
                  <a:pt x="2475" y="956"/>
                </a:lnTo>
                <a:lnTo>
                  <a:pt x="2483" y="948"/>
                </a:lnTo>
                <a:lnTo>
                  <a:pt x="2489" y="941"/>
                </a:lnTo>
                <a:lnTo>
                  <a:pt x="2492" y="930"/>
                </a:lnTo>
                <a:lnTo>
                  <a:pt x="2494" y="918"/>
                </a:lnTo>
                <a:lnTo>
                  <a:pt x="2491" y="896"/>
                </a:lnTo>
                <a:lnTo>
                  <a:pt x="2480" y="881"/>
                </a:lnTo>
                <a:lnTo>
                  <a:pt x="2464" y="870"/>
                </a:lnTo>
                <a:lnTo>
                  <a:pt x="2444" y="861"/>
                </a:lnTo>
                <a:lnTo>
                  <a:pt x="2420" y="853"/>
                </a:lnTo>
                <a:lnTo>
                  <a:pt x="2392" y="844"/>
                </a:lnTo>
                <a:lnTo>
                  <a:pt x="2363" y="833"/>
                </a:lnTo>
                <a:lnTo>
                  <a:pt x="2332" y="818"/>
                </a:lnTo>
                <a:lnTo>
                  <a:pt x="2319" y="808"/>
                </a:lnTo>
                <a:lnTo>
                  <a:pt x="2307" y="796"/>
                </a:lnTo>
                <a:lnTo>
                  <a:pt x="2298" y="784"/>
                </a:lnTo>
                <a:lnTo>
                  <a:pt x="2290" y="769"/>
                </a:lnTo>
                <a:lnTo>
                  <a:pt x="2282" y="752"/>
                </a:lnTo>
                <a:lnTo>
                  <a:pt x="2278" y="735"/>
                </a:lnTo>
                <a:lnTo>
                  <a:pt x="2276" y="716"/>
                </a:lnTo>
                <a:lnTo>
                  <a:pt x="2275" y="696"/>
                </a:lnTo>
                <a:lnTo>
                  <a:pt x="2279" y="656"/>
                </a:lnTo>
                <a:lnTo>
                  <a:pt x="2292" y="624"/>
                </a:lnTo>
                <a:lnTo>
                  <a:pt x="2307" y="598"/>
                </a:lnTo>
                <a:lnTo>
                  <a:pt x="2329" y="577"/>
                </a:lnTo>
                <a:lnTo>
                  <a:pt x="2352" y="563"/>
                </a:lnTo>
                <a:lnTo>
                  <a:pt x="2380" y="553"/>
                </a:lnTo>
                <a:lnTo>
                  <a:pt x="2409" y="547"/>
                </a:lnTo>
                <a:lnTo>
                  <a:pt x="2438" y="546"/>
                </a:lnTo>
                <a:lnTo>
                  <a:pt x="2468" y="547"/>
                </a:lnTo>
                <a:lnTo>
                  <a:pt x="2495" y="553"/>
                </a:lnTo>
                <a:lnTo>
                  <a:pt x="2523" y="564"/>
                </a:lnTo>
                <a:lnTo>
                  <a:pt x="2546" y="580"/>
                </a:lnTo>
                <a:lnTo>
                  <a:pt x="2565" y="600"/>
                </a:lnTo>
                <a:lnTo>
                  <a:pt x="2580" y="627"/>
                </a:lnTo>
                <a:lnTo>
                  <a:pt x="2590" y="661"/>
                </a:lnTo>
                <a:lnTo>
                  <a:pt x="2591" y="701"/>
                </a:lnTo>
                <a:lnTo>
                  <a:pt x="2485" y="702"/>
                </a:lnTo>
                <a:lnTo>
                  <a:pt x="2485" y="689"/>
                </a:lnTo>
                <a:lnTo>
                  <a:pt x="2483" y="676"/>
                </a:lnTo>
                <a:lnTo>
                  <a:pt x="2478" y="667"/>
                </a:lnTo>
                <a:lnTo>
                  <a:pt x="2472" y="658"/>
                </a:lnTo>
                <a:lnTo>
                  <a:pt x="2464" y="650"/>
                </a:lnTo>
                <a:lnTo>
                  <a:pt x="2455" y="646"/>
                </a:lnTo>
                <a:lnTo>
                  <a:pt x="2443" y="644"/>
                </a:lnTo>
                <a:lnTo>
                  <a:pt x="2429" y="643"/>
                </a:lnTo>
                <a:lnTo>
                  <a:pt x="2413" y="646"/>
                </a:lnTo>
                <a:lnTo>
                  <a:pt x="2400" y="655"/>
                </a:lnTo>
                <a:lnTo>
                  <a:pt x="2389" y="670"/>
                </a:lnTo>
                <a:lnTo>
                  <a:pt x="2386" y="687"/>
                </a:lnTo>
                <a:lnTo>
                  <a:pt x="2387" y="699"/>
                </a:lnTo>
                <a:lnTo>
                  <a:pt x="2392" y="710"/>
                </a:lnTo>
                <a:lnTo>
                  <a:pt x="2398" y="719"/>
                </a:lnTo>
                <a:lnTo>
                  <a:pt x="2406" y="727"/>
                </a:lnTo>
                <a:lnTo>
                  <a:pt x="2415" y="733"/>
                </a:lnTo>
                <a:lnTo>
                  <a:pt x="2426" y="738"/>
                </a:lnTo>
                <a:lnTo>
                  <a:pt x="2437" y="742"/>
                </a:lnTo>
                <a:lnTo>
                  <a:pt x="2447" y="745"/>
                </a:lnTo>
                <a:lnTo>
                  <a:pt x="2472" y="753"/>
                </a:lnTo>
                <a:lnTo>
                  <a:pt x="2500" y="761"/>
                </a:lnTo>
                <a:lnTo>
                  <a:pt x="2525" y="772"/>
                </a:lnTo>
                <a:lnTo>
                  <a:pt x="2549" y="785"/>
                </a:lnTo>
                <a:lnTo>
                  <a:pt x="2571" y="805"/>
                </a:lnTo>
                <a:lnTo>
                  <a:pt x="2588" y="832"/>
                </a:lnTo>
                <a:lnTo>
                  <a:pt x="2599" y="865"/>
                </a:lnTo>
                <a:lnTo>
                  <a:pt x="2603" y="910"/>
                </a:lnTo>
                <a:lnTo>
                  <a:pt x="2600" y="947"/>
                </a:lnTo>
                <a:lnTo>
                  <a:pt x="2590" y="977"/>
                </a:lnTo>
                <a:lnTo>
                  <a:pt x="2574" y="1005"/>
                </a:lnTo>
                <a:lnTo>
                  <a:pt x="2552" y="1025"/>
                </a:lnTo>
                <a:lnTo>
                  <a:pt x="2528" y="1042"/>
                </a:lnTo>
                <a:lnTo>
                  <a:pt x="2500" y="1054"/>
                </a:lnTo>
                <a:lnTo>
                  <a:pt x="2469" y="1060"/>
                </a:lnTo>
                <a:lnTo>
                  <a:pt x="2437" y="1063"/>
                </a:lnTo>
                <a:close/>
                <a:moveTo>
                  <a:pt x="3101" y="871"/>
                </a:moveTo>
                <a:lnTo>
                  <a:pt x="3096" y="919"/>
                </a:lnTo>
                <a:lnTo>
                  <a:pt x="3085" y="959"/>
                </a:lnTo>
                <a:lnTo>
                  <a:pt x="3070" y="993"/>
                </a:lnTo>
                <a:lnTo>
                  <a:pt x="3048" y="1019"/>
                </a:lnTo>
                <a:lnTo>
                  <a:pt x="3022" y="1039"/>
                </a:lnTo>
                <a:lnTo>
                  <a:pt x="2994" y="1053"/>
                </a:lnTo>
                <a:lnTo>
                  <a:pt x="2962" y="1060"/>
                </a:lnTo>
                <a:lnTo>
                  <a:pt x="2929" y="1063"/>
                </a:lnTo>
                <a:lnTo>
                  <a:pt x="2895" y="1060"/>
                </a:lnTo>
                <a:lnTo>
                  <a:pt x="2863" y="1053"/>
                </a:lnTo>
                <a:lnTo>
                  <a:pt x="2834" y="1039"/>
                </a:lnTo>
                <a:lnTo>
                  <a:pt x="2809" y="1019"/>
                </a:lnTo>
                <a:lnTo>
                  <a:pt x="2787" y="993"/>
                </a:lnTo>
                <a:lnTo>
                  <a:pt x="2770" y="959"/>
                </a:lnTo>
                <a:lnTo>
                  <a:pt x="2759" y="919"/>
                </a:lnTo>
                <a:lnTo>
                  <a:pt x="2756" y="871"/>
                </a:lnTo>
                <a:lnTo>
                  <a:pt x="2756" y="557"/>
                </a:lnTo>
                <a:lnTo>
                  <a:pt x="2857" y="557"/>
                </a:lnTo>
                <a:lnTo>
                  <a:pt x="2857" y="864"/>
                </a:lnTo>
                <a:lnTo>
                  <a:pt x="2858" y="887"/>
                </a:lnTo>
                <a:lnTo>
                  <a:pt x="2861" y="907"/>
                </a:lnTo>
                <a:lnTo>
                  <a:pt x="2867" y="925"/>
                </a:lnTo>
                <a:lnTo>
                  <a:pt x="2875" y="939"/>
                </a:lnTo>
                <a:lnTo>
                  <a:pt x="2886" y="951"/>
                </a:lnTo>
                <a:lnTo>
                  <a:pt x="2898" y="961"/>
                </a:lnTo>
                <a:lnTo>
                  <a:pt x="2912" y="967"/>
                </a:lnTo>
                <a:lnTo>
                  <a:pt x="2929" y="968"/>
                </a:lnTo>
                <a:lnTo>
                  <a:pt x="2946" y="967"/>
                </a:lnTo>
                <a:lnTo>
                  <a:pt x="2960" y="962"/>
                </a:lnTo>
                <a:lnTo>
                  <a:pt x="2972" y="953"/>
                </a:lnTo>
                <a:lnTo>
                  <a:pt x="2982" y="941"/>
                </a:lnTo>
                <a:lnTo>
                  <a:pt x="2989" y="925"/>
                </a:lnTo>
                <a:lnTo>
                  <a:pt x="2996" y="907"/>
                </a:lnTo>
                <a:lnTo>
                  <a:pt x="3000" y="887"/>
                </a:lnTo>
                <a:lnTo>
                  <a:pt x="3002" y="864"/>
                </a:lnTo>
                <a:lnTo>
                  <a:pt x="3002" y="555"/>
                </a:lnTo>
                <a:lnTo>
                  <a:pt x="3101" y="557"/>
                </a:lnTo>
                <a:lnTo>
                  <a:pt x="3101" y="871"/>
                </a:lnTo>
                <a:close/>
                <a:moveTo>
                  <a:pt x="3650" y="1054"/>
                </a:moveTo>
                <a:lnTo>
                  <a:pt x="3496" y="1054"/>
                </a:lnTo>
                <a:lnTo>
                  <a:pt x="3360" y="672"/>
                </a:lnTo>
                <a:lnTo>
                  <a:pt x="3359" y="672"/>
                </a:lnTo>
                <a:lnTo>
                  <a:pt x="3359" y="1054"/>
                </a:lnTo>
                <a:lnTo>
                  <a:pt x="3260" y="1053"/>
                </a:lnTo>
                <a:lnTo>
                  <a:pt x="3260" y="557"/>
                </a:lnTo>
                <a:lnTo>
                  <a:pt x="3416" y="558"/>
                </a:lnTo>
                <a:lnTo>
                  <a:pt x="3548" y="928"/>
                </a:lnTo>
                <a:lnTo>
                  <a:pt x="3550" y="924"/>
                </a:lnTo>
                <a:lnTo>
                  <a:pt x="3550" y="557"/>
                </a:lnTo>
                <a:lnTo>
                  <a:pt x="3650" y="557"/>
                </a:lnTo>
                <a:lnTo>
                  <a:pt x="3650" y="10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752480"/>
            <a:ext cx="693396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ewpoi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sion &amp; Mis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ctivit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estbed(Mobile IPv6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mbedded Software Stac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d-Hoc Tiny Chip Develop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uro6IX Particip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esearch Are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Viewpoint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372600" y="2590920"/>
            <a:ext cx="4410000" cy="609480"/>
            <a:chOff x="9372600" y="2590920"/>
            <a:chExt cx="4410000" cy="609480"/>
          </a:xfrm>
        </p:grpSpPr>
        <p:sp>
          <p:nvSpPr>
            <p:cNvPr id="58" name=""/>
            <p:cNvSpPr/>
            <p:nvPr/>
          </p:nvSpPr>
          <p:spPr>
            <a:xfrm>
              <a:off x="9372600" y="259092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293120" y="289548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14000" y="320040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advTm="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Impact"/>
              </a:rPr>
              <a:t>Viewpoint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2133720"/>
            <a:ext cx="213372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Management Problem in Heterogeneous Network Integr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213372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IPv4 Address Spac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029200"/>
            <a:ext cx="213372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Difficult to us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81280"/>
            <a:ext cx="213372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Security(Hacking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52960" y="2057400"/>
            <a:ext cx="1295280" cy="2666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돋움"/>
              </a:rPr>
              <a:t>IPv6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돋움"/>
              </a:rPr>
              <a:t>Deploy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2133720"/>
            <a:ext cx="213336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Ubiquitous Networ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(All IP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213336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Public IP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5029200"/>
            <a:ext cx="213336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Convenient Intern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581280"/>
            <a:ext cx="213336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New Intern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Busines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295280"/>
            <a:ext cx="0" cy="43434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1295280"/>
            <a:ext cx="0" cy="43434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6386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1911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28195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12952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6386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1911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2952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124080"/>
            <a:ext cx="761760" cy="6858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ewpoi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124080"/>
            <a:ext cx="761760" cy="6858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Vision &amp; Mission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372600" y="2590920"/>
            <a:ext cx="4410000" cy="609480"/>
            <a:chOff x="9372600" y="2590920"/>
            <a:chExt cx="4410000" cy="609480"/>
          </a:xfrm>
        </p:grpSpPr>
        <p:sp>
          <p:nvSpPr>
            <p:cNvPr id="87" name=""/>
            <p:cNvSpPr/>
            <p:nvPr/>
          </p:nvSpPr>
          <p:spPr>
            <a:xfrm>
              <a:off x="9372600" y="259092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293120" y="289548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14000" y="320040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advTm="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Impact"/>
              </a:rPr>
              <a:t>Vision &amp; Mission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8862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85800" y="1143000"/>
            <a:ext cx="7772400" cy="5181120"/>
            <a:chOff x="685800" y="1143000"/>
            <a:chExt cx="7772400" cy="5181120"/>
          </a:xfrm>
        </p:grpSpPr>
        <p:sp>
          <p:nvSpPr>
            <p:cNvPr id="93" name=""/>
            <p:cNvSpPr/>
            <p:nvPr/>
          </p:nvSpPr>
          <p:spPr>
            <a:xfrm>
              <a:off x="1904760" y="2477520"/>
              <a:ext cx="6400800" cy="941760"/>
            </a:xfrm>
            <a:prstGeom prst="triangle">
              <a:avLst>
                <a:gd name="adj" fmla="val 49829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6c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52480" y="1143000"/>
              <a:ext cx="6629400" cy="11775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돋움"/>
                </a:rPr>
                <a:t>Ubiquitous Network Enabl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(Bridge over the Home and Mobile and Office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4518720"/>
              <a:ext cx="1066680" cy="1805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Key issu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4518720"/>
              <a:ext cx="2209680" cy="1805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IPv6 Standardization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Core IPv6 Tech. research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Biz. Area selection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Resources preparation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349812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hase Ⅰ(~’02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38120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reparation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4204440"/>
              <a:ext cx="1066680" cy="3139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rospect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42044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Create Base Platfor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480" y="4518720"/>
              <a:ext cx="2209680" cy="1805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H/W Devices/Systems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Wire/Wireless Device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HHP,PDA,WebPAD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Information appliance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IMT-2000 Syste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IPv6 Chip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49812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hase Ⅱ(‘03~’04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38120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Domestic(Korea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480" y="42044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Adopt to existing Biz.Are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160" y="4518720"/>
              <a:ext cx="2210040" cy="1805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Network Syste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Router/Switch etc.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Total Solution for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Home/Office/Mobil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8160" y="3498120"/>
              <a:ext cx="2210040" cy="313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hase Ⅲ(‘05~’06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8160" y="3812040"/>
              <a:ext cx="2210040" cy="313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Global(Worldwide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160" y="4204440"/>
              <a:ext cx="2210040" cy="313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Advance into new Biz.Are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sion &amp; Miss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6:17:32Z</dcterms:created>
  <dc:creator>삼성`</dc:creator>
  <dc:description/>
  <dc:language>en-US</dc:language>
  <cp:lastModifiedBy>최영곤</cp:lastModifiedBy>
  <cp:lastPrinted>2002-02-08T05:59:10Z</cp:lastPrinted>
  <dcterms:modified xsi:type="dcterms:W3CDTF">2002-04-29T06:10:17Z</dcterms:modified>
  <cp:revision>1416</cp:revision>
  <dc:subject/>
  <dc:title>OOO Sector Report</dc:title>
</cp:coreProperties>
</file>