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jpeg" ContentType="image/jpeg"/>
  <Override PartName="/ppt/media/image39.png" ContentType="image/png"/>
  <Override PartName="/ppt/media/image19.png" ContentType="image/png"/>
  <Override PartName="/ppt/media/image21.wmf" ContentType="image/x-wmf"/>
  <Override PartName="/ppt/media/image6.jpeg" ContentType="image/jpeg"/>
  <Override PartName="/ppt/media/image9.wmf" ContentType="image/x-wmf"/>
  <Override PartName="/ppt/media/image34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5.png" ContentType="image/png"/>
  <Override PartName="/ppt/media/image35.jpeg" ContentType="image/jpeg"/>
  <Override PartName="/ppt/media/image33.jpeg" ContentType="image/jpeg"/>
  <Override PartName="/ppt/media/image30.png" ContentType="image/png"/>
  <Override PartName="/ppt/media/image28.wmf" ContentType="image/x-wmf"/>
  <Override PartName="/ppt/media/image10.wmf" ContentType="image/x-wmf"/>
  <Override PartName="/ppt/media/image37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31.wmf" ContentType="image/x-wmf"/>
  <Override PartName="/ppt/media/image20.png" ContentType="image/png"/>
  <Override PartName="/ppt/media/image36.jpeg" ContentType="image/jpeg"/>
  <Override PartName="/ppt/media/image12.wmf" ContentType="image/x-wmf"/>
  <Override PartName="/ppt/media/image4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280" y="752400"/>
            <a:ext cx="495108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4200" y="4704120"/>
            <a:ext cx="53132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yan K. Ch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62520" y="6478560"/>
            <a:ext cx="1676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704C84-D0FE-402C-96AA-872D5A31D5A5}" type="slidenum">
              <a:rPr b="1" lang="en-US" sz="1600" spc="-1" strike="noStrike">
                <a:solidFill>
                  <a:srgbClr val="000000"/>
                </a:solidFill>
                <a:latin typeface="Times New Roman"/>
                <a:ea typeface="돋움체"/>
              </a:rPr>
              <a:t>&lt;number&gt;</a:t>
            </a:fld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67480" y="6478560"/>
            <a:ext cx="16765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돋움체"/>
              </a:rPr>
              <a:t>i-Networking Lab.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3880" y="5335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391600" y="38160"/>
          <a:ext cx="6760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1600" y="38160"/>
                    <a:ext cx="676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esait_logo" descr=""/>
          <p:cNvPicPr/>
          <p:nvPr/>
        </p:nvPicPr>
        <p:blipFill>
          <a:blip r:embed="rId4"/>
          <a:stretch/>
        </p:blipFill>
        <p:spPr>
          <a:xfrm>
            <a:off x="0" y="0"/>
            <a:ext cx="142884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0.wmf"/><Relationship Id="rId12" Type="http://schemas.openxmlformats.org/officeDocument/2006/relationships/image" Target="../media/image14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4.wmf"/><Relationship Id="rId18" Type="http://schemas.openxmlformats.org/officeDocument/2006/relationships/image" Target="../media/image10.wmf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7.jpeg"/><Relationship Id="rId22" Type="http://schemas.openxmlformats.org/officeDocument/2006/relationships/oleObject" Target="../embeddings/oleObject1.bin"/><Relationship Id="rId23" Type="http://schemas.openxmlformats.org/officeDocument/2006/relationships/image" Target="../media/image17.png"/><Relationship Id="rId24" Type="http://schemas.openxmlformats.org/officeDocument/2006/relationships/image" Target="../media/image18.jpeg"/><Relationship Id="rId25" Type="http://schemas.openxmlformats.org/officeDocument/2006/relationships/oleObject" Target="../embeddings/oleObject2.bin"/><Relationship Id="rId26" Type="http://schemas.openxmlformats.org/officeDocument/2006/relationships/image" Target="../media/image17.png"/><Relationship Id="rId27" Type="http://schemas.openxmlformats.org/officeDocument/2006/relationships/image" Target="../media/image19.png"/><Relationship Id="rId28" Type="http://schemas.openxmlformats.org/officeDocument/2006/relationships/oleObject" Target="../embeddings/oleObject3.bin"/><Relationship Id="rId29" Type="http://schemas.openxmlformats.org/officeDocument/2006/relationships/image" Target="../media/image20.png"/><Relationship Id="rId30" Type="http://schemas.openxmlformats.org/officeDocument/2006/relationships/image" Target="../media/image21.wmf"/><Relationship Id="rId31" Type="http://schemas.openxmlformats.org/officeDocument/2006/relationships/image" Target="../media/image4.png"/><Relationship Id="rId32" Type="http://schemas.openxmlformats.org/officeDocument/2006/relationships/image" Target="../media/image21.wmf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png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image" Target="../media/image25.wmf"/><Relationship Id="rId12" Type="http://schemas.openxmlformats.org/officeDocument/2006/relationships/image" Target="../media/image26.png"/><Relationship Id="rId13" Type="http://schemas.openxmlformats.org/officeDocument/2006/relationships/image" Target="../media/image27.wmf"/><Relationship Id="rId14" Type="http://schemas.openxmlformats.org/officeDocument/2006/relationships/image" Target="../media/image25.wmf"/><Relationship Id="rId15" Type="http://schemas.openxmlformats.org/officeDocument/2006/relationships/image" Target="../media/image26.png"/><Relationship Id="rId16" Type="http://schemas.openxmlformats.org/officeDocument/2006/relationships/image" Target="../media/image25.wmf"/><Relationship Id="rId17" Type="http://schemas.openxmlformats.org/officeDocument/2006/relationships/image" Target="../media/image26.png"/><Relationship Id="rId18" Type="http://schemas.openxmlformats.org/officeDocument/2006/relationships/image" Target="../media/image25.wmf"/><Relationship Id="rId19" Type="http://schemas.openxmlformats.org/officeDocument/2006/relationships/image" Target="../media/image26.png"/><Relationship Id="rId20" Type="http://schemas.openxmlformats.org/officeDocument/2006/relationships/image" Target="../media/image27.wmf"/><Relationship Id="rId21" Type="http://schemas.openxmlformats.org/officeDocument/2006/relationships/image" Target="../media/image25.wmf"/><Relationship Id="rId22" Type="http://schemas.openxmlformats.org/officeDocument/2006/relationships/image" Target="../media/image26.png"/><Relationship Id="rId23" Type="http://schemas.openxmlformats.org/officeDocument/2006/relationships/image" Target="../media/image25.wmf"/><Relationship Id="rId24" Type="http://schemas.openxmlformats.org/officeDocument/2006/relationships/image" Target="../media/image26.png"/><Relationship Id="rId25" Type="http://schemas.openxmlformats.org/officeDocument/2006/relationships/image" Target="../media/image25.wmf"/><Relationship Id="rId26" Type="http://schemas.openxmlformats.org/officeDocument/2006/relationships/image" Target="../media/image26.png"/><Relationship Id="rId27" Type="http://schemas.openxmlformats.org/officeDocument/2006/relationships/image" Target="../media/image25.wmf"/><Relationship Id="rId28" Type="http://schemas.openxmlformats.org/officeDocument/2006/relationships/image" Target="../media/image26.png"/><Relationship Id="rId29" Type="http://schemas.openxmlformats.org/officeDocument/2006/relationships/image" Target="../media/image25.wmf"/><Relationship Id="rId30" Type="http://schemas.openxmlformats.org/officeDocument/2006/relationships/image" Target="../media/image26.png"/><Relationship Id="rId31" Type="http://schemas.openxmlformats.org/officeDocument/2006/relationships/image" Target="../media/image25.wmf"/><Relationship Id="rId32" Type="http://schemas.openxmlformats.org/officeDocument/2006/relationships/image" Target="../media/image26.png"/><Relationship Id="rId33" Type="http://schemas.openxmlformats.org/officeDocument/2006/relationships/image" Target="../media/image23.wmf"/><Relationship Id="rId34" Type="http://schemas.openxmlformats.org/officeDocument/2006/relationships/oleObject" Target="../embeddings/oleObject3.bin"/><Relationship Id="rId35" Type="http://schemas.openxmlformats.org/officeDocument/2006/relationships/image" Target="../media/image28.wmf"/><Relationship Id="rId36" Type="http://schemas.openxmlformats.org/officeDocument/2006/relationships/image" Target="../media/image25.wmf"/><Relationship Id="rId37" Type="http://schemas.openxmlformats.org/officeDocument/2006/relationships/image" Target="../media/image26.png"/><Relationship Id="rId38" Type="http://schemas.openxmlformats.org/officeDocument/2006/relationships/image" Target="../media/image25.wmf"/><Relationship Id="rId39" Type="http://schemas.openxmlformats.org/officeDocument/2006/relationships/image" Target="../media/image26.png"/><Relationship Id="rId40" Type="http://schemas.openxmlformats.org/officeDocument/2006/relationships/image" Target="../media/image23.wmf"/><Relationship Id="rId4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4.wmf"/><Relationship Id="rId4" Type="http://schemas.openxmlformats.org/officeDocument/2006/relationships/image" Target="../media/image8.wmf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image" Target="../media/image14.wmf"/><Relationship Id="rId8" Type="http://schemas.openxmlformats.org/officeDocument/2006/relationships/image" Target="../media/image19.png"/><Relationship Id="rId9" Type="http://schemas.openxmlformats.org/officeDocument/2006/relationships/image" Target="../media/image31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wmf"/><Relationship Id="rId9" Type="http://schemas.openxmlformats.org/officeDocument/2006/relationships/image" Target="../media/image39.png"/><Relationship Id="rId10" Type="http://schemas.openxmlformats.org/officeDocument/2006/relationships/image" Target="../media/image36.jpeg"/><Relationship Id="rId11" Type="http://schemas.openxmlformats.org/officeDocument/2006/relationships/image" Target="../media/image37.png"/><Relationship Id="rId12" Type="http://schemas.openxmlformats.org/officeDocument/2006/relationships/image" Target="../media/image36.jpeg"/><Relationship Id="rId13" Type="http://schemas.openxmlformats.org/officeDocument/2006/relationships/image" Target="../media/image14.wmf"/><Relationship Id="rId14" Type="http://schemas.openxmlformats.org/officeDocument/2006/relationships/image" Target="../media/image37.png"/><Relationship Id="rId15" Type="http://schemas.openxmlformats.org/officeDocument/2006/relationships/image" Target="../media/image36.jpeg"/><Relationship Id="rId16" Type="http://schemas.openxmlformats.org/officeDocument/2006/relationships/image" Target="../media/image14.wmf"/><Relationship Id="rId17" Type="http://schemas.openxmlformats.org/officeDocument/2006/relationships/image" Target="../media/image37.png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이미지원본" descr=""/>
          <p:cNvPicPr/>
          <p:nvPr/>
        </p:nvPicPr>
        <p:blipFill>
          <a:blip r:embed="rId1"/>
          <a:srcRect l="0" t="0" r="321" b="1494"/>
          <a:stretch/>
        </p:blipFill>
        <p:spPr>
          <a:xfrm flipH="1" rot="10800000">
            <a:off x="0" y="1294560"/>
            <a:ext cx="9178920" cy="2824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76"/>
            </a:outerShdw>
          </a:effectLst>
        </p:spPr>
      </p:pic>
      <p:sp>
        <p:nvSpPr>
          <p:cNvPr id="50" name=""/>
          <p:cNvSpPr/>
          <p:nvPr/>
        </p:nvSpPr>
        <p:spPr>
          <a:xfrm>
            <a:off x="92160" y="2389320"/>
            <a:ext cx="895644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2200" y="4267080"/>
            <a:ext cx="3819600" cy="1284480"/>
          </a:xfrm>
          <a:custGeom>
            <a:avLst/>
            <a:gdLst/>
            <a:ahLst/>
            <a:rect l="l" t="t" r="r" b="b"/>
            <a:pathLst>
              <a:path w="4810" h="1618">
                <a:moveTo>
                  <a:pt x="4807" y="381"/>
                </a:moveTo>
                <a:lnTo>
                  <a:pt x="4798" y="346"/>
                </a:lnTo>
                <a:lnTo>
                  <a:pt x="4782" y="314"/>
                </a:lnTo>
                <a:lnTo>
                  <a:pt x="4761" y="282"/>
                </a:lnTo>
                <a:lnTo>
                  <a:pt x="4734" y="252"/>
                </a:lnTo>
                <a:lnTo>
                  <a:pt x="4702" y="223"/>
                </a:lnTo>
                <a:lnTo>
                  <a:pt x="4663" y="197"/>
                </a:lnTo>
                <a:lnTo>
                  <a:pt x="4620" y="173"/>
                </a:lnTo>
                <a:lnTo>
                  <a:pt x="4571" y="148"/>
                </a:lnTo>
                <a:lnTo>
                  <a:pt x="4518" y="126"/>
                </a:lnTo>
                <a:lnTo>
                  <a:pt x="4460" y="106"/>
                </a:lnTo>
                <a:lnTo>
                  <a:pt x="4396" y="88"/>
                </a:lnTo>
                <a:lnTo>
                  <a:pt x="4330" y="71"/>
                </a:lnTo>
                <a:lnTo>
                  <a:pt x="4257" y="56"/>
                </a:lnTo>
                <a:lnTo>
                  <a:pt x="4182" y="43"/>
                </a:lnTo>
                <a:lnTo>
                  <a:pt x="4101" y="31"/>
                </a:lnTo>
                <a:lnTo>
                  <a:pt x="4018" y="22"/>
                </a:lnTo>
                <a:lnTo>
                  <a:pt x="3930" y="14"/>
                </a:lnTo>
                <a:lnTo>
                  <a:pt x="3839" y="8"/>
                </a:lnTo>
                <a:lnTo>
                  <a:pt x="3745" y="4"/>
                </a:lnTo>
                <a:lnTo>
                  <a:pt x="3647" y="2"/>
                </a:lnTo>
                <a:lnTo>
                  <a:pt x="3547" y="0"/>
                </a:lnTo>
                <a:lnTo>
                  <a:pt x="3443" y="2"/>
                </a:lnTo>
                <a:lnTo>
                  <a:pt x="3337" y="5"/>
                </a:lnTo>
                <a:lnTo>
                  <a:pt x="3227" y="11"/>
                </a:lnTo>
                <a:lnTo>
                  <a:pt x="3116" y="17"/>
                </a:lnTo>
                <a:lnTo>
                  <a:pt x="3003" y="27"/>
                </a:lnTo>
                <a:lnTo>
                  <a:pt x="2888" y="37"/>
                </a:lnTo>
                <a:lnTo>
                  <a:pt x="2769" y="51"/>
                </a:lnTo>
                <a:lnTo>
                  <a:pt x="2650" y="67"/>
                </a:lnTo>
                <a:lnTo>
                  <a:pt x="2529" y="83"/>
                </a:lnTo>
                <a:lnTo>
                  <a:pt x="2406" y="102"/>
                </a:lnTo>
                <a:lnTo>
                  <a:pt x="2282" y="123"/>
                </a:lnTo>
                <a:lnTo>
                  <a:pt x="2228" y="133"/>
                </a:lnTo>
                <a:lnTo>
                  <a:pt x="2176" y="143"/>
                </a:lnTo>
                <a:lnTo>
                  <a:pt x="2123" y="154"/>
                </a:lnTo>
                <a:lnTo>
                  <a:pt x="2071" y="165"/>
                </a:lnTo>
                <a:lnTo>
                  <a:pt x="2018" y="176"/>
                </a:lnTo>
                <a:lnTo>
                  <a:pt x="1967" y="186"/>
                </a:lnTo>
                <a:lnTo>
                  <a:pt x="1916" y="197"/>
                </a:lnTo>
                <a:lnTo>
                  <a:pt x="1865" y="209"/>
                </a:lnTo>
                <a:lnTo>
                  <a:pt x="1814" y="220"/>
                </a:lnTo>
                <a:lnTo>
                  <a:pt x="1765" y="232"/>
                </a:lnTo>
                <a:lnTo>
                  <a:pt x="1716" y="245"/>
                </a:lnTo>
                <a:lnTo>
                  <a:pt x="1666" y="259"/>
                </a:lnTo>
                <a:lnTo>
                  <a:pt x="1617" y="271"/>
                </a:lnTo>
                <a:lnTo>
                  <a:pt x="1569" y="283"/>
                </a:lnTo>
                <a:lnTo>
                  <a:pt x="1521" y="297"/>
                </a:lnTo>
                <a:lnTo>
                  <a:pt x="1475" y="309"/>
                </a:lnTo>
                <a:lnTo>
                  <a:pt x="1428" y="323"/>
                </a:lnTo>
                <a:lnTo>
                  <a:pt x="1382" y="337"/>
                </a:lnTo>
                <a:lnTo>
                  <a:pt x="1336" y="351"/>
                </a:lnTo>
                <a:lnTo>
                  <a:pt x="1291" y="366"/>
                </a:lnTo>
                <a:lnTo>
                  <a:pt x="1246" y="380"/>
                </a:lnTo>
                <a:lnTo>
                  <a:pt x="1203" y="394"/>
                </a:lnTo>
                <a:lnTo>
                  <a:pt x="1160" y="409"/>
                </a:lnTo>
                <a:lnTo>
                  <a:pt x="1116" y="423"/>
                </a:lnTo>
                <a:lnTo>
                  <a:pt x="1075" y="438"/>
                </a:lnTo>
                <a:lnTo>
                  <a:pt x="1033" y="454"/>
                </a:lnTo>
                <a:lnTo>
                  <a:pt x="993" y="469"/>
                </a:lnTo>
                <a:lnTo>
                  <a:pt x="953" y="484"/>
                </a:lnTo>
                <a:lnTo>
                  <a:pt x="913" y="500"/>
                </a:lnTo>
                <a:lnTo>
                  <a:pt x="874" y="515"/>
                </a:lnTo>
                <a:lnTo>
                  <a:pt x="835" y="532"/>
                </a:lnTo>
                <a:lnTo>
                  <a:pt x="798" y="547"/>
                </a:lnTo>
                <a:lnTo>
                  <a:pt x="826" y="550"/>
                </a:lnTo>
                <a:lnTo>
                  <a:pt x="852" y="557"/>
                </a:lnTo>
                <a:lnTo>
                  <a:pt x="875" y="569"/>
                </a:lnTo>
                <a:lnTo>
                  <a:pt x="897" y="584"/>
                </a:lnTo>
                <a:lnTo>
                  <a:pt x="914" y="604"/>
                </a:lnTo>
                <a:lnTo>
                  <a:pt x="928" y="630"/>
                </a:lnTo>
                <a:lnTo>
                  <a:pt x="934" y="663"/>
                </a:lnTo>
                <a:lnTo>
                  <a:pt x="936" y="701"/>
                </a:lnTo>
                <a:lnTo>
                  <a:pt x="829" y="702"/>
                </a:lnTo>
                <a:lnTo>
                  <a:pt x="829" y="689"/>
                </a:lnTo>
                <a:lnTo>
                  <a:pt x="828" y="676"/>
                </a:lnTo>
                <a:lnTo>
                  <a:pt x="823" y="667"/>
                </a:lnTo>
                <a:lnTo>
                  <a:pt x="817" y="658"/>
                </a:lnTo>
                <a:lnTo>
                  <a:pt x="809" y="650"/>
                </a:lnTo>
                <a:lnTo>
                  <a:pt x="800" y="646"/>
                </a:lnTo>
                <a:lnTo>
                  <a:pt x="787" y="643"/>
                </a:lnTo>
                <a:lnTo>
                  <a:pt x="775" y="641"/>
                </a:lnTo>
                <a:lnTo>
                  <a:pt x="766" y="643"/>
                </a:lnTo>
                <a:lnTo>
                  <a:pt x="758" y="646"/>
                </a:lnTo>
                <a:lnTo>
                  <a:pt x="750" y="650"/>
                </a:lnTo>
                <a:lnTo>
                  <a:pt x="744" y="655"/>
                </a:lnTo>
                <a:lnTo>
                  <a:pt x="738" y="663"/>
                </a:lnTo>
                <a:lnTo>
                  <a:pt x="733" y="670"/>
                </a:lnTo>
                <a:lnTo>
                  <a:pt x="732" y="678"/>
                </a:lnTo>
                <a:lnTo>
                  <a:pt x="730" y="687"/>
                </a:lnTo>
                <a:lnTo>
                  <a:pt x="732" y="699"/>
                </a:lnTo>
                <a:lnTo>
                  <a:pt x="736" y="710"/>
                </a:lnTo>
                <a:lnTo>
                  <a:pt x="743" y="719"/>
                </a:lnTo>
                <a:lnTo>
                  <a:pt x="750" y="727"/>
                </a:lnTo>
                <a:lnTo>
                  <a:pt x="760" y="733"/>
                </a:lnTo>
                <a:lnTo>
                  <a:pt x="770" y="738"/>
                </a:lnTo>
                <a:lnTo>
                  <a:pt x="781" y="742"/>
                </a:lnTo>
                <a:lnTo>
                  <a:pt x="792" y="745"/>
                </a:lnTo>
                <a:lnTo>
                  <a:pt x="817" y="753"/>
                </a:lnTo>
                <a:lnTo>
                  <a:pt x="843" y="761"/>
                </a:lnTo>
                <a:lnTo>
                  <a:pt x="869" y="772"/>
                </a:lnTo>
                <a:lnTo>
                  <a:pt x="894" y="785"/>
                </a:lnTo>
                <a:lnTo>
                  <a:pt x="916" y="805"/>
                </a:lnTo>
                <a:lnTo>
                  <a:pt x="933" y="832"/>
                </a:lnTo>
                <a:lnTo>
                  <a:pt x="943" y="865"/>
                </a:lnTo>
                <a:lnTo>
                  <a:pt x="948" y="910"/>
                </a:lnTo>
                <a:lnTo>
                  <a:pt x="945" y="947"/>
                </a:lnTo>
                <a:lnTo>
                  <a:pt x="934" y="977"/>
                </a:lnTo>
                <a:lnTo>
                  <a:pt x="919" y="1004"/>
                </a:lnTo>
                <a:lnTo>
                  <a:pt x="899" y="1025"/>
                </a:lnTo>
                <a:lnTo>
                  <a:pt x="872" y="1042"/>
                </a:lnTo>
                <a:lnTo>
                  <a:pt x="845" y="1054"/>
                </a:lnTo>
                <a:lnTo>
                  <a:pt x="815" y="1060"/>
                </a:lnTo>
                <a:lnTo>
                  <a:pt x="783" y="1062"/>
                </a:lnTo>
                <a:lnTo>
                  <a:pt x="750" y="1060"/>
                </a:lnTo>
                <a:lnTo>
                  <a:pt x="720" y="1056"/>
                </a:lnTo>
                <a:lnTo>
                  <a:pt x="690" y="1045"/>
                </a:lnTo>
                <a:lnTo>
                  <a:pt x="665" y="1030"/>
                </a:lnTo>
                <a:lnTo>
                  <a:pt x="645" y="1007"/>
                </a:lnTo>
                <a:lnTo>
                  <a:pt x="628" y="977"/>
                </a:lnTo>
                <a:lnTo>
                  <a:pt x="619" y="941"/>
                </a:lnTo>
                <a:lnTo>
                  <a:pt x="615" y="894"/>
                </a:lnTo>
                <a:lnTo>
                  <a:pt x="720" y="894"/>
                </a:lnTo>
                <a:lnTo>
                  <a:pt x="720" y="911"/>
                </a:lnTo>
                <a:lnTo>
                  <a:pt x="723" y="927"/>
                </a:lnTo>
                <a:lnTo>
                  <a:pt x="729" y="939"/>
                </a:lnTo>
                <a:lnTo>
                  <a:pt x="736" y="950"/>
                </a:lnTo>
                <a:lnTo>
                  <a:pt x="746" y="957"/>
                </a:lnTo>
                <a:lnTo>
                  <a:pt x="757" y="964"/>
                </a:lnTo>
                <a:lnTo>
                  <a:pt x="769" y="967"/>
                </a:lnTo>
                <a:lnTo>
                  <a:pt x="783" y="968"/>
                </a:lnTo>
                <a:lnTo>
                  <a:pt x="792" y="968"/>
                </a:lnTo>
                <a:lnTo>
                  <a:pt x="801" y="965"/>
                </a:lnTo>
                <a:lnTo>
                  <a:pt x="811" y="962"/>
                </a:lnTo>
                <a:lnTo>
                  <a:pt x="820" y="956"/>
                </a:lnTo>
                <a:lnTo>
                  <a:pt x="828" y="948"/>
                </a:lnTo>
                <a:lnTo>
                  <a:pt x="834" y="941"/>
                </a:lnTo>
                <a:lnTo>
                  <a:pt x="837" y="930"/>
                </a:lnTo>
                <a:lnTo>
                  <a:pt x="838" y="918"/>
                </a:lnTo>
                <a:lnTo>
                  <a:pt x="835" y="896"/>
                </a:lnTo>
                <a:lnTo>
                  <a:pt x="825" y="881"/>
                </a:lnTo>
                <a:lnTo>
                  <a:pt x="809" y="870"/>
                </a:lnTo>
                <a:lnTo>
                  <a:pt x="789" y="861"/>
                </a:lnTo>
                <a:lnTo>
                  <a:pt x="766" y="853"/>
                </a:lnTo>
                <a:lnTo>
                  <a:pt x="738" y="844"/>
                </a:lnTo>
                <a:lnTo>
                  <a:pt x="709" y="833"/>
                </a:lnTo>
                <a:lnTo>
                  <a:pt x="678" y="818"/>
                </a:lnTo>
                <a:lnTo>
                  <a:pt x="664" y="808"/>
                </a:lnTo>
                <a:lnTo>
                  <a:pt x="653" y="796"/>
                </a:lnTo>
                <a:lnTo>
                  <a:pt x="642" y="784"/>
                </a:lnTo>
                <a:lnTo>
                  <a:pt x="635" y="769"/>
                </a:lnTo>
                <a:lnTo>
                  <a:pt x="628" y="752"/>
                </a:lnTo>
                <a:lnTo>
                  <a:pt x="624" y="735"/>
                </a:lnTo>
                <a:lnTo>
                  <a:pt x="622" y="716"/>
                </a:lnTo>
                <a:lnTo>
                  <a:pt x="621" y="696"/>
                </a:lnTo>
                <a:lnTo>
                  <a:pt x="621" y="686"/>
                </a:lnTo>
                <a:lnTo>
                  <a:pt x="622" y="675"/>
                </a:lnTo>
                <a:lnTo>
                  <a:pt x="624" y="664"/>
                </a:lnTo>
                <a:lnTo>
                  <a:pt x="625" y="653"/>
                </a:lnTo>
                <a:lnTo>
                  <a:pt x="628" y="644"/>
                </a:lnTo>
                <a:lnTo>
                  <a:pt x="631" y="635"/>
                </a:lnTo>
                <a:lnTo>
                  <a:pt x="635" y="626"/>
                </a:lnTo>
                <a:lnTo>
                  <a:pt x="639" y="618"/>
                </a:lnTo>
                <a:lnTo>
                  <a:pt x="562" y="656"/>
                </a:lnTo>
                <a:lnTo>
                  <a:pt x="488" y="695"/>
                </a:lnTo>
                <a:lnTo>
                  <a:pt x="420" y="735"/>
                </a:lnTo>
                <a:lnTo>
                  <a:pt x="357" y="775"/>
                </a:lnTo>
                <a:lnTo>
                  <a:pt x="296" y="813"/>
                </a:lnTo>
                <a:lnTo>
                  <a:pt x="242" y="853"/>
                </a:lnTo>
                <a:lnTo>
                  <a:pt x="193" y="893"/>
                </a:lnTo>
                <a:lnTo>
                  <a:pt x="150" y="933"/>
                </a:lnTo>
                <a:lnTo>
                  <a:pt x="111" y="973"/>
                </a:lnTo>
                <a:lnTo>
                  <a:pt x="77" y="1011"/>
                </a:lnTo>
                <a:lnTo>
                  <a:pt x="49" y="1051"/>
                </a:lnTo>
                <a:lnTo>
                  <a:pt x="28" y="1090"/>
                </a:lnTo>
                <a:lnTo>
                  <a:pt x="12" y="1128"/>
                </a:lnTo>
                <a:lnTo>
                  <a:pt x="3" y="1165"/>
                </a:lnTo>
                <a:lnTo>
                  <a:pt x="0" y="1202"/>
                </a:lnTo>
                <a:lnTo>
                  <a:pt x="3" y="1239"/>
                </a:lnTo>
                <a:lnTo>
                  <a:pt x="12" y="1274"/>
                </a:lnTo>
                <a:lnTo>
                  <a:pt x="28" y="1306"/>
                </a:lnTo>
                <a:lnTo>
                  <a:pt x="49" y="1338"/>
                </a:lnTo>
                <a:lnTo>
                  <a:pt x="77" y="1368"/>
                </a:lnTo>
                <a:lnTo>
                  <a:pt x="110" y="1397"/>
                </a:lnTo>
                <a:lnTo>
                  <a:pt x="148" y="1423"/>
                </a:lnTo>
                <a:lnTo>
                  <a:pt x="191" y="1447"/>
                </a:lnTo>
                <a:lnTo>
                  <a:pt x="239" y="1472"/>
                </a:lnTo>
                <a:lnTo>
                  <a:pt x="293" y="1494"/>
                </a:lnTo>
                <a:lnTo>
                  <a:pt x="352" y="1514"/>
                </a:lnTo>
                <a:lnTo>
                  <a:pt x="415" y="1532"/>
                </a:lnTo>
                <a:lnTo>
                  <a:pt x="482" y="1549"/>
                </a:lnTo>
                <a:lnTo>
                  <a:pt x="554" y="1563"/>
                </a:lnTo>
                <a:lnTo>
                  <a:pt x="630" y="1577"/>
                </a:lnTo>
                <a:lnTo>
                  <a:pt x="710" y="1587"/>
                </a:lnTo>
                <a:lnTo>
                  <a:pt x="794" y="1596"/>
                </a:lnTo>
                <a:lnTo>
                  <a:pt x="882" y="1606"/>
                </a:lnTo>
                <a:lnTo>
                  <a:pt x="973" y="1610"/>
                </a:lnTo>
                <a:lnTo>
                  <a:pt x="1067" y="1615"/>
                </a:lnTo>
                <a:lnTo>
                  <a:pt x="1164" y="1618"/>
                </a:lnTo>
                <a:lnTo>
                  <a:pt x="1266" y="1618"/>
                </a:lnTo>
                <a:lnTo>
                  <a:pt x="1370" y="1616"/>
                </a:lnTo>
                <a:lnTo>
                  <a:pt x="1476" y="1613"/>
                </a:lnTo>
                <a:lnTo>
                  <a:pt x="1584" y="1607"/>
                </a:lnTo>
                <a:lnTo>
                  <a:pt x="1695" y="1601"/>
                </a:lnTo>
                <a:lnTo>
                  <a:pt x="1810" y="1592"/>
                </a:lnTo>
                <a:lnTo>
                  <a:pt x="1926" y="1581"/>
                </a:lnTo>
                <a:lnTo>
                  <a:pt x="2043" y="1567"/>
                </a:lnTo>
                <a:lnTo>
                  <a:pt x="2162" y="1552"/>
                </a:lnTo>
                <a:lnTo>
                  <a:pt x="2284" y="1535"/>
                </a:lnTo>
                <a:lnTo>
                  <a:pt x="2406" y="1517"/>
                </a:lnTo>
                <a:lnTo>
                  <a:pt x="2529" y="1495"/>
                </a:lnTo>
                <a:lnTo>
                  <a:pt x="2585" y="1484"/>
                </a:lnTo>
                <a:lnTo>
                  <a:pt x="2639" y="1475"/>
                </a:lnTo>
                <a:lnTo>
                  <a:pt x="2693" y="1464"/>
                </a:lnTo>
                <a:lnTo>
                  <a:pt x="2747" y="1454"/>
                </a:lnTo>
                <a:lnTo>
                  <a:pt x="2801" y="1441"/>
                </a:lnTo>
                <a:lnTo>
                  <a:pt x="2854" y="1431"/>
                </a:lnTo>
                <a:lnTo>
                  <a:pt x="2906" y="1418"/>
                </a:lnTo>
                <a:lnTo>
                  <a:pt x="2959" y="1408"/>
                </a:lnTo>
                <a:lnTo>
                  <a:pt x="3010" y="1395"/>
                </a:lnTo>
                <a:lnTo>
                  <a:pt x="3062" y="1383"/>
                </a:lnTo>
                <a:lnTo>
                  <a:pt x="3113" y="1369"/>
                </a:lnTo>
                <a:lnTo>
                  <a:pt x="3162" y="1357"/>
                </a:lnTo>
                <a:lnTo>
                  <a:pt x="3212" y="1343"/>
                </a:lnTo>
                <a:lnTo>
                  <a:pt x="3261" y="1331"/>
                </a:lnTo>
                <a:lnTo>
                  <a:pt x="3311" y="1317"/>
                </a:lnTo>
                <a:lnTo>
                  <a:pt x="3359" y="1303"/>
                </a:lnTo>
                <a:lnTo>
                  <a:pt x="3406" y="1289"/>
                </a:lnTo>
                <a:lnTo>
                  <a:pt x="3454" y="1275"/>
                </a:lnTo>
                <a:lnTo>
                  <a:pt x="3501" y="1260"/>
                </a:lnTo>
                <a:lnTo>
                  <a:pt x="3545" y="1246"/>
                </a:lnTo>
                <a:lnTo>
                  <a:pt x="3592" y="1231"/>
                </a:lnTo>
                <a:lnTo>
                  <a:pt x="3636" y="1216"/>
                </a:lnTo>
                <a:lnTo>
                  <a:pt x="3680" y="1202"/>
                </a:lnTo>
                <a:lnTo>
                  <a:pt x="3723" y="1186"/>
                </a:lnTo>
                <a:lnTo>
                  <a:pt x="3766" y="1171"/>
                </a:lnTo>
                <a:lnTo>
                  <a:pt x="3808" y="1156"/>
                </a:lnTo>
                <a:lnTo>
                  <a:pt x="3850" y="1139"/>
                </a:lnTo>
                <a:lnTo>
                  <a:pt x="3890" y="1123"/>
                </a:lnTo>
                <a:lnTo>
                  <a:pt x="3930" y="1108"/>
                </a:lnTo>
                <a:lnTo>
                  <a:pt x="3970" y="1091"/>
                </a:lnTo>
                <a:lnTo>
                  <a:pt x="4009" y="1076"/>
                </a:lnTo>
                <a:lnTo>
                  <a:pt x="4046" y="1059"/>
                </a:lnTo>
                <a:lnTo>
                  <a:pt x="4038" y="1060"/>
                </a:lnTo>
                <a:lnTo>
                  <a:pt x="4029" y="1060"/>
                </a:lnTo>
                <a:lnTo>
                  <a:pt x="4019" y="1062"/>
                </a:lnTo>
                <a:lnTo>
                  <a:pt x="4010" y="1062"/>
                </a:lnTo>
                <a:lnTo>
                  <a:pt x="3999" y="1063"/>
                </a:lnTo>
                <a:lnTo>
                  <a:pt x="3989" y="1063"/>
                </a:lnTo>
                <a:lnTo>
                  <a:pt x="3976" y="1063"/>
                </a:lnTo>
                <a:lnTo>
                  <a:pt x="3962" y="1063"/>
                </a:lnTo>
                <a:lnTo>
                  <a:pt x="3942" y="1062"/>
                </a:lnTo>
                <a:lnTo>
                  <a:pt x="3924" y="1057"/>
                </a:lnTo>
                <a:lnTo>
                  <a:pt x="3907" y="1051"/>
                </a:lnTo>
                <a:lnTo>
                  <a:pt x="3893" y="1043"/>
                </a:lnTo>
                <a:lnTo>
                  <a:pt x="3880" y="1033"/>
                </a:lnTo>
                <a:lnTo>
                  <a:pt x="3870" y="1020"/>
                </a:lnTo>
                <a:lnTo>
                  <a:pt x="3860" y="1007"/>
                </a:lnTo>
                <a:lnTo>
                  <a:pt x="3853" y="991"/>
                </a:lnTo>
                <a:lnTo>
                  <a:pt x="3847" y="973"/>
                </a:lnTo>
                <a:lnTo>
                  <a:pt x="3842" y="954"/>
                </a:lnTo>
                <a:lnTo>
                  <a:pt x="3837" y="933"/>
                </a:lnTo>
                <a:lnTo>
                  <a:pt x="3836" y="910"/>
                </a:lnTo>
                <a:lnTo>
                  <a:pt x="3833" y="887"/>
                </a:lnTo>
                <a:lnTo>
                  <a:pt x="3833" y="861"/>
                </a:lnTo>
                <a:lnTo>
                  <a:pt x="3831" y="833"/>
                </a:lnTo>
                <a:lnTo>
                  <a:pt x="3831" y="805"/>
                </a:lnTo>
                <a:lnTo>
                  <a:pt x="3831" y="776"/>
                </a:lnTo>
                <a:lnTo>
                  <a:pt x="3831" y="750"/>
                </a:lnTo>
                <a:lnTo>
                  <a:pt x="3833" y="724"/>
                </a:lnTo>
                <a:lnTo>
                  <a:pt x="3834" y="699"/>
                </a:lnTo>
                <a:lnTo>
                  <a:pt x="3837" y="676"/>
                </a:lnTo>
                <a:lnTo>
                  <a:pt x="3842" y="655"/>
                </a:lnTo>
                <a:lnTo>
                  <a:pt x="3847" y="636"/>
                </a:lnTo>
                <a:lnTo>
                  <a:pt x="3853" y="618"/>
                </a:lnTo>
                <a:lnTo>
                  <a:pt x="3859" y="603"/>
                </a:lnTo>
                <a:lnTo>
                  <a:pt x="3868" y="589"/>
                </a:lnTo>
                <a:lnTo>
                  <a:pt x="3879" y="577"/>
                </a:lnTo>
                <a:lnTo>
                  <a:pt x="3891" y="566"/>
                </a:lnTo>
                <a:lnTo>
                  <a:pt x="3907" y="558"/>
                </a:lnTo>
                <a:lnTo>
                  <a:pt x="3922" y="552"/>
                </a:lnTo>
                <a:lnTo>
                  <a:pt x="3941" y="547"/>
                </a:lnTo>
                <a:lnTo>
                  <a:pt x="3962" y="546"/>
                </a:lnTo>
                <a:lnTo>
                  <a:pt x="3996" y="546"/>
                </a:lnTo>
                <a:lnTo>
                  <a:pt x="4030" y="549"/>
                </a:lnTo>
                <a:lnTo>
                  <a:pt x="4063" y="557"/>
                </a:lnTo>
                <a:lnTo>
                  <a:pt x="4090" y="570"/>
                </a:lnTo>
                <a:lnTo>
                  <a:pt x="4115" y="590"/>
                </a:lnTo>
                <a:lnTo>
                  <a:pt x="4135" y="618"/>
                </a:lnTo>
                <a:lnTo>
                  <a:pt x="4148" y="656"/>
                </a:lnTo>
                <a:lnTo>
                  <a:pt x="4152" y="704"/>
                </a:lnTo>
                <a:lnTo>
                  <a:pt x="4047" y="704"/>
                </a:lnTo>
                <a:lnTo>
                  <a:pt x="4046" y="683"/>
                </a:lnTo>
                <a:lnTo>
                  <a:pt x="4041" y="666"/>
                </a:lnTo>
                <a:lnTo>
                  <a:pt x="4035" y="653"/>
                </a:lnTo>
                <a:lnTo>
                  <a:pt x="4026" y="647"/>
                </a:lnTo>
                <a:lnTo>
                  <a:pt x="4015" y="643"/>
                </a:lnTo>
                <a:lnTo>
                  <a:pt x="4002" y="641"/>
                </a:lnTo>
                <a:lnTo>
                  <a:pt x="3990" y="641"/>
                </a:lnTo>
                <a:lnTo>
                  <a:pt x="3978" y="643"/>
                </a:lnTo>
                <a:lnTo>
                  <a:pt x="3964" y="647"/>
                </a:lnTo>
                <a:lnTo>
                  <a:pt x="3955" y="658"/>
                </a:lnTo>
                <a:lnTo>
                  <a:pt x="3947" y="673"/>
                </a:lnTo>
                <a:lnTo>
                  <a:pt x="3944" y="695"/>
                </a:lnTo>
                <a:lnTo>
                  <a:pt x="3942" y="719"/>
                </a:lnTo>
                <a:lnTo>
                  <a:pt x="3942" y="745"/>
                </a:lnTo>
                <a:lnTo>
                  <a:pt x="3942" y="775"/>
                </a:lnTo>
                <a:lnTo>
                  <a:pt x="3942" y="805"/>
                </a:lnTo>
                <a:lnTo>
                  <a:pt x="3942" y="841"/>
                </a:lnTo>
                <a:lnTo>
                  <a:pt x="3944" y="871"/>
                </a:lnTo>
                <a:lnTo>
                  <a:pt x="3945" y="899"/>
                </a:lnTo>
                <a:lnTo>
                  <a:pt x="3950" y="924"/>
                </a:lnTo>
                <a:lnTo>
                  <a:pt x="3956" y="942"/>
                </a:lnTo>
                <a:lnTo>
                  <a:pt x="3965" y="956"/>
                </a:lnTo>
                <a:lnTo>
                  <a:pt x="3978" y="965"/>
                </a:lnTo>
                <a:lnTo>
                  <a:pt x="3995" y="968"/>
                </a:lnTo>
                <a:lnTo>
                  <a:pt x="4002" y="968"/>
                </a:lnTo>
                <a:lnTo>
                  <a:pt x="4010" y="967"/>
                </a:lnTo>
                <a:lnTo>
                  <a:pt x="4016" y="967"/>
                </a:lnTo>
                <a:lnTo>
                  <a:pt x="4024" y="965"/>
                </a:lnTo>
                <a:lnTo>
                  <a:pt x="4030" y="964"/>
                </a:lnTo>
                <a:lnTo>
                  <a:pt x="4038" y="962"/>
                </a:lnTo>
                <a:lnTo>
                  <a:pt x="4044" y="961"/>
                </a:lnTo>
                <a:lnTo>
                  <a:pt x="4050" y="959"/>
                </a:lnTo>
                <a:lnTo>
                  <a:pt x="4050" y="838"/>
                </a:lnTo>
                <a:lnTo>
                  <a:pt x="3973" y="836"/>
                </a:lnTo>
                <a:lnTo>
                  <a:pt x="3973" y="772"/>
                </a:lnTo>
                <a:lnTo>
                  <a:pt x="4155" y="773"/>
                </a:lnTo>
                <a:lnTo>
                  <a:pt x="4155" y="1010"/>
                </a:lnTo>
                <a:lnTo>
                  <a:pt x="4234" y="971"/>
                </a:lnTo>
                <a:lnTo>
                  <a:pt x="4310" y="931"/>
                </a:lnTo>
                <a:lnTo>
                  <a:pt x="4379" y="891"/>
                </a:lnTo>
                <a:lnTo>
                  <a:pt x="4446" y="851"/>
                </a:lnTo>
                <a:lnTo>
                  <a:pt x="4506" y="812"/>
                </a:lnTo>
                <a:lnTo>
                  <a:pt x="4561" y="770"/>
                </a:lnTo>
                <a:lnTo>
                  <a:pt x="4612" y="730"/>
                </a:lnTo>
                <a:lnTo>
                  <a:pt x="4657" y="690"/>
                </a:lnTo>
                <a:lnTo>
                  <a:pt x="4697" y="650"/>
                </a:lnTo>
                <a:lnTo>
                  <a:pt x="4731" y="610"/>
                </a:lnTo>
                <a:lnTo>
                  <a:pt x="4759" y="572"/>
                </a:lnTo>
                <a:lnTo>
                  <a:pt x="4781" y="532"/>
                </a:lnTo>
                <a:lnTo>
                  <a:pt x="4798" y="494"/>
                </a:lnTo>
                <a:lnTo>
                  <a:pt x="4807" y="455"/>
                </a:lnTo>
                <a:lnTo>
                  <a:pt x="4810" y="418"/>
                </a:lnTo>
                <a:lnTo>
                  <a:pt x="4807" y="381"/>
                </a:lnTo>
                <a:close/>
                <a:moveTo>
                  <a:pt x="1359" y="1054"/>
                </a:moveTo>
                <a:lnTo>
                  <a:pt x="1260" y="653"/>
                </a:lnTo>
                <a:lnTo>
                  <a:pt x="1258" y="655"/>
                </a:lnTo>
                <a:lnTo>
                  <a:pt x="1155" y="1054"/>
                </a:lnTo>
                <a:lnTo>
                  <a:pt x="1050" y="1053"/>
                </a:lnTo>
                <a:lnTo>
                  <a:pt x="1200" y="557"/>
                </a:lnTo>
                <a:lnTo>
                  <a:pt x="1328" y="557"/>
                </a:lnTo>
                <a:lnTo>
                  <a:pt x="1478" y="1054"/>
                </a:lnTo>
                <a:lnTo>
                  <a:pt x="1359" y="1054"/>
                </a:lnTo>
                <a:close/>
                <a:moveTo>
                  <a:pt x="2098" y="1054"/>
                </a:moveTo>
                <a:lnTo>
                  <a:pt x="1998" y="1054"/>
                </a:lnTo>
                <a:lnTo>
                  <a:pt x="1998" y="636"/>
                </a:lnTo>
                <a:lnTo>
                  <a:pt x="1997" y="635"/>
                </a:lnTo>
                <a:lnTo>
                  <a:pt x="1899" y="1054"/>
                </a:lnTo>
                <a:lnTo>
                  <a:pt x="1794" y="1054"/>
                </a:lnTo>
                <a:lnTo>
                  <a:pt x="1702" y="633"/>
                </a:lnTo>
                <a:lnTo>
                  <a:pt x="1702" y="633"/>
                </a:lnTo>
                <a:lnTo>
                  <a:pt x="1702" y="1054"/>
                </a:lnTo>
                <a:lnTo>
                  <a:pt x="1600" y="1054"/>
                </a:lnTo>
                <a:lnTo>
                  <a:pt x="1600" y="557"/>
                </a:lnTo>
                <a:lnTo>
                  <a:pt x="1783" y="557"/>
                </a:lnTo>
                <a:lnTo>
                  <a:pt x="1851" y="893"/>
                </a:lnTo>
                <a:lnTo>
                  <a:pt x="1853" y="893"/>
                </a:lnTo>
                <a:lnTo>
                  <a:pt x="1919" y="555"/>
                </a:lnTo>
                <a:lnTo>
                  <a:pt x="2098" y="557"/>
                </a:lnTo>
                <a:lnTo>
                  <a:pt x="2098" y="1054"/>
                </a:lnTo>
                <a:close/>
                <a:moveTo>
                  <a:pt x="2437" y="1063"/>
                </a:moveTo>
                <a:lnTo>
                  <a:pt x="2404" y="1062"/>
                </a:lnTo>
                <a:lnTo>
                  <a:pt x="2373" y="1056"/>
                </a:lnTo>
                <a:lnTo>
                  <a:pt x="2346" y="1045"/>
                </a:lnTo>
                <a:lnTo>
                  <a:pt x="2321" y="1030"/>
                </a:lnTo>
                <a:lnTo>
                  <a:pt x="2299" y="1007"/>
                </a:lnTo>
                <a:lnTo>
                  <a:pt x="2284" y="977"/>
                </a:lnTo>
                <a:lnTo>
                  <a:pt x="2273" y="941"/>
                </a:lnTo>
                <a:lnTo>
                  <a:pt x="2268" y="894"/>
                </a:lnTo>
                <a:lnTo>
                  <a:pt x="2375" y="894"/>
                </a:lnTo>
                <a:lnTo>
                  <a:pt x="2375" y="911"/>
                </a:lnTo>
                <a:lnTo>
                  <a:pt x="2380" y="927"/>
                </a:lnTo>
                <a:lnTo>
                  <a:pt x="2384" y="939"/>
                </a:lnTo>
                <a:lnTo>
                  <a:pt x="2392" y="950"/>
                </a:lnTo>
                <a:lnTo>
                  <a:pt x="2401" y="957"/>
                </a:lnTo>
                <a:lnTo>
                  <a:pt x="2413" y="964"/>
                </a:lnTo>
                <a:lnTo>
                  <a:pt x="2426" y="967"/>
                </a:lnTo>
                <a:lnTo>
                  <a:pt x="2440" y="968"/>
                </a:lnTo>
                <a:lnTo>
                  <a:pt x="2449" y="968"/>
                </a:lnTo>
                <a:lnTo>
                  <a:pt x="2457" y="965"/>
                </a:lnTo>
                <a:lnTo>
                  <a:pt x="2466" y="962"/>
                </a:lnTo>
                <a:lnTo>
                  <a:pt x="2475" y="956"/>
                </a:lnTo>
                <a:lnTo>
                  <a:pt x="2483" y="948"/>
                </a:lnTo>
                <a:lnTo>
                  <a:pt x="2489" y="941"/>
                </a:lnTo>
                <a:lnTo>
                  <a:pt x="2492" y="930"/>
                </a:lnTo>
                <a:lnTo>
                  <a:pt x="2494" y="918"/>
                </a:lnTo>
                <a:lnTo>
                  <a:pt x="2491" y="896"/>
                </a:lnTo>
                <a:lnTo>
                  <a:pt x="2480" y="881"/>
                </a:lnTo>
                <a:lnTo>
                  <a:pt x="2464" y="870"/>
                </a:lnTo>
                <a:lnTo>
                  <a:pt x="2444" y="861"/>
                </a:lnTo>
                <a:lnTo>
                  <a:pt x="2420" y="853"/>
                </a:lnTo>
                <a:lnTo>
                  <a:pt x="2392" y="844"/>
                </a:lnTo>
                <a:lnTo>
                  <a:pt x="2363" y="833"/>
                </a:lnTo>
                <a:lnTo>
                  <a:pt x="2332" y="818"/>
                </a:lnTo>
                <a:lnTo>
                  <a:pt x="2319" y="808"/>
                </a:lnTo>
                <a:lnTo>
                  <a:pt x="2307" y="796"/>
                </a:lnTo>
                <a:lnTo>
                  <a:pt x="2298" y="784"/>
                </a:lnTo>
                <a:lnTo>
                  <a:pt x="2290" y="769"/>
                </a:lnTo>
                <a:lnTo>
                  <a:pt x="2282" y="752"/>
                </a:lnTo>
                <a:lnTo>
                  <a:pt x="2278" y="735"/>
                </a:lnTo>
                <a:lnTo>
                  <a:pt x="2276" y="716"/>
                </a:lnTo>
                <a:lnTo>
                  <a:pt x="2275" y="696"/>
                </a:lnTo>
                <a:lnTo>
                  <a:pt x="2279" y="656"/>
                </a:lnTo>
                <a:lnTo>
                  <a:pt x="2292" y="624"/>
                </a:lnTo>
                <a:lnTo>
                  <a:pt x="2307" y="598"/>
                </a:lnTo>
                <a:lnTo>
                  <a:pt x="2329" y="577"/>
                </a:lnTo>
                <a:lnTo>
                  <a:pt x="2352" y="563"/>
                </a:lnTo>
                <a:lnTo>
                  <a:pt x="2380" y="553"/>
                </a:lnTo>
                <a:lnTo>
                  <a:pt x="2409" y="547"/>
                </a:lnTo>
                <a:lnTo>
                  <a:pt x="2438" y="546"/>
                </a:lnTo>
                <a:lnTo>
                  <a:pt x="2468" y="547"/>
                </a:lnTo>
                <a:lnTo>
                  <a:pt x="2495" y="553"/>
                </a:lnTo>
                <a:lnTo>
                  <a:pt x="2523" y="564"/>
                </a:lnTo>
                <a:lnTo>
                  <a:pt x="2546" y="580"/>
                </a:lnTo>
                <a:lnTo>
                  <a:pt x="2565" y="600"/>
                </a:lnTo>
                <a:lnTo>
                  <a:pt x="2580" y="627"/>
                </a:lnTo>
                <a:lnTo>
                  <a:pt x="2590" y="661"/>
                </a:lnTo>
                <a:lnTo>
                  <a:pt x="2591" y="701"/>
                </a:lnTo>
                <a:lnTo>
                  <a:pt x="2485" y="702"/>
                </a:lnTo>
                <a:lnTo>
                  <a:pt x="2485" y="689"/>
                </a:lnTo>
                <a:lnTo>
                  <a:pt x="2483" y="676"/>
                </a:lnTo>
                <a:lnTo>
                  <a:pt x="2478" y="667"/>
                </a:lnTo>
                <a:lnTo>
                  <a:pt x="2472" y="658"/>
                </a:lnTo>
                <a:lnTo>
                  <a:pt x="2464" y="650"/>
                </a:lnTo>
                <a:lnTo>
                  <a:pt x="2455" y="646"/>
                </a:lnTo>
                <a:lnTo>
                  <a:pt x="2443" y="644"/>
                </a:lnTo>
                <a:lnTo>
                  <a:pt x="2429" y="643"/>
                </a:lnTo>
                <a:lnTo>
                  <a:pt x="2413" y="646"/>
                </a:lnTo>
                <a:lnTo>
                  <a:pt x="2400" y="655"/>
                </a:lnTo>
                <a:lnTo>
                  <a:pt x="2389" y="670"/>
                </a:lnTo>
                <a:lnTo>
                  <a:pt x="2386" y="687"/>
                </a:lnTo>
                <a:lnTo>
                  <a:pt x="2387" y="699"/>
                </a:lnTo>
                <a:lnTo>
                  <a:pt x="2392" y="710"/>
                </a:lnTo>
                <a:lnTo>
                  <a:pt x="2398" y="719"/>
                </a:lnTo>
                <a:lnTo>
                  <a:pt x="2406" y="727"/>
                </a:lnTo>
                <a:lnTo>
                  <a:pt x="2415" y="733"/>
                </a:lnTo>
                <a:lnTo>
                  <a:pt x="2426" y="738"/>
                </a:lnTo>
                <a:lnTo>
                  <a:pt x="2437" y="742"/>
                </a:lnTo>
                <a:lnTo>
                  <a:pt x="2447" y="745"/>
                </a:lnTo>
                <a:lnTo>
                  <a:pt x="2472" y="753"/>
                </a:lnTo>
                <a:lnTo>
                  <a:pt x="2500" y="761"/>
                </a:lnTo>
                <a:lnTo>
                  <a:pt x="2525" y="772"/>
                </a:lnTo>
                <a:lnTo>
                  <a:pt x="2549" y="785"/>
                </a:lnTo>
                <a:lnTo>
                  <a:pt x="2571" y="805"/>
                </a:lnTo>
                <a:lnTo>
                  <a:pt x="2588" y="832"/>
                </a:lnTo>
                <a:lnTo>
                  <a:pt x="2599" y="865"/>
                </a:lnTo>
                <a:lnTo>
                  <a:pt x="2603" y="910"/>
                </a:lnTo>
                <a:lnTo>
                  <a:pt x="2600" y="947"/>
                </a:lnTo>
                <a:lnTo>
                  <a:pt x="2590" y="977"/>
                </a:lnTo>
                <a:lnTo>
                  <a:pt x="2574" y="1005"/>
                </a:lnTo>
                <a:lnTo>
                  <a:pt x="2552" y="1025"/>
                </a:lnTo>
                <a:lnTo>
                  <a:pt x="2528" y="1042"/>
                </a:lnTo>
                <a:lnTo>
                  <a:pt x="2500" y="1054"/>
                </a:lnTo>
                <a:lnTo>
                  <a:pt x="2469" y="1060"/>
                </a:lnTo>
                <a:lnTo>
                  <a:pt x="2437" y="1063"/>
                </a:lnTo>
                <a:close/>
                <a:moveTo>
                  <a:pt x="3101" y="871"/>
                </a:moveTo>
                <a:lnTo>
                  <a:pt x="3096" y="919"/>
                </a:lnTo>
                <a:lnTo>
                  <a:pt x="3085" y="959"/>
                </a:lnTo>
                <a:lnTo>
                  <a:pt x="3070" y="993"/>
                </a:lnTo>
                <a:lnTo>
                  <a:pt x="3048" y="1019"/>
                </a:lnTo>
                <a:lnTo>
                  <a:pt x="3022" y="1039"/>
                </a:lnTo>
                <a:lnTo>
                  <a:pt x="2994" y="1053"/>
                </a:lnTo>
                <a:lnTo>
                  <a:pt x="2962" y="1060"/>
                </a:lnTo>
                <a:lnTo>
                  <a:pt x="2929" y="1063"/>
                </a:lnTo>
                <a:lnTo>
                  <a:pt x="2895" y="1060"/>
                </a:lnTo>
                <a:lnTo>
                  <a:pt x="2863" y="1053"/>
                </a:lnTo>
                <a:lnTo>
                  <a:pt x="2834" y="1039"/>
                </a:lnTo>
                <a:lnTo>
                  <a:pt x="2809" y="1019"/>
                </a:lnTo>
                <a:lnTo>
                  <a:pt x="2787" y="993"/>
                </a:lnTo>
                <a:lnTo>
                  <a:pt x="2770" y="959"/>
                </a:lnTo>
                <a:lnTo>
                  <a:pt x="2759" y="919"/>
                </a:lnTo>
                <a:lnTo>
                  <a:pt x="2756" y="871"/>
                </a:lnTo>
                <a:lnTo>
                  <a:pt x="2756" y="557"/>
                </a:lnTo>
                <a:lnTo>
                  <a:pt x="2857" y="557"/>
                </a:lnTo>
                <a:lnTo>
                  <a:pt x="2857" y="864"/>
                </a:lnTo>
                <a:lnTo>
                  <a:pt x="2858" y="887"/>
                </a:lnTo>
                <a:lnTo>
                  <a:pt x="2861" y="907"/>
                </a:lnTo>
                <a:lnTo>
                  <a:pt x="2867" y="925"/>
                </a:lnTo>
                <a:lnTo>
                  <a:pt x="2875" y="939"/>
                </a:lnTo>
                <a:lnTo>
                  <a:pt x="2886" y="951"/>
                </a:lnTo>
                <a:lnTo>
                  <a:pt x="2898" y="961"/>
                </a:lnTo>
                <a:lnTo>
                  <a:pt x="2912" y="967"/>
                </a:lnTo>
                <a:lnTo>
                  <a:pt x="2929" y="968"/>
                </a:lnTo>
                <a:lnTo>
                  <a:pt x="2946" y="967"/>
                </a:lnTo>
                <a:lnTo>
                  <a:pt x="2960" y="962"/>
                </a:lnTo>
                <a:lnTo>
                  <a:pt x="2972" y="953"/>
                </a:lnTo>
                <a:lnTo>
                  <a:pt x="2982" y="941"/>
                </a:lnTo>
                <a:lnTo>
                  <a:pt x="2989" y="925"/>
                </a:lnTo>
                <a:lnTo>
                  <a:pt x="2996" y="907"/>
                </a:lnTo>
                <a:lnTo>
                  <a:pt x="3000" y="887"/>
                </a:lnTo>
                <a:lnTo>
                  <a:pt x="3002" y="864"/>
                </a:lnTo>
                <a:lnTo>
                  <a:pt x="3002" y="555"/>
                </a:lnTo>
                <a:lnTo>
                  <a:pt x="3101" y="557"/>
                </a:lnTo>
                <a:lnTo>
                  <a:pt x="3101" y="871"/>
                </a:lnTo>
                <a:close/>
                <a:moveTo>
                  <a:pt x="3650" y="1054"/>
                </a:moveTo>
                <a:lnTo>
                  <a:pt x="3496" y="1054"/>
                </a:lnTo>
                <a:lnTo>
                  <a:pt x="3360" y="672"/>
                </a:lnTo>
                <a:lnTo>
                  <a:pt x="3359" y="672"/>
                </a:lnTo>
                <a:lnTo>
                  <a:pt x="3359" y="1054"/>
                </a:lnTo>
                <a:lnTo>
                  <a:pt x="3260" y="1053"/>
                </a:lnTo>
                <a:lnTo>
                  <a:pt x="3260" y="557"/>
                </a:lnTo>
                <a:lnTo>
                  <a:pt x="3416" y="558"/>
                </a:lnTo>
                <a:lnTo>
                  <a:pt x="3548" y="928"/>
                </a:lnTo>
                <a:lnTo>
                  <a:pt x="3550" y="924"/>
                </a:lnTo>
                <a:lnTo>
                  <a:pt x="3550" y="557"/>
                </a:lnTo>
                <a:lnTo>
                  <a:pt x="3650" y="557"/>
                </a:lnTo>
                <a:lnTo>
                  <a:pt x="3650" y="10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38412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077320" y="3505320"/>
            <a:ext cx="415800" cy="412560"/>
          </a:xfrm>
          <a:prstGeom prst="rect">
            <a:avLst/>
          </a:prstGeom>
          <a:ln w="0">
            <a:noFill/>
          </a:ln>
        </p:spPr>
      </p:pic>
      <p:pic>
        <p:nvPicPr>
          <p:cNvPr id="112" name="bmw" descr=""/>
          <p:cNvPicPr/>
          <p:nvPr/>
        </p:nvPicPr>
        <p:blipFill>
          <a:blip r:embed="rId3"/>
          <a:stretch/>
        </p:blipFill>
        <p:spPr>
          <a:xfrm>
            <a:off x="7696080" y="4267080"/>
            <a:ext cx="621000" cy="4003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7086600" y="4724280"/>
            <a:ext cx="533520" cy="470160"/>
            <a:chOff x="7086600" y="4724280"/>
            <a:chExt cx="533520" cy="470160"/>
          </a:xfrm>
        </p:grpSpPr>
        <p:pic>
          <p:nvPicPr>
            <p:cNvPr id="114" name="dell-PC" descr=""/>
            <p:cNvPicPr/>
            <p:nvPr/>
          </p:nvPicPr>
          <p:blipFill>
            <a:blip r:embed="rId4"/>
            <a:stretch/>
          </p:blipFill>
          <p:spPr>
            <a:xfrm>
              <a:off x="7089480" y="4724280"/>
              <a:ext cx="530640" cy="4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7086600" y="4758120"/>
              <a:ext cx="533520" cy="89280"/>
              <a:chOff x="7086600" y="4758120"/>
              <a:chExt cx="533520" cy="89280"/>
            </a:xfrm>
          </p:grpSpPr>
          <p:sp>
            <p:nvSpPr>
              <p:cNvPr id="116" name=""/>
              <p:cNvSpPr/>
              <p:nvPr/>
            </p:nvSpPr>
            <p:spPr>
              <a:xfrm>
                <a:off x="7086600" y="4761720"/>
                <a:ext cx="75600" cy="7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62200" y="4758120"/>
                <a:ext cx="11520" cy="84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468560" y="4759560"/>
                <a:ext cx="151560" cy="4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21120" y="4786920"/>
                <a:ext cx="99000" cy="5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7509600" y="4799160"/>
                <a:ext cx="11520" cy="48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715000" y="129528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>
            <a:lum contrast="72000"/>
          </a:blip>
          <a:stretch/>
        </p:blipFill>
        <p:spPr>
          <a:xfrm>
            <a:off x="6400800" y="1219320"/>
            <a:ext cx="533520" cy="501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>
            <a:lum contrast="72000"/>
          </a:blip>
          <a:stretch/>
        </p:blipFill>
        <p:spPr>
          <a:xfrm>
            <a:off x="4343400" y="2133720"/>
            <a:ext cx="533520" cy="501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848720" y="19810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76920" y="1752480"/>
            <a:ext cx="3124080" cy="2971800"/>
          </a:xfrm>
          <a:prstGeom prst="ellipse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7238880" y="1600200"/>
            <a:ext cx="476280" cy="384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4343400" y="2895480"/>
            <a:ext cx="458640" cy="30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14600" y="3052800"/>
            <a:ext cx="762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62320" y="2367000"/>
            <a:ext cx="685800" cy="533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81080" y="2061720"/>
            <a:ext cx="0" cy="6858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3000" y="2290680"/>
            <a:ext cx="533520" cy="533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62120" y="3052800"/>
            <a:ext cx="914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143000" y="4119480"/>
            <a:ext cx="457200" cy="152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09480" y="4271760"/>
            <a:ext cx="533520" cy="1522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914040" y="3966840"/>
            <a:ext cx="228600" cy="3049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43000" y="3281400"/>
            <a:ext cx="60948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Cloud"/>
          <p:cNvSpPr/>
          <p:nvPr/>
        </p:nvSpPr>
        <p:spPr>
          <a:xfrm>
            <a:off x="1523880" y="2762280"/>
            <a:ext cx="1289160" cy="519120"/>
          </a:xfrm>
          <a:prstGeom prst="pie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IPv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Network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685800" y="3738600"/>
            <a:ext cx="304920" cy="349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2"/>
          <a:stretch/>
        </p:blipFill>
        <p:spPr>
          <a:xfrm>
            <a:off x="533520" y="2840040"/>
            <a:ext cx="4507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914400" y="4148280"/>
            <a:ext cx="456120" cy="248400"/>
            <a:chOff x="914400" y="4148280"/>
            <a:chExt cx="456120" cy="248400"/>
          </a:xfrm>
        </p:grpSpPr>
        <p:grpSp>
          <p:nvGrpSpPr>
            <p:cNvPr id="141" name=""/>
            <p:cNvGrpSpPr/>
            <p:nvPr/>
          </p:nvGrpSpPr>
          <p:grpSpPr>
            <a:xfrm>
              <a:off x="924120" y="4157280"/>
              <a:ext cx="446400" cy="239400"/>
              <a:chOff x="924120" y="4157280"/>
              <a:chExt cx="446400" cy="239400"/>
            </a:xfrm>
          </p:grpSpPr>
          <p:sp>
            <p:nvSpPr>
              <p:cNvPr id="142" name=""/>
              <p:cNvSpPr/>
              <p:nvPr/>
            </p:nvSpPr>
            <p:spPr>
              <a:xfrm>
                <a:off x="924120" y="4235400"/>
                <a:ext cx="446400" cy="87480"/>
              </a:xfrm>
              <a:custGeom>
                <a:avLst/>
                <a:gdLst/>
                <a:ahLst/>
                <a:rect l="l" t="t" r="r" b="b"/>
                <a:pathLst>
                  <a:path w="232" h="37">
                    <a:moveTo>
                      <a:pt x="0" y="0"/>
                    </a:moveTo>
                    <a:lnTo>
                      <a:pt x="231" y="0"/>
                    </a:lnTo>
                    <a:lnTo>
                      <a:pt x="231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7360" y="4242600"/>
                <a:ext cx="44100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27360" y="4157280"/>
                <a:ext cx="441000" cy="154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14400" y="4223880"/>
              <a:ext cx="448920" cy="85320"/>
            </a:xfrm>
            <a:custGeom>
              <a:avLst/>
              <a:gdLst/>
              <a:ahLst/>
              <a:rect l="l" t="t" r="r" b="b"/>
              <a:pathLst>
                <a:path w="233" h="36">
                  <a:moveTo>
                    <a:pt x="0" y="0"/>
                  </a:moveTo>
                  <a:lnTo>
                    <a:pt x="232" y="0"/>
                  </a:lnTo>
                  <a:lnTo>
                    <a:pt x="232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8000" y="4231080"/>
              <a:ext cx="443520" cy="15408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8000" y="4148280"/>
              <a:ext cx="443520" cy="15156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001160" y="4167000"/>
              <a:ext cx="280440" cy="113040"/>
              <a:chOff x="1001160" y="4167000"/>
              <a:chExt cx="280440" cy="1130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001160" y="4167000"/>
                <a:ext cx="280440" cy="113040"/>
                <a:chOff x="1001160" y="4167000"/>
                <a:chExt cx="280440" cy="113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001160" y="4167000"/>
                  <a:ext cx="128520" cy="468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01160" y="4167000"/>
                  <a:ext cx="128520" cy="46800"/>
                </a:xfrm>
                <a:custGeom>
                  <a:avLst/>
                  <a:gdLst/>
                  <a:ahLst/>
                  <a:rect l="l" t="t" r="r" b="b"/>
                  <a:pathLst>
                    <a:path w="67" h="20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50" y="9"/>
                      </a:lnTo>
                      <a:lnTo>
                        <a:pt x="66" y="7"/>
                      </a:lnTo>
                      <a:lnTo>
                        <a:pt x="61" y="19"/>
                      </a:lnTo>
                      <a:lnTo>
                        <a:pt x="15" y="19"/>
                      </a:lnTo>
                      <a:lnTo>
                        <a:pt x="36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148760" y="4240080"/>
                  <a:ext cx="132840" cy="399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48760" y="4240080"/>
                  <a:ext cx="132840" cy="3996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68" y="13"/>
                      </a:moveTo>
                      <a:lnTo>
                        <a:pt x="51" y="16"/>
                      </a:lnTo>
                      <a:lnTo>
                        <a:pt x="16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51" y="0"/>
                      </a:lnTo>
                      <a:lnTo>
                        <a:pt x="34" y="5"/>
                      </a:lnTo>
                      <a:lnTo>
                        <a:pt x="68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010520" y="4167000"/>
                <a:ext cx="261360" cy="112680"/>
                <a:chOff x="1010520" y="4167000"/>
                <a:chExt cx="261360" cy="1126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139040" y="4167000"/>
                  <a:ext cx="132840" cy="468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9040" y="4167000"/>
                  <a:ext cx="132840" cy="4680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5"/>
                      </a:moveTo>
                      <a:lnTo>
                        <a:pt x="16" y="19"/>
                      </a:lnTo>
                      <a:lnTo>
                        <a:pt x="50" y="7"/>
                      </a:lnTo>
                      <a:lnTo>
                        <a:pt x="68" y="9"/>
                      </a:lnTo>
                      <a:lnTo>
                        <a:pt x="61" y="0"/>
                      </a:lnTo>
                      <a:lnTo>
                        <a:pt x="16" y="0"/>
                      </a:lnTo>
                      <a:lnTo>
                        <a:pt x="38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10520" y="4230360"/>
                  <a:ext cx="126720" cy="4932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10520" y="4230360"/>
                  <a:ext cx="126720" cy="49320"/>
                </a:xfrm>
                <a:custGeom>
                  <a:avLst/>
                  <a:gdLst/>
                  <a:ahLst/>
                  <a:rect l="l" t="t" r="r" b="b"/>
                  <a:pathLst>
                    <a:path w="66" h="21">
                      <a:moveTo>
                        <a:pt x="65" y="3"/>
                      </a:moveTo>
                      <a:lnTo>
                        <a:pt x="49" y="0"/>
                      </a:lnTo>
                      <a:lnTo>
                        <a:pt x="15" y="12"/>
                      </a:lnTo>
                      <a:lnTo>
                        <a:pt x="0" y="8"/>
                      </a:lnTo>
                      <a:lnTo>
                        <a:pt x="4" y="20"/>
                      </a:lnTo>
                      <a:lnTo>
                        <a:pt x="49" y="20"/>
                      </a:lnTo>
                      <a:lnTo>
                        <a:pt x="29" y="17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762120" y="1986120"/>
            <a:ext cx="533160" cy="501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1447920" y="3814920"/>
            <a:ext cx="380880" cy="425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304920" y="4195800"/>
            <a:ext cx="533160" cy="501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1219320" y="4500720"/>
            <a:ext cx="609480" cy="50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 flipV="1">
            <a:off x="1218960" y="4424040"/>
            <a:ext cx="152280" cy="2286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7"/>
          <a:stretch/>
        </p:blipFill>
        <p:spPr>
          <a:xfrm>
            <a:off x="1752480" y="1681200"/>
            <a:ext cx="451080" cy="441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8"/>
          <a:stretch/>
        </p:blipFill>
        <p:spPr>
          <a:xfrm>
            <a:off x="2743200" y="1986120"/>
            <a:ext cx="533520" cy="501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9"/>
          <a:stretch/>
        </p:blipFill>
        <p:spPr>
          <a:xfrm>
            <a:off x="3048120" y="2779560"/>
            <a:ext cx="498240" cy="473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 flipV="1">
            <a:off x="2133360" y="3281400"/>
            <a:ext cx="533160" cy="53352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68" name="camera2" descr=""/>
          <p:cNvPicPr/>
          <p:nvPr/>
        </p:nvPicPr>
        <p:blipFill>
          <a:blip r:embed="rId20"/>
          <a:stretch/>
        </p:blipFill>
        <p:spPr>
          <a:xfrm>
            <a:off x="5791320" y="4876920"/>
            <a:ext cx="4572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2666880" y="3782880"/>
            <a:ext cx="533520" cy="470160"/>
            <a:chOff x="2666880" y="3782880"/>
            <a:chExt cx="533520" cy="470160"/>
          </a:xfrm>
        </p:grpSpPr>
        <p:pic>
          <p:nvPicPr>
            <p:cNvPr id="170" name="dell-PC" descr=""/>
            <p:cNvPicPr/>
            <p:nvPr/>
          </p:nvPicPr>
          <p:blipFill>
            <a:blip r:embed="rId21"/>
            <a:stretch/>
          </p:blipFill>
          <p:spPr>
            <a:xfrm>
              <a:off x="2669760" y="3782880"/>
              <a:ext cx="530640" cy="47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"/>
            <p:cNvGrpSpPr/>
            <p:nvPr/>
          </p:nvGrpSpPr>
          <p:grpSpPr>
            <a:xfrm>
              <a:off x="2666880" y="3816720"/>
              <a:ext cx="533520" cy="89280"/>
              <a:chOff x="2666880" y="3816720"/>
              <a:chExt cx="533520" cy="89280"/>
            </a:xfrm>
          </p:grpSpPr>
          <p:sp>
            <p:nvSpPr>
              <p:cNvPr id="172" name=""/>
              <p:cNvSpPr/>
              <p:nvPr/>
            </p:nvSpPr>
            <p:spPr>
              <a:xfrm>
                <a:off x="2666880" y="3820320"/>
                <a:ext cx="75600" cy="7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2480" y="3816720"/>
                <a:ext cx="11520" cy="84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48840" y="3818160"/>
                <a:ext cx="151560" cy="4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01400" y="3845520"/>
                <a:ext cx="99000" cy="5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3089880" y="3857760"/>
                <a:ext cx="11520" cy="482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7" name=""/>
          <p:cNvGraphicFramePr/>
          <p:nvPr/>
        </p:nvGraphicFramePr>
        <p:xfrm>
          <a:off x="838080" y="5230800"/>
          <a:ext cx="304920" cy="331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838080" y="5230800"/>
                    <a:ext cx="3049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709200" y="4485240"/>
            <a:ext cx="639000" cy="657000"/>
            <a:chOff x="709200" y="4485240"/>
            <a:chExt cx="639000" cy="657000"/>
          </a:xfrm>
        </p:grpSpPr>
        <p:sp>
          <p:nvSpPr>
            <p:cNvPr id="180" name=""/>
            <p:cNvSpPr/>
            <p:nvPr/>
          </p:nvSpPr>
          <p:spPr>
            <a:xfrm flipH="1" rot="7820400">
              <a:off x="765000" y="4636080"/>
              <a:ext cx="530640" cy="36864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7820400">
              <a:off x="758880" y="4623120"/>
              <a:ext cx="538560" cy="38088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82" name="kyl" descr=""/>
          <p:cNvPicPr/>
          <p:nvPr/>
        </p:nvPicPr>
        <p:blipFill>
          <a:blip r:embed="rId24"/>
          <a:srcRect l="26925" t="0" r="23099" b="0"/>
          <a:stretch/>
        </p:blipFill>
        <p:spPr>
          <a:xfrm>
            <a:off x="6477120" y="4876920"/>
            <a:ext cx="458640" cy="685800"/>
          </a:xfrm>
          <a:prstGeom prst="rect">
            <a:avLst/>
          </a:prstGeom>
          <a:ln w="0">
            <a:noFill/>
          </a:ln>
        </p:spPr>
      </p:pic>
      <p:cxnSp>
        <p:nvCxnSpPr>
          <p:cNvPr id="183" name=""/>
          <p:cNvCxnSpPr/>
          <p:nvPr/>
        </p:nvCxnSpPr>
        <p:spPr>
          <a:xfrm flipV="1">
            <a:off x="1294920" y="4772880"/>
            <a:ext cx="129636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</p:cxnSp>
      <p:graphicFrame>
        <p:nvGraphicFramePr>
          <p:cNvPr id="184" name=""/>
          <p:cNvGraphicFramePr/>
          <p:nvPr/>
        </p:nvGraphicFramePr>
        <p:xfrm>
          <a:off x="2666880" y="4545000"/>
          <a:ext cx="304920" cy="331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4545000"/>
                    <a:ext cx="3049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514600" y="48499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견고딕"/>
                <a:ea typeface="견고딕"/>
              </a:rPr>
              <a:t>Where? How?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87" name="wint2930" descr=""/>
          <p:cNvPicPr/>
          <p:nvPr/>
        </p:nvPicPr>
        <p:blipFill>
          <a:blip r:embed="rId27"/>
          <a:stretch/>
        </p:blipFill>
        <p:spPr>
          <a:xfrm>
            <a:off x="5181480" y="4724280"/>
            <a:ext cx="457200" cy="30636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4800600" y="1143000"/>
            <a:ext cx="838080" cy="939960"/>
            <a:chOff x="4800600" y="1143000"/>
            <a:chExt cx="838080" cy="939960"/>
          </a:xfrm>
        </p:grpSpPr>
        <p:graphicFrame>
          <p:nvGraphicFramePr>
            <p:cNvPr id="189" name=""/>
            <p:cNvGraphicFramePr/>
            <p:nvPr/>
          </p:nvGraphicFramePr>
          <p:xfrm>
            <a:off x="4800600" y="1676520"/>
            <a:ext cx="450720" cy="40644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4800600" y="1676520"/>
                      <a:ext cx="4507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1" name=""/>
            <p:cNvGrpSpPr/>
            <p:nvPr/>
          </p:nvGrpSpPr>
          <p:grpSpPr>
            <a:xfrm>
              <a:off x="4800600" y="1143000"/>
              <a:ext cx="838080" cy="914400"/>
              <a:chOff x="4800600" y="1143000"/>
              <a:chExt cx="838080" cy="914400"/>
            </a:xfrm>
          </p:grpSpPr>
          <p:sp>
            <p:nvSpPr>
              <p:cNvPr id="192" name=""/>
              <p:cNvSpPr/>
              <p:nvPr/>
            </p:nvSpPr>
            <p:spPr>
              <a:xfrm>
                <a:off x="5105520" y="152388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2880" y="137160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00600" y="12193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96000" y="1143000"/>
                <a:ext cx="5522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Times New Roman"/>
                    <a:ea typeface="ＭＳ Ｐゴシック"/>
                  </a:rPr>
                  <a:t>Wireless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Times New Roman"/>
                    <a:ea typeface="ＭＳ Ｐゴシック"/>
                  </a:rPr>
                  <a:t>LAN</a:t>
                </a:r>
                <a:endParaRPr b="0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1882080" y="3508560"/>
            <a:ext cx="884880" cy="832320"/>
            <a:chOff x="1882080" y="3508560"/>
            <a:chExt cx="884880" cy="832320"/>
          </a:xfrm>
        </p:grpSpPr>
        <p:sp>
          <p:nvSpPr>
            <p:cNvPr id="197" name=""/>
            <p:cNvSpPr/>
            <p:nvPr/>
          </p:nvSpPr>
          <p:spPr>
            <a:xfrm flipH="1" rot="7820400">
              <a:off x="2145240" y="3530520"/>
              <a:ext cx="375480" cy="81000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7820400">
              <a:off x="2133720" y="3505680"/>
              <a:ext cx="380880" cy="8373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666880" y="449568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42840" y="4543560"/>
            <a:ext cx="228600" cy="30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1" name="j0230477" descr=""/>
          <p:cNvPicPr/>
          <p:nvPr/>
        </p:nvPicPr>
        <p:blipFill>
          <a:blip r:embed="rId30"/>
          <a:stretch/>
        </p:blipFill>
        <p:spPr>
          <a:xfrm>
            <a:off x="0" y="1219320"/>
            <a:ext cx="503280" cy="533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61360" y="1219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Malicious user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152360" y="2743200"/>
            <a:ext cx="990720" cy="609480"/>
            <a:chOff x="1152360" y="2743200"/>
            <a:chExt cx="990720" cy="609480"/>
          </a:xfrm>
        </p:grpSpPr>
        <p:sp>
          <p:nvSpPr>
            <p:cNvPr id="204" name=""/>
            <p:cNvSpPr/>
            <p:nvPr/>
          </p:nvSpPr>
          <p:spPr>
            <a:xfrm>
              <a:off x="1152360" y="2743200"/>
              <a:ext cx="685800" cy="609480"/>
            </a:xfrm>
            <a:prstGeom prst="irregularSeal1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28954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견고딕"/>
                  <a:ea typeface="견고딕"/>
                </a:rPr>
                <a:t>Attack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cxnSp>
        <p:nvCxnSpPr>
          <p:cNvPr id="206" name=""/>
          <p:cNvCxnSpPr>
            <a:stCxn id="207" idx="0"/>
          </p:cNvCxnSpPr>
          <p:nvPr/>
        </p:nvCxnSpPr>
        <p:spPr>
          <a:xfrm flipH="1" flipV="1" rot="5400000">
            <a:off x="4317480" y="4773240"/>
            <a:ext cx="1372320" cy="20700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208" name="" descr=""/>
          <p:cNvPicPr/>
          <p:nvPr/>
        </p:nvPicPr>
        <p:blipFill>
          <a:blip r:embed="rId31"/>
          <a:stretch/>
        </p:blipFill>
        <p:spPr>
          <a:xfrm>
            <a:off x="8077320" y="2590920"/>
            <a:ext cx="384120" cy="609480"/>
          </a:xfrm>
          <a:prstGeom prst="rect">
            <a:avLst/>
          </a:prstGeom>
          <a:ln w="0">
            <a:noFill/>
          </a:ln>
        </p:spPr>
      </p:pic>
      <p:pic>
        <p:nvPicPr>
          <p:cNvPr id="209" name="j0230477" descr=""/>
          <p:cNvPicPr/>
          <p:nvPr/>
        </p:nvPicPr>
        <p:blipFill>
          <a:blip r:embed="rId32"/>
          <a:stretch/>
        </p:blipFill>
        <p:spPr>
          <a:xfrm>
            <a:off x="4648320" y="5562720"/>
            <a:ext cx="503280" cy="533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293720" y="59436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Malicious user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038480"/>
            <a:ext cx="685800" cy="609840"/>
          </a:xfrm>
          <a:prstGeom prst="irregularSeal1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견고딕"/>
                <a:ea typeface="견고딕"/>
              </a:rPr>
              <a:t>Attack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5204520" y="1956600"/>
            <a:ext cx="2470320" cy="2573280"/>
          </a:xfrm>
          <a:prstGeom prst="blockArc">
            <a:avLst>
              <a:gd name="adj1" fmla="val 10794613"/>
              <a:gd name="adj2" fmla="val 5387"/>
              <a:gd name="adj3" fmla="val 3227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16200000">
            <a:off x="5238720" y="1959120"/>
            <a:ext cx="2471760" cy="2573280"/>
          </a:xfrm>
          <a:prstGeom prst="blockArc">
            <a:avLst>
              <a:gd name="adj1" fmla="val 10794613"/>
              <a:gd name="adj2" fmla="val 5387"/>
              <a:gd name="adj3" fmla="val 3227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397400">
            <a:off x="5074560" y="2185200"/>
            <a:ext cx="2100240" cy="2162160"/>
          </a:xfrm>
          <a:prstGeom prst="blockArc">
            <a:avLst>
              <a:gd name="adj1" fmla="val 14843949"/>
              <a:gd name="adj2" fmla="val 17556051"/>
              <a:gd name="adj3" fmla="val 33921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9620600">
            <a:off x="5010120" y="1934640"/>
            <a:ext cx="2722680" cy="2641680"/>
          </a:xfrm>
          <a:prstGeom prst="blockArc">
            <a:avLst>
              <a:gd name="adj1" fmla="val 14393237"/>
              <a:gd name="adj2" fmla="val 18006763"/>
              <a:gd name="adj3" fmla="val 27551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1572800">
            <a:off x="5154120" y="1761840"/>
            <a:ext cx="2440080" cy="2805120"/>
          </a:xfrm>
          <a:prstGeom prst="blockArc">
            <a:avLst>
              <a:gd name="adj1" fmla="val 15383868"/>
              <a:gd name="adj2" fmla="val 17016132"/>
              <a:gd name="adj3" fmla="val 27324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3890600">
            <a:off x="5146560" y="2117520"/>
            <a:ext cx="2239920" cy="2392200"/>
          </a:xfrm>
          <a:prstGeom prst="blockArc">
            <a:avLst>
              <a:gd name="adj1" fmla="val 15047660"/>
              <a:gd name="adj2" fmla="val 17352340"/>
              <a:gd name="adj3" fmla="val 29977"/>
            </a:avLst>
          </a:prstGeom>
          <a:solidFill>
            <a:srgbClr val="759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7200" y="4178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6920" y="376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27640" y="3154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9240" y="22827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480200">
            <a:off x="5202000" y="1940040"/>
            <a:ext cx="2722320" cy="2641320"/>
          </a:xfrm>
          <a:prstGeom prst="blockArc">
            <a:avLst>
              <a:gd name="adj1" fmla="val 14748598"/>
              <a:gd name="adj2" fmla="val 17651402"/>
              <a:gd name="adj3" fmla="val 26921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8827800">
            <a:off x="5159160" y="1912680"/>
            <a:ext cx="2722320" cy="2641320"/>
          </a:xfrm>
          <a:prstGeom prst="blockArc">
            <a:avLst>
              <a:gd name="adj1" fmla="val 14393237"/>
              <a:gd name="adj2" fmla="val 18006763"/>
              <a:gd name="adj3" fmla="val 27551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27920" y="22845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3628800">
            <a:off x="5578560" y="1999800"/>
            <a:ext cx="2239920" cy="2392560"/>
          </a:xfrm>
          <a:prstGeom prst="blockArc">
            <a:avLst>
              <a:gd name="adj1" fmla="val 15554663"/>
              <a:gd name="adj2" fmla="val 16845337"/>
              <a:gd name="adj3" fmla="val 30106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4923000">
            <a:off x="5550480" y="2043720"/>
            <a:ext cx="2240280" cy="2394000"/>
          </a:xfrm>
          <a:prstGeom prst="blockArc">
            <a:avLst>
              <a:gd name="adj1" fmla="val 15601636"/>
              <a:gd name="adj2" fmla="val 16798364"/>
              <a:gd name="adj3" fmla="val 28644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6298200">
            <a:off x="5560200" y="2061000"/>
            <a:ext cx="2239920" cy="2394000"/>
          </a:xfrm>
          <a:prstGeom prst="blockArc">
            <a:avLst>
              <a:gd name="adj1" fmla="val 15554663"/>
              <a:gd name="adj2" fmla="val 16845337"/>
              <a:gd name="adj3" fmla="val 30106"/>
            </a:avLst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16720" y="26640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2360" y="3021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5640" y="34052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1360" y="3935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3" name="Cloud"/>
          <p:cNvSpPr/>
          <p:nvPr/>
        </p:nvSpPr>
        <p:spPr>
          <a:xfrm>
            <a:off x="5924520" y="2971800"/>
            <a:ext cx="1231920" cy="519120"/>
          </a:xfrm>
          <a:prstGeom prst="pie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IPv6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휴먼매직체"/>
                <a:ea typeface="휴먼매직체"/>
              </a:rPr>
              <a:t>Network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2" idx="1"/>
            <a:endCxn id="235" idx="0"/>
          </p:cNvCxnSpPr>
          <p:nvPr/>
        </p:nvCxnSpPr>
        <p:spPr>
          <a:xfrm flipV="1" rot="10800000">
            <a:off x="4266360" y="4327920"/>
            <a:ext cx="305640" cy="624600"/>
          </a:xfrm>
          <a:prstGeom prst="curvedConnector2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"/>
          <p:cNvCxnSpPr/>
          <p:nvPr/>
        </p:nvCxnSpPr>
        <p:spPr>
          <a:xfrm flipH="1" rot="16200000">
            <a:off x="204480" y="1880640"/>
            <a:ext cx="886680" cy="838800"/>
          </a:xfrm>
          <a:prstGeom prst="curvedConnector5">
            <a:avLst>
              <a:gd name="adj1" fmla="val 50000"/>
              <a:gd name="adj2" fmla="val 49978"/>
              <a:gd name="adj3" fmla="val 50000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7" name=""/>
          <p:cNvSpPr txBox="1"/>
          <p:nvPr/>
        </p:nvSpPr>
        <p:spPr>
          <a:xfrm rot="18873000">
            <a:off x="5448240" y="2484360"/>
            <a:ext cx="850680" cy="28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4553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Mobilit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38" name=""/>
          <p:cNvSpPr txBox="1"/>
          <p:nvPr/>
        </p:nvSpPr>
        <p:spPr>
          <a:xfrm rot="14319000">
            <a:off x="5314680" y="3168000"/>
            <a:ext cx="91440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754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IPsec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39" name=""/>
          <p:cNvSpPr txBox="1"/>
          <p:nvPr/>
        </p:nvSpPr>
        <p:spPr>
          <a:xfrm rot="11053800">
            <a:off x="5943600" y="3676320"/>
            <a:ext cx="380880" cy="45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238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QoS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40" name=""/>
          <p:cNvSpPr txBox="1"/>
          <p:nvPr/>
        </p:nvSpPr>
        <p:spPr>
          <a:xfrm rot="1996800">
            <a:off x="6295680" y="2376360"/>
            <a:ext cx="1212840" cy="733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93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Addressing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41" name=""/>
          <p:cNvSpPr txBox="1"/>
          <p:nvPr/>
        </p:nvSpPr>
        <p:spPr>
          <a:xfrm rot="7956600">
            <a:off x="6076080" y="3047040"/>
            <a:ext cx="159228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93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신그래픽"/>
              </a:rPr>
              <a:t>Autoconfinuration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신그래픽"/>
              <a:ea typeface="신그래픽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4952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견고딕"/>
                <a:ea typeface="견고딕"/>
              </a:rPr>
              <a:t>FAIL!!!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28880" y="3961800"/>
            <a:ext cx="702000" cy="36828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Times New Roman"/>
              </a:rPr>
              <a:t>IPse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55040" y="5409360"/>
            <a:ext cx="1020600" cy="36828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bility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0280" y="5561280"/>
            <a:ext cx="373932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eed to adopt embedded IPv6 stack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or any kinds of devic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2920" y="608760"/>
            <a:ext cx="753696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 technical base for BIZ. Opportunity and Leading IPv6 technology!!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Activitie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372600" y="2590920"/>
            <a:ext cx="4410000" cy="609480"/>
            <a:chOff x="9372600" y="2590920"/>
            <a:chExt cx="4410000" cy="609480"/>
          </a:xfrm>
        </p:grpSpPr>
        <p:sp>
          <p:nvSpPr>
            <p:cNvPr id="248" name=""/>
            <p:cNvSpPr/>
            <p:nvPr/>
          </p:nvSpPr>
          <p:spPr>
            <a:xfrm>
              <a:off x="9372600" y="259092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93120" y="289548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14000" y="320040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Activitie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advTm="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Impact"/>
              </a:rPr>
              <a:t>Activities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8862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Korean-IPv6-network(2002-04-18)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276720" cy="5257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838080"/>
            <a:ext cx="5638680" cy="5867640"/>
          </a:xfrm>
          <a:prstGeom prst="wedgeRectCallout">
            <a:avLst>
              <a:gd name="adj1" fmla="val 57319"/>
              <a:gd name="adj2" fmla="val 20750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73520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WWW/FTP/Video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4600" y="2733840"/>
            <a:ext cx="0" cy="331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90640" y="2466720"/>
            <a:ext cx="236520" cy="530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362320" y="1981080"/>
            <a:ext cx="2338200" cy="3463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0560" y="4583160"/>
            <a:ext cx="3822480" cy="20462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e2e2e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1" name="j0249811" descr=""/>
          <p:cNvPicPr/>
          <p:nvPr/>
        </p:nvPicPr>
        <p:blipFill>
          <a:blip r:embed="rId2"/>
          <a:stretch/>
        </p:blipFill>
        <p:spPr>
          <a:xfrm>
            <a:off x="2027160" y="2071800"/>
            <a:ext cx="379440" cy="48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515880" y="2071800"/>
          <a:ext cx="378000" cy="54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880" y="2071800"/>
                    <a:ext cx="37800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366920" y="2071800"/>
          <a:ext cx="377640" cy="54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6920" y="2071800"/>
                    <a:ext cx="37764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203120" y="17352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DNS/IRC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60" y="2733840"/>
            <a:ext cx="13683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00080" y="3065400"/>
            <a:ext cx="0" cy="1741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2840" y="167652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Cisc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130400" y="3129120"/>
            <a:ext cx="425520" cy="24429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040" y="4780080"/>
            <a:ext cx="284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040" y="4054320"/>
            <a:ext cx="284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6040" y="3262320"/>
            <a:ext cx="284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00080" y="3065400"/>
            <a:ext cx="4255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320" y="2536920"/>
            <a:ext cx="0" cy="196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5680" y="5821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Linux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(CN)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2280" y="3027240"/>
            <a:ext cx="330120" cy="422280"/>
            <a:chOff x="422280" y="3027240"/>
            <a:chExt cx="330120" cy="422280"/>
          </a:xfrm>
        </p:grpSpPr>
        <p:pic>
          <p:nvPicPr>
            <p:cNvPr id="278" name="j0239323" descr=""/>
            <p:cNvPicPr/>
            <p:nvPr/>
          </p:nvPicPr>
          <p:blipFill>
            <a:blip r:embed="rId7"/>
            <a:stretch/>
          </p:blipFill>
          <p:spPr>
            <a:xfrm>
              <a:off x="422280" y="3027240"/>
              <a:ext cx="3301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officialpenguin" descr="Linux Penguin"/>
            <p:cNvPicPr/>
            <p:nvPr/>
          </p:nvPicPr>
          <p:blipFill>
            <a:blip r:embed="rId8"/>
            <a:stretch/>
          </p:blipFill>
          <p:spPr>
            <a:xfrm>
              <a:off x="530280" y="3068280"/>
              <a:ext cx="6156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422280" y="3743280"/>
            <a:ext cx="330120" cy="422280"/>
            <a:chOff x="422280" y="3743280"/>
            <a:chExt cx="330120" cy="422280"/>
          </a:xfrm>
        </p:grpSpPr>
        <p:pic>
          <p:nvPicPr>
            <p:cNvPr id="281" name="j0239323" descr=""/>
            <p:cNvPicPr/>
            <p:nvPr/>
          </p:nvPicPr>
          <p:blipFill>
            <a:blip r:embed="rId9"/>
            <a:stretch/>
          </p:blipFill>
          <p:spPr>
            <a:xfrm>
              <a:off x="422280" y="3743280"/>
              <a:ext cx="3301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officialpenguin" descr="Linux Penguin"/>
            <p:cNvPicPr/>
            <p:nvPr/>
          </p:nvPicPr>
          <p:blipFill>
            <a:blip r:embed="rId10"/>
            <a:stretch/>
          </p:blipFill>
          <p:spPr>
            <a:xfrm>
              <a:off x="530280" y="3784320"/>
              <a:ext cx="6156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422280" y="4533840"/>
            <a:ext cx="330120" cy="425520"/>
            <a:chOff x="422280" y="4533840"/>
            <a:chExt cx="330120" cy="425520"/>
          </a:xfrm>
        </p:grpSpPr>
        <p:pic>
          <p:nvPicPr>
            <p:cNvPr id="284" name="j0239323" descr=""/>
            <p:cNvPicPr/>
            <p:nvPr/>
          </p:nvPicPr>
          <p:blipFill>
            <a:blip r:embed="rId11"/>
            <a:stretch/>
          </p:blipFill>
          <p:spPr>
            <a:xfrm>
              <a:off x="422280" y="4533840"/>
              <a:ext cx="33012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officialpenguin" descr="Linux Penguin"/>
            <p:cNvPicPr/>
            <p:nvPr/>
          </p:nvPicPr>
          <p:blipFill>
            <a:blip r:embed="rId12"/>
            <a:stretch/>
          </p:blipFill>
          <p:spPr>
            <a:xfrm>
              <a:off x="530280" y="4574880"/>
              <a:ext cx="61560" cy="12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38880" y="280656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Windows XP Hos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2440" y="359568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BSD Hos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4360" y="438948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Linux Hos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33560" y="4913280"/>
            <a:ext cx="660240" cy="65880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3560" y="5640480"/>
            <a:ext cx="660240" cy="65880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273320" y="5308560"/>
            <a:ext cx="471240" cy="2635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73320" y="5705640"/>
            <a:ext cx="517320" cy="1965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3"/>
          <a:stretch/>
        </p:blipFill>
        <p:spPr>
          <a:xfrm>
            <a:off x="2182680" y="5827680"/>
            <a:ext cx="189000" cy="265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50000" y="584352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Mobile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Nod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1956600" y="5459760"/>
            <a:ext cx="593640" cy="141480"/>
          </a:xfrm>
          <a:custGeom>
            <a:avLst/>
            <a:gdLst>
              <a:gd name="textAreaLeft" fmla="*/ 103680 w 593640"/>
              <a:gd name="textAreaRight" fmla="*/ 430560 w 593640"/>
              <a:gd name="textAreaTop" fmla="*/ 18720 h 141480"/>
              <a:gd name="textAreaBottom" fmla="*/ 1227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22360" y="549756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2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82480" y="61596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1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01640" y="5099040"/>
            <a:ext cx="331920" cy="407880"/>
            <a:chOff x="1601640" y="5099040"/>
            <a:chExt cx="331920" cy="407880"/>
          </a:xfrm>
        </p:grpSpPr>
        <p:pic>
          <p:nvPicPr>
            <p:cNvPr id="299" name="j0239323" descr=""/>
            <p:cNvPicPr/>
            <p:nvPr/>
          </p:nvPicPr>
          <p:blipFill>
            <a:blip r:embed="rId14"/>
            <a:stretch/>
          </p:blipFill>
          <p:spPr>
            <a:xfrm>
              <a:off x="1601640" y="5099040"/>
              <a:ext cx="3319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officialpenguin" descr="Linux Penguin"/>
            <p:cNvPicPr/>
            <p:nvPr/>
          </p:nvPicPr>
          <p:blipFill>
            <a:blip r:embed="rId15"/>
            <a:stretch/>
          </p:blipFill>
          <p:spPr>
            <a:xfrm>
              <a:off x="1710360" y="5138640"/>
              <a:ext cx="61920" cy="11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1035000" y="5429160"/>
            <a:ext cx="331920" cy="409680"/>
            <a:chOff x="1035000" y="5429160"/>
            <a:chExt cx="331920" cy="409680"/>
          </a:xfrm>
        </p:grpSpPr>
        <p:pic>
          <p:nvPicPr>
            <p:cNvPr id="302" name="j0239323" descr=""/>
            <p:cNvPicPr/>
            <p:nvPr/>
          </p:nvPicPr>
          <p:blipFill>
            <a:blip r:embed="rId16"/>
            <a:stretch/>
          </p:blipFill>
          <p:spPr>
            <a:xfrm>
              <a:off x="1035000" y="5429160"/>
              <a:ext cx="33192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officialpenguin" descr="Linux Penguin"/>
            <p:cNvPicPr/>
            <p:nvPr/>
          </p:nvPicPr>
          <p:blipFill>
            <a:blip r:embed="rId17"/>
            <a:stretch/>
          </p:blipFill>
          <p:spPr>
            <a:xfrm>
              <a:off x="1143720" y="5468760"/>
              <a:ext cx="61920" cy="1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1601640" y="5691240"/>
            <a:ext cx="331920" cy="409680"/>
            <a:chOff x="1601640" y="5691240"/>
            <a:chExt cx="331920" cy="409680"/>
          </a:xfrm>
        </p:grpSpPr>
        <p:pic>
          <p:nvPicPr>
            <p:cNvPr id="305" name="j0239323" descr=""/>
            <p:cNvPicPr/>
            <p:nvPr/>
          </p:nvPicPr>
          <p:blipFill>
            <a:blip r:embed="rId18"/>
            <a:stretch/>
          </p:blipFill>
          <p:spPr>
            <a:xfrm>
              <a:off x="1601640" y="5691240"/>
              <a:ext cx="33192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officialpenguin" descr="Linux Penguin"/>
            <p:cNvPicPr/>
            <p:nvPr/>
          </p:nvPicPr>
          <p:blipFill>
            <a:blip r:embed="rId19"/>
            <a:stretch/>
          </p:blipFill>
          <p:spPr>
            <a:xfrm>
              <a:off x="1710360" y="5730840"/>
              <a:ext cx="61920" cy="1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3821040" y="4716360"/>
            <a:ext cx="662040" cy="65736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9400" y="49068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Linux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(CN)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1040" y="5442120"/>
            <a:ext cx="662040" cy="658800"/>
          </a:xfrm>
          <a:prstGeom prst="ellipse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160800" y="5111640"/>
            <a:ext cx="471240" cy="2620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60800" y="5506920"/>
            <a:ext cx="520560" cy="19872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0"/>
          <a:stretch/>
        </p:blipFill>
        <p:spPr>
          <a:xfrm>
            <a:off x="4071960" y="5629320"/>
            <a:ext cx="189000" cy="26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40720" y="564840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Mobile 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Nod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3844800" y="5261040"/>
            <a:ext cx="595440" cy="141120"/>
          </a:xfrm>
          <a:custGeom>
            <a:avLst/>
            <a:gdLst>
              <a:gd name="textAreaLeft" fmla="*/ 104040 w 595440"/>
              <a:gd name="textAreaRight" fmla="*/ 431640 w 595440"/>
              <a:gd name="textAreaTop" fmla="*/ 18720 h 141120"/>
              <a:gd name="textAreaBottom" fmla="*/ 122400 h 14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9840" y="52164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4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75000" y="58230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Home Agent3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490920" y="4900680"/>
            <a:ext cx="330120" cy="407880"/>
            <a:chOff x="3490920" y="4900680"/>
            <a:chExt cx="330120" cy="407880"/>
          </a:xfrm>
        </p:grpSpPr>
        <p:pic>
          <p:nvPicPr>
            <p:cNvPr id="318" name="j0239323" descr=""/>
            <p:cNvPicPr/>
            <p:nvPr/>
          </p:nvPicPr>
          <p:blipFill>
            <a:blip r:embed="rId21"/>
            <a:stretch/>
          </p:blipFill>
          <p:spPr>
            <a:xfrm>
              <a:off x="3490920" y="4900680"/>
              <a:ext cx="3301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fficialpenguin" descr="Linux Penguin"/>
            <p:cNvPicPr/>
            <p:nvPr/>
          </p:nvPicPr>
          <p:blipFill>
            <a:blip r:embed="rId22"/>
            <a:stretch/>
          </p:blipFill>
          <p:spPr>
            <a:xfrm>
              <a:off x="3598920" y="4940280"/>
              <a:ext cx="61560" cy="11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925720" y="5308560"/>
            <a:ext cx="330120" cy="331920"/>
            <a:chOff x="2925720" y="5308560"/>
            <a:chExt cx="330120" cy="331920"/>
          </a:xfrm>
        </p:grpSpPr>
        <p:pic>
          <p:nvPicPr>
            <p:cNvPr id="321" name="j0239323" descr=""/>
            <p:cNvPicPr/>
            <p:nvPr/>
          </p:nvPicPr>
          <p:blipFill>
            <a:blip r:embed="rId23"/>
            <a:stretch/>
          </p:blipFill>
          <p:spPr>
            <a:xfrm>
              <a:off x="2925720" y="5308560"/>
              <a:ext cx="3301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officialpenguin" descr="Linux Penguin"/>
            <p:cNvPicPr/>
            <p:nvPr/>
          </p:nvPicPr>
          <p:blipFill>
            <a:blip r:embed="rId24"/>
            <a:stretch/>
          </p:blipFill>
          <p:spPr>
            <a:xfrm>
              <a:off x="3033720" y="5340600"/>
              <a:ext cx="61560" cy="9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3490920" y="5494320"/>
            <a:ext cx="330120" cy="407880"/>
            <a:chOff x="3490920" y="5494320"/>
            <a:chExt cx="330120" cy="407880"/>
          </a:xfrm>
        </p:grpSpPr>
        <p:pic>
          <p:nvPicPr>
            <p:cNvPr id="324" name="j0239323" descr=""/>
            <p:cNvPicPr/>
            <p:nvPr/>
          </p:nvPicPr>
          <p:blipFill>
            <a:blip r:embed="rId25"/>
            <a:stretch/>
          </p:blipFill>
          <p:spPr>
            <a:xfrm>
              <a:off x="3490920" y="5494320"/>
              <a:ext cx="33012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officialpenguin" descr="Linux Penguin"/>
            <p:cNvPicPr/>
            <p:nvPr/>
          </p:nvPicPr>
          <p:blipFill>
            <a:blip r:embed="rId26"/>
            <a:stretch/>
          </p:blipFill>
          <p:spPr>
            <a:xfrm>
              <a:off x="3598920" y="5533920"/>
              <a:ext cx="61560" cy="11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2288520" y="4419720"/>
            <a:ext cx="1247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Mobile IPv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9600" y="1609560"/>
            <a:ext cx="48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ETRI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576680" y="4078440"/>
            <a:ext cx="331920" cy="371160"/>
            <a:chOff x="4576680" y="4078440"/>
            <a:chExt cx="331920" cy="371160"/>
          </a:xfrm>
        </p:grpSpPr>
        <p:pic>
          <p:nvPicPr>
            <p:cNvPr id="329" name="j0239323" descr=""/>
            <p:cNvPicPr/>
            <p:nvPr/>
          </p:nvPicPr>
          <p:blipFill>
            <a:blip r:embed="rId27"/>
            <a:stretch/>
          </p:blipFill>
          <p:spPr>
            <a:xfrm>
              <a:off x="4576680" y="4078440"/>
              <a:ext cx="33192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officialpenguin" descr="Linux Penguin"/>
            <p:cNvPicPr/>
            <p:nvPr/>
          </p:nvPicPr>
          <p:blipFill>
            <a:blip r:embed="rId28"/>
            <a:stretch/>
          </p:blipFill>
          <p:spPr>
            <a:xfrm>
              <a:off x="4685400" y="4114440"/>
              <a:ext cx="61920" cy="1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"/>
          <p:cNvSpPr/>
          <p:nvPr/>
        </p:nvSpPr>
        <p:spPr>
          <a:xfrm>
            <a:off x="4435560" y="4527720"/>
            <a:ext cx="662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NAT-PT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49800" y="3065400"/>
            <a:ext cx="23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34760" y="309096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FreeBS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67200" y="3657600"/>
            <a:ext cx="801360" cy="65880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067200" y="3881520"/>
            <a:ext cx="330120" cy="369720"/>
            <a:chOff x="3067200" y="3881520"/>
            <a:chExt cx="330120" cy="369720"/>
          </a:xfrm>
        </p:grpSpPr>
        <p:pic>
          <p:nvPicPr>
            <p:cNvPr id="336" name="j0239323" descr=""/>
            <p:cNvPicPr/>
            <p:nvPr/>
          </p:nvPicPr>
          <p:blipFill>
            <a:blip r:embed="rId29"/>
            <a:stretch/>
          </p:blipFill>
          <p:spPr>
            <a:xfrm>
              <a:off x="3067200" y="3881520"/>
              <a:ext cx="330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officialpenguin" descr="Linux Penguin"/>
            <p:cNvPicPr/>
            <p:nvPr/>
          </p:nvPicPr>
          <p:blipFill>
            <a:blip r:embed="rId30"/>
            <a:stretch/>
          </p:blipFill>
          <p:spPr>
            <a:xfrm>
              <a:off x="3175200" y="3917160"/>
              <a:ext cx="61560" cy="10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3538440" y="3881520"/>
            <a:ext cx="330120" cy="369720"/>
            <a:chOff x="3538440" y="3881520"/>
            <a:chExt cx="330120" cy="369720"/>
          </a:xfrm>
        </p:grpSpPr>
        <p:pic>
          <p:nvPicPr>
            <p:cNvPr id="339" name="j0239323" descr=""/>
            <p:cNvPicPr/>
            <p:nvPr/>
          </p:nvPicPr>
          <p:blipFill>
            <a:blip r:embed="rId31"/>
            <a:stretch/>
          </p:blipFill>
          <p:spPr>
            <a:xfrm>
              <a:off x="3538440" y="3881520"/>
              <a:ext cx="33012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officialpenguin" descr="Linux Penguin"/>
            <p:cNvPicPr/>
            <p:nvPr/>
          </p:nvPicPr>
          <p:blipFill>
            <a:blip r:embed="rId32"/>
            <a:stretch/>
          </p:blipFill>
          <p:spPr>
            <a:xfrm>
              <a:off x="3646440" y="3917160"/>
              <a:ext cx="61560" cy="10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3349800" y="4054320"/>
            <a:ext cx="234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24360" y="3576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Confer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34760" y="4081320"/>
            <a:ext cx="6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FreeBSD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Router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600" y="4251240"/>
            <a:ext cx="2826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143680" y="4054320"/>
            <a:ext cx="463320" cy="395280"/>
            <a:chOff x="5143680" y="4054320"/>
            <a:chExt cx="463320" cy="395280"/>
          </a:xfrm>
        </p:grpSpPr>
        <p:sp>
          <p:nvSpPr>
            <p:cNvPr id="346" name=""/>
            <p:cNvSpPr/>
            <p:nvPr/>
          </p:nvSpPr>
          <p:spPr>
            <a:xfrm>
              <a:off x="5143680" y="4054320"/>
              <a:ext cx="463320" cy="395280"/>
            </a:xfrm>
            <a:custGeom>
              <a:avLst/>
              <a:gdLst/>
              <a:ahLst/>
              <a:rect l="l" t="t" r="r" b="b"/>
              <a:pathLst>
                <a:path w="1136" h="680">
                  <a:moveTo>
                    <a:pt x="167" y="504"/>
                  </a:moveTo>
                  <a:lnTo>
                    <a:pt x="179" y="531"/>
                  </a:lnTo>
                  <a:lnTo>
                    <a:pt x="195" y="556"/>
                  </a:lnTo>
                  <a:lnTo>
                    <a:pt x="210" y="579"/>
                  </a:lnTo>
                  <a:lnTo>
                    <a:pt x="228" y="600"/>
                  </a:lnTo>
                  <a:lnTo>
                    <a:pt x="248" y="619"/>
                  </a:lnTo>
                  <a:lnTo>
                    <a:pt x="269" y="635"/>
                  </a:lnTo>
                  <a:lnTo>
                    <a:pt x="291" y="650"/>
                  </a:lnTo>
                  <a:lnTo>
                    <a:pt x="314" y="661"/>
                  </a:lnTo>
                  <a:lnTo>
                    <a:pt x="337" y="670"/>
                  </a:lnTo>
                  <a:lnTo>
                    <a:pt x="361" y="676"/>
                  </a:lnTo>
                  <a:lnTo>
                    <a:pt x="385" y="679"/>
                  </a:lnTo>
                  <a:lnTo>
                    <a:pt x="410" y="680"/>
                  </a:lnTo>
                  <a:lnTo>
                    <a:pt x="434" y="677"/>
                  </a:lnTo>
                  <a:lnTo>
                    <a:pt x="459" y="672"/>
                  </a:lnTo>
                  <a:lnTo>
                    <a:pt x="482" y="664"/>
                  </a:lnTo>
                  <a:lnTo>
                    <a:pt x="505" y="653"/>
                  </a:lnTo>
                  <a:lnTo>
                    <a:pt x="527" y="640"/>
                  </a:lnTo>
                  <a:lnTo>
                    <a:pt x="548" y="624"/>
                  </a:lnTo>
                  <a:lnTo>
                    <a:pt x="568" y="605"/>
                  </a:lnTo>
                  <a:lnTo>
                    <a:pt x="588" y="624"/>
                  </a:lnTo>
                  <a:lnTo>
                    <a:pt x="609" y="640"/>
                  </a:lnTo>
                  <a:lnTo>
                    <a:pt x="631" y="653"/>
                  </a:lnTo>
                  <a:lnTo>
                    <a:pt x="654" y="664"/>
                  </a:lnTo>
                  <a:lnTo>
                    <a:pt x="677" y="672"/>
                  </a:lnTo>
                  <a:lnTo>
                    <a:pt x="702" y="677"/>
                  </a:lnTo>
                  <a:lnTo>
                    <a:pt x="726" y="680"/>
                  </a:lnTo>
                  <a:lnTo>
                    <a:pt x="750" y="679"/>
                  </a:lnTo>
                  <a:lnTo>
                    <a:pt x="775" y="676"/>
                  </a:lnTo>
                  <a:lnTo>
                    <a:pt x="799" y="670"/>
                  </a:lnTo>
                  <a:lnTo>
                    <a:pt x="822" y="661"/>
                  </a:lnTo>
                  <a:lnTo>
                    <a:pt x="845" y="650"/>
                  </a:lnTo>
                  <a:lnTo>
                    <a:pt x="867" y="635"/>
                  </a:lnTo>
                  <a:lnTo>
                    <a:pt x="887" y="619"/>
                  </a:lnTo>
                  <a:lnTo>
                    <a:pt x="907" y="600"/>
                  </a:lnTo>
                  <a:lnTo>
                    <a:pt x="925" y="579"/>
                  </a:lnTo>
                  <a:lnTo>
                    <a:pt x="942" y="556"/>
                  </a:lnTo>
                  <a:lnTo>
                    <a:pt x="956" y="531"/>
                  </a:lnTo>
                  <a:lnTo>
                    <a:pt x="969" y="504"/>
                  </a:lnTo>
                  <a:lnTo>
                    <a:pt x="985" y="509"/>
                  </a:lnTo>
                  <a:lnTo>
                    <a:pt x="1001" y="510"/>
                  </a:lnTo>
                  <a:lnTo>
                    <a:pt x="1017" y="509"/>
                  </a:lnTo>
                  <a:lnTo>
                    <a:pt x="1033" y="505"/>
                  </a:lnTo>
                  <a:lnTo>
                    <a:pt x="1049" y="499"/>
                  </a:lnTo>
                  <a:lnTo>
                    <a:pt x="1064" y="491"/>
                  </a:lnTo>
                  <a:lnTo>
                    <a:pt x="1078" y="481"/>
                  </a:lnTo>
                  <a:lnTo>
                    <a:pt x="1091" y="468"/>
                  </a:lnTo>
                  <a:lnTo>
                    <a:pt x="1103" y="453"/>
                  </a:lnTo>
                  <a:lnTo>
                    <a:pt x="1113" y="437"/>
                  </a:lnTo>
                  <a:lnTo>
                    <a:pt x="1121" y="419"/>
                  </a:lnTo>
                  <a:lnTo>
                    <a:pt x="1128" y="401"/>
                  </a:lnTo>
                  <a:lnTo>
                    <a:pt x="1132" y="381"/>
                  </a:lnTo>
                  <a:lnTo>
                    <a:pt x="1135" y="360"/>
                  </a:lnTo>
                  <a:lnTo>
                    <a:pt x="1136" y="339"/>
                  </a:lnTo>
                  <a:lnTo>
                    <a:pt x="1135" y="319"/>
                  </a:lnTo>
                  <a:lnTo>
                    <a:pt x="1132" y="299"/>
                  </a:lnTo>
                  <a:lnTo>
                    <a:pt x="1128" y="279"/>
                  </a:lnTo>
                  <a:lnTo>
                    <a:pt x="1121" y="260"/>
                  </a:lnTo>
                  <a:lnTo>
                    <a:pt x="1113" y="243"/>
                  </a:lnTo>
                  <a:lnTo>
                    <a:pt x="1103" y="226"/>
                  </a:lnTo>
                  <a:lnTo>
                    <a:pt x="1091" y="212"/>
                  </a:lnTo>
                  <a:lnTo>
                    <a:pt x="1078" y="199"/>
                  </a:lnTo>
                  <a:lnTo>
                    <a:pt x="1064" y="189"/>
                  </a:lnTo>
                  <a:lnTo>
                    <a:pt x="1049" y="180"/>
                  </a:lnTo>
                  <a:lnTo>
                    <a:pt x="1033" y="175"/>
                  </a:lnTo>
                  <a:lnTo>
                    <a:pt x="1017" y="171"/>
                  </a:lnTo>
                  <a:lnTo>
                    <a:pt x="1001" y="170"/>
                  </a:lnTo>
                  <a:lnTo>
                    <a:pt x="985" y="171"/>
                  </a:lnTo>
                  <a:lnTo>
                    <a:pt x="969" y="175"/>
                  </a:lnTo>
                  <a:lnTo>
                    <a:pt x="956" y="149"/>
                  </a:lnTo>
                  <a:lnTo>
                    <a:pt x="942" y="123"/>
                  </a:lnTo>
                  <a:lnTo>
                    <a:pt x="925" y="100"/>
                  </a:lnTo>
                  <a:lnTo>
                    <a:pt x="907" y="80"/>
                  </a:lnTo>
                  <a:lnTo>
                    <a:pt x="887" y="61"/>
                  </a:lnTo>
                  <a:lnTo>
                    <a:pt x="867" y="44"/>
                  </a:lnTo>
                  <a:lnTo>
                    <a:pt x="845" y="30"/>
                  </a:lnTo>
                  <a:lnTo>
                    <a:pt x="822" y="18"/>
                  </a:lnTo>
                  <a:lnTo>
                    <a:pt x="799" y="10"/>
                  </a:lnTo>
                  <a:lnTo>
                    <a:pt x="775" y="3"/>
                  </a:lnTo>
                  <a:lnTo>
                    <a:pt x="750" y="0"/>
                  </a:lnTo>
                  <a:lnTo>
                    <a:pt x="726" y="0"/>
                  </a:lnTo>
                  <a:lnTo>
                    <a:pt x="702" y="3"/>
                  </a:lnTo>
                  <a:lnTo>
                    <a:pt x="677" y="8"/>
                  </a:lnTo>
                  <a:lnTo>
                    <a:pt x="654" y="16"/>
                  </a:lnTo>
                  <a:lnTo>
                    <a:pt x="631" y="26"/>
                  </a:lnTo>
                  <a:lnTo>
                    <a:pt x="609" y="40"/>
                  </a:lnTo>
                  <a:lnTo>
                    <a:pt x="588" y="56"/>
                  </a:lnTo>
                  <a:lnTo>
                    <a:pt x="568" y="75"/>
                  </a:lnTo>
                  <a:lnTo>
                    <a:pt x="548" y="56"/>
                  </a:lnTo>
                  <a:lnTo>
                    <a:pt x="527" y="40"/>
                  </a:lnTo>
                  <a:lnTo>
                    <a:pt x="505" y="26"/>
                  </a:lnTo>
                  <a:lnTo>
                    <a:pt x="482" y="16"/>
                  </a:lnTo>
                  <a:lnTo>
                    <a:pt x="459" y="8"/>
                  </a:lnTo>
                  <a:lnTo>
                    <a:pt x="434" y="3"/>
                  </a:lnTo>
                  <a:lnTo>
                    <a:pt x="410" y="0"/>
                  </a:lnTo>
                  <a:lnTo>
                    <a:pt x="385" y="0"/>
                  </a:lnTo>
                  <a:lnTo>
                    <a:pt x="361" y="3"/>
                  </a:lnTo>
                  <a:lnTo>
                    <a:pt x="337" y="10"/>
                  </a:lnTo>
                  <a:lnTo>
                    <a:pt x="314" y="18"/>
                  </a:lnTo>
                  <a:lnTo>
                    <a:pt x="291" y="30"/>
                  </a:lnTo>
                  <a:lnTo>
                    <a:pt x="269" y="44"/>
                  </a:lnTo>
                  <a:lnTo>
                    <a:pt x="248" y="61"/>
                  </a:lnTo>
                  <a:lnTo>
                    <a:pt x="228" y="80"/>
                  </a:lnTo>
                  <a:lnTo>
                    <a:pt x="210" y="100"/>
                  </a:lnTo>
                  <a:lnTo>
                    <a:pt x="195" y="123"/>
                  </a:lnTo>
                  <a:lnTo>
                    <a:pt x="179" y="149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5" y="170"/>
                  </a:lnTo>
                  <a:lnTo>
                    <a:pt x="119" y="171"/>
                  </a:lnTo>
                  <a:lnTo>
                    <a:pt x="102" y="175"/>
                  </a:lnTo>
                  <a:lnTo>
                    <a:pt x="87" y="180"/>
                  </a:lnTo>
                  <a:lnTo>
                    <a:pt x="72" y="189"/>
                  </a:lnTo>
                  <a:lnTo>
                    <a:pt x="58" y="199"/>
                  </a:lnTo>
                  <a:lnTo>
                    <a:pt x="45" y="212"/>
                  </a:lnTo>
                  <a:lnTo>
                    <a:pt x="34" y="226"/>
                  </a:lnTo>
                  <a:lnTo>
                    <a:pt x="24" y="243"/>
                  </a:lnTo>
                  <a:lnTo>
                    <a:pt x="15" y="260"/>
                  </a:lnTo>
                  <a:lnTo>
                    <a:pt x="8" y="279"/>
                  </a:lnTo>
                  <a:lnTo>
                    <a:pt x="3" y="299"/>
                  </a:lnTo>
                  <a:lnTo>
                    <a:pt x="0" y="319"/>
                  </a:lnTo>
                  <a:lnTo>
                    <a:pt x="0" y="339"/>
                  </a:lnTo>
                  <a:lnTo>
                    <a:pt x="0" y="360"/>
                  </a:lnTo>
                  <a:lnTo>
                    <a:pt x="3" y="381"/>
                  </a:lnTo>
                  <a:lnTo>
                    <a:pt x="8" y="401"/>
                  </a:lnTo>
                  <a:lnTo>
                    <a:pt x="15" y="419"/>
                  </a:lnTo>
                  <a:lnTo>
                    <a:pt x="24" y="437"/>
                  </a:lnTo>
                  <a:lnTo>
                    <a:pt x="34" y="453"/>
                  </a:lnTo>
                  <a:lnTo>
                    <a:pt x="45" y="468"/>
                  </a:lnTo>
                  <a:lnTo>
                    <a:pt x="58" y="481"/>
                  </a:lnTo>
                  <a:lnTo>
                    <a:pt x="72" y="491"/>
                  </a:lnTo>
                  <a:lnTo>
                    <a:pt x="87" y="499"/>
                  </a:lnTo>
                  <a:lnTo>
                    <a:pt x="102" y="505"/>
                  </a:lnTo>
                  <a:lnTo>
                    <a:pt x="119" y="509"/>
                  </a:lnTo>
                  <a:lnTo>
                    <a:pt x="135" y="510"/>
                  </a:lnTo>
                  <a:lnTo>
                    <a:pt x="151" y="509"/>
                  </a:lnTo>
                  <a:lnTo>
                    <a:pt x="167" y="5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56720" y="4183560"/>
              <a:ext cx="217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Times New Roman"/>
                </a:rPr>
                <a:t>IPv4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303720" y="3262320"/>
            <a:ext cx="139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Windows 2000/XP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8160" y="3065400"/>
            <a:ext cx="12290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90640" y="3129120"/>
            <a:ext cx="0" cy="792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90640" y="3921120"/>
            <a:ext cx="13701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55920" y="2536920"/>
            <a:ext cx="0" cy="196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1240" y="4251240"/>
            <a:ext cx="139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Windows 2000/XP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4" name="j0249811" descr=""/>
          <p:cNvPicPr/>
          <p:nvPr/>
        </p:nvPicPr>
        <p:blipFill>
          <a:blip r:embed="rId33"/>
          <a:stretch/>
        </p:blipFill>
        <p:spPr>
          <a:xfrm>
            <a:off x="4724280" y="1676520"/>
            <a:ext cx="378000" cy="482400"/>
          </a:xfrm>
          <a:prstGeom prst="rect">
            <a:avLst/>
          </a:prstGeom>
          <a:ln w="0">
            <a:noFill/>
          </a:ln>
        </p:spPr>
      </p:pic>
      <p:cxnSp>
        <p:nvCxnSpPr>
          <p:cNvPr id="355" name=""/>
          <p:cNvCxnSpPr>
            <a:endCxn id="321" idx="1"/>
          </p:cNvCxnSpPr>
          <p:nvPr/>
        </p:nvCxnSpPr>
        <p:spPr>
          <a:xfrm flipH="1" rot="16200000">
            <a:off x="1001520" y="3549600"/>
            <a:ext cx="2542320" cy="1307160"/>
          </a:xfrm>
          <a:prstGeom prst="bentConnector4">
            <a:avLst>
              <a:gd name="adj1" fmla="val 49398"/>
              <a:gd name="adj2" fmla="val 57079"/>
            </a:avLst>
          </a:prstGeom>
          <a:ln w="9360">
            <a:solidFill>
              <a:srgbClr val="000099"/>
            </a:solidFill>
            <a:miter/>
          </a:ln>
        </p:spPr>
      </p:cxnSp>
      <p:graphicFrame>
        <p:nvGraphicFramePr>
          <p:cNvPr id="356" name=""/>
          <p:cNvGraphicFramePr/>
          <p:nvPr/>
        </p:nvGraphicFramePr>
        <p:xfrm>
          <a:off x="1035000" y="2932200"/>
          <a:ext cx="1168560" cy="436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035000" y="2932200"/>
                    <a:ext cx="1168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 rot="20887200">
            <a:off x="2357280" y="6234120"/>
            <a:ext cx="1346400" cy="196920"/>
          </a:xfrm>
          <a:custGeom>
            <a:avLst/>
            <a:gdLst>
              <a:gd name="textAreaLeft" fmla="*/ 235440 w 1346400"/>
              <a:gd name="textAreaRight" fmla="*/ 976320 w 1346400"/>
              <a:gd name="textAreaTop" fmla="*/ 26280 h 196920"/>
              <a:gd name="textAreaBottom" fmla="*/ 17064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2b2b2"/>
          </a:solidFill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2362320"/>
            <a:ext cx="2286000" cy="7596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13716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돋움"/>
              </a:rPr>
              <a:t>3FFE:2E01:2B::/48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Testbed(Mobile IPv6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3360" y="2209680"/>
            <a:ext cx="4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SIS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03720" y="1976400"/>
            <a:ext cx="604800" cy="617400"/>
          </a:xfrm>
          <a:custGeom>
            <a:avLst/>
            <a:gdLst/>
            <a:ahLst/>
            <a:rect l="l" t="t" r="r" b="b"/>
            <a:pathLst>
              <a:path w="1136" h="680">
                <a:moveTo>
                  <a:pt x="167" y="504"/>
                </a:moveTo>
                <a:lnTo>
                  <a:pt x="179" y="531"/>
                </a:lnTo>
                <a:lnTo>
                  <a:pt x="195" y="556"/>
                </a:lnTo>
                <a:lnTo>
                  <a:pt x="210" y="579"/>
                </a:lnTo>
                <a:lnTo>
                  <a:pt x="228" y="600"/>
                </a:lnTo>
                <a:lnTo>
                  <a:pt x="248" y="619"/>
                </a:lnTo>
                <a:lnTo>
                  <a:pt x="269" y="635"/>
                </a:lnTo>
                <a:lnTo>
                  <a:pt x="291" y="650"/>
                </a:lnTo>
                <a:lnTo>
                  <a:pt x="314" y="661"/>
                </a:lnTo>
                <a:lnTo>
                  <a:pt x="337" y="670"/>
                </a:lnTo>
                <a:lnTo>
                  <a:pt x="361" y="676"/>
                </a:lnTo>
                <a:lnTo>
                  <a:pt x="385" y="679"/>
                </a:lnTo>
                <a:lnTo>
                  <a:pt x="410" y="680"/>
                </a:lnTo>
                <a:lnTo>
                  <a:pt x="434" y="677"/>
                </a:lnTo>
                <a:lnTo>
                  <a:pt x="459" y="672"/>
                </a:lnTo>
                <a:lnTo>
                  <a:pt x="482" y="664"/>
                </a:lnTo>
                <a:lnTo>
                  <a:pt x="505" y="653"/>
                </a:lnTo>
                <a:lnTo>
                  <a:pt x="527" y="640"/>
                </a:lnTo>
                <a:lnTo>
                  <a:pt x="548" y="624"/>
                </a:lnTo>
                <a:lnTo>
                  <a:pt x="568" y="605"/>
                </a:lnTo>
                <a:lnTo>
                  <a:pt x="588" y="624"/>
                </a:lnTo>
                <a:lnTo>
                  <a:pt x="609" y="640"/>
                </a:lnTo>
                <a:lnTo>
                  <a:pt x="631" y="653"/>
                </a:lnTo>
                <a:lnTo>
                  <a:pt x="654" y="664"/>
                </a:lnTo>
                <a:lnTo>
                  <a:pt x="677" y="672"/>
                </a:lnTo>
                <a:lnTo>
                  <a:pt x="702" y="677"/>
                </a:lnTo>
                <a:lnTo>
                  <a:pt x="726" y="680"/>
                </a:lnTo>
                <a:lnTo>
                  <a:pt x="750" y="679"/>
                </a:lnTo>
                <a:lnTo>
                  <a:pt x="775" y="676"/>
                </a:lnTo>
                <a:lnTo>
                  <a:pt x="799" y="670"/>
                </a:lnTo>
                <a:lnTo>
                  <a:pt x="822" y="661"/>
                </a:lnTo>
                <a:lnTo>
                  <a:pt x="845" y="650"/>
                </a:lnTo>
                <a:lnTo>
                  <a:pt x="867" y="635"/>
                </a:lnTo>
                <a:lnTo>
                  <a:pt x="887" y="619"/>
                </a:lnTo>
                <a:lnTo>
                  <a:pt x="907" y="600"/>
                </a:lnTo>
                <a:lnTo>
                  <a:pt x="925" y="579"/>
                </a:lnTo>
                <a:lnTo>
                  <a:pt x="942" y="556"/>
                </a:lnTo>
                <a:lnTo>
                  <a:pt x="956" y="531"/>
                </a:lnTo>
                <a:lnTo>
                  <a:pt x="969" y="504"/>
                </a:lnTo>
                <a:lnTo>
                  <a:pt x="985" y="509"/>
                </a:lnTo>
                <a:lnTo>
                  <a:pt x="1001" y="510"/>
                </a:lnTo>
                <a:lnTo>
                  <a:pt x="1017" y="509"/>
                </a:lnTo>
                <a:lnTo>
                  <a:pt x="1033" y="505"/>
                </a:lnTo>
                <a:lnTo>
                  <a:pt x="1049" y="499"/>
                </a:lnTo>
                <a:lnTo>
                  <a:pt x="1064" y="491"/>
                </a:lnTo>
                <a:lnTo>
                  <a:pt x="1078" y="481"/>
                </a:lnTo>
                <a:lnTo>
                  <a:pt x="1091" y="468"/>
                </a:lnTo>
                <a:lnTo>
                  <a:pt x="1103" y="453"/>
                </a:lnTo>
                <a:lnTo>
                  <a:pt x="1113" y="437"/>
                </a:lnTo>
                <a:lnTo>
                  <a:pt x="1121" y="419"/>
                </a:lnTo>
                <a:lnTo>
                  <a:pt x="1128" y="401"/>
                </a:lnTo>
                <a:lnTo>
                  <a:pt x="1132" y="381"/>
                </a:lnTo>
                <a:lnTo>
                  <a:pt x="1135" y="360"/>
                </a:lnTo>
                <a:lnTo>
                  <a:pt x="1136" y="339"/>
                </a:lnTo>
                <a:lnTo>
                  <a:pt x="1135" y="319"/>
                </a:lnTo>
                <a:lnTo>
                  <a:pt x="1132" y="299"/>
                </a:lnTo>
                <a:lnTo>
                  <a:pt x="1128" y="279"/>
                </a:lnTo>
                <a:lnTo>
                  <a:pt x="1121" y="260"/>
                </a:lnTo>
                <a:lnTo>
                  <a:pt x="1113" y="243"/>
                </a:lnTo>
                <a:lnTo>
                  <a:pt x="1103" y="226"/>
                </a:lnTo>
                <a:lnTo>
                  <a:pt x="1091" y="212"/>
                </a:lnTo>
                <a:lnTo>
                  <a:pt x="1078" y="199"/>
                </a:lnTo>
                <a:lnTo>
                  <a:pt x="1064" y="189"/>
                </a:lnTo>
                <a:lnTo>
                  <a:pt x="1049" y="180"/>
                </a:lnTo>
                <a:lnTo>
                  <a:pt x="1033" y="175"/>
                </a:lnTo>
                <a:lnTo>
                  <a:pt x="1017" y="171"/>
                </a:lnTo>
                <a:lnTo>
                  <a:pt x="1001" y="170"/>
                </a:lnTo>
                <a:lnTo>
                  <a:pt x="985" y="171"/>
                </a:lnTo>
                <a:lnTo>
                  <a:pt x="969" y="175"/>
                </a:lnTo>
                <a:lnTo>
                  <a:pt x="956" y="149"/>
                </a:lnTo>
                <a:lnTo>
                  <a:pt x="942" y="123"/>
                </a:lnTo>
                <a:lnTo>
                  <a:pt x="925" y="100"/>
                </a:lnTo>
                <a:lnTo>
                  <a:pt x="907" y="80"/>
                </a:lnTo>
                <a:lnTo>
                  <a:pt x="887" y="61"/>
                </a:lnTo>
                <a:lnTo>
                  <a:pt x="867" y="44"/>
                </a:lnTo>
                <a:lnTo>
                  <a:pt x="845" y="30"/>
                </a:lnTo>
                <a:lnTo>
                  <a:pt x="822" y="18"/>
                </a:lnTo>
                <a:lnTo>
                  <a:pt x="799" y="10"/>
                </a:lnTo>
                <a:lnTo>
                  <a:pt x="775" y="3"/>
                </a:lnTo>
                <a:lnTo>
                  <a:pt x="750" y="0"/>
                </a:lnTo>
                <a:lnTo>
                  <a:pt x="726" y="0"/>
                </a:lnTo>
                <a:lnTo>
                  <a:pt x="702" y="3"/>
                </a:lnTo>
                <a:lnTo>
                  <a:pt x="677" y="8"/>
                </a:lnTo>
                <a:lnTo>
                  <a:pt x="654" y="16"/>
                </a:lnTo>
                <a:lnTo>
                  <a:pt x="631" y="26"/>
                </a:lnTo>
                <a:lnTo>
                  <a:pt x="609" y="40"/>
                </a:lnTo>
                <a:lnTo>
                  <a:pt x="588" y="56"/>
                </a:lnTo>
                <a:lnTo>
                  <a:pt x="568" y="75"/>
                </a:lnTo>
                <a:lnTo>
                  <a:pt x="548" y="56"/>
                </a:lnTo>
                <a:lnTo>
                  <a:pt x="527" y="40"/>
                </a:lnTo>
                <a:lnTo>
                  <a:pt x="505" y="26"/>
                </a:lnTo>
                <a:lnTo>
                  <a:pt x="482" y="16"/>
                </a:lnTo>
                <a:lnTo>
                  <a:pt x="459" y="8"/>
                </a:lnTo>
                <a:lnTo>
                  <a:pt x="434" y="3"/>
                </a:lnTo>
                <a:lnTo>
                  <a:pt x="410" y="0"/>
                </a:lnTo>
                <a:lnTo>
                  <a:pt x="385" y="0"/>
                </a:lnTo>
                <a:lnTo>
                  <a:pt x="361" y="3"/>
                </a:lnTo>
                <a:lnTo>
                  <a:pt x="337" y="10"/>
                </a:lnTo>
                <a:lnTo>
                  <a:pt x="314" y="18"/>
                </a:lnTo>
                <a:lnTo>
                  <a:pt x="291" y="30"/>
                </a:lnTo>
                <a:lnTo>
                  <a:pt x="269" y="44"/>
                </a:lnTo>
                <a:lnTo>
                  <a:pt x="248" y="61"/>
                </a:lnTo>
                <a:lnTo>
                  <a:pt x="228" y="80"/>
                </a:lnTo>
                <a:lnTo>
                  <a:pt x="210" y="100"/>
                </a:lnTo>
                <a:lnTo>
                  <a:pt x="195" y="123"/>
                </a:lnTo>
                <a:lnTo>
                  <a:pt x="179" y="149"/>
                </a:lnTo>
                <a:lnTo>
                  <a:pt x="167" y="175"/>
                </a:lnTo>
                <a:lnTo>
                  <a:pt x="151" y="171"/>
                </a:lnTo>
                <a:lnTo>
                  <a:pt x="135" y="170"/>
                </a:lnTo>
                <a:lnTo>
                  <a:pt x="119" y="171"/>
                </a:lnTo>
                <a:lnTo>
                  <a:pt x="102" y="175"/>
                </a:lnTo>
                <a:lnTo>
                  <a:pt x="87" y="180"/>
                </a:lnTo>
                <a:lnTo>
                  <a:pt x="72" y="189"/>
                </a:lnTo>
                <a:lnTo>
                  <a:pt x="58" y="199"/>
                </a:lnTo>
                <a:lnTo>
                  <a:pt x="45" y="212"/>
                </a:lnTo>
                <a:lnTo>
                  <a:pt x="34" y="226"/>
                </a:lnTo>
                <a:lnTo>
                  <a:pt x="24" y="243"/>
                </a:lnTo>
                <a:lnTo>
                  <a:pt x="15" y="260"/>
                </a:lnTo>
                <a:lnTo>
                  <a:pt x="8" y="279"/>
                </a:lnTo>
                <a:lnTo>
                  <a:pt x="3" y="299"/>
                </a:lnTo>
                <a:lnTo>
                  <a:pt x="0" y="319"/>
                </a:lnTo>
                <a:lnTo>
                  <a:pt x="0" y="339"/>
                </a:lnTo>
                <a:lnTo>
                  <a:pt x="0" y="360"/>
                </a:lnTo>
                <a:lnTo>
                  <a:pt x="3" y="381"/>
                </a:lnTo>
                <a:lnTo>
                  <a:pt x="8" y="401"/>
                </a:lnTo>
                <a:lnTo>
                  <a:pt x="15" y="419"/>
                </a:lnTo>
                <a:lnTo>
                  <a:pt x="24" y="437"/>
                </a:lnTo>
                <a:lnTo>
                  <a:pt x="34" y="453"/>
                </a:lnTo>
                <a:lnTo>
                  <a:pt x="45" y="468"/>
                </a:lnTo>
                <a:lnTo>
                  <a:pt x="58" y="481"/>
                </a:lnTo>
                <a:lnTo>
                  <a:pt x="72" y="491"/>
                </a:lnTo>
                <a:lnTo>
                  <a:pt x="87" y="499"/>
                </a:lnTo>
                <a:lnTo>
                  <a:pt x="102" y="505"/>
                </a:lnTo>
                <a:lnTo>
                  <a:pt x="119" y="509"/>
                </a:lnTo>
                <a:lnTo>
                  <a:pt x="135" y="510"/>
                </a:lnTo>
                <a:lnTo>
                  <a:pt x="151" y="509"/>
                </a:lnTo>
                <a:lnTo>
                  <a:pt x="167" y="504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276720" y="2590920"/>
            <a:ext cx="1523880" cy="3808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220032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IPv4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7200" y="2665440"/>
            <a:ext cx="801360" cy="6620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067200" y="2890800"/>
            <a:ext cx="330120" cy="371520"/>
            <a:chOff x="3067200" y="2890800"/>
            <a:chExt cx="330120" cy="371520"/>
          </a:xfrm>
        </p:grpSpPr>
        <p:pic>
          <p:nvPicPr>
            <p:cNvPr id="368" name="j0239323" descr=""/>
            <p:cNvPicPr/>
            <p:nvPr/>
          </p:nvPicPr>
          <p:blipFill>
            <a:blip r:embed="rId36"/>
            <a:stretch/>
          </p:blipFill>
          <p:spPr>
            <a:xfrm>
              <a:off x="3067200" y="2890800"/>
              <a:ext cx="3301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fficialpenguin" descr="Linux Penguin"/>
            <p:cNvPicPr/>
            <p:nvPr/>
          </p:nvPicPr>
          <p:blipFill>
            <a:blip r:embed="rId37"/>
            <a:stretch/>
          </p:blipFill>
          <p:spPr>
            <a:xfrm>
              <a:off x="3175200" y="2926800"/>
              <a:ext cx="61560" cy="10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3538440" y="2890800"/>
            <a:ext cx="330120" cy="371520"/>
            <a:chOff x="3538440" y="2890800"/>
            <a:chExt cx="330120" cy="371520"/>
          </a:xfrm>
        </p:grpSpPr>
        <p:pic>
          <p:nvPicPr>
            <p:cNvPr id="371" name="j0239323" descr=""/>
            <p:cNvPicPr/>
            <p:nvPr/>
          </p:nvPicPr>
          <p:blipFill>
            <a:blip r:embed="rId38"/>
            <a:stretch/>
          </p:blipFill>
          <p:spPr>
            <a:xfrm>
              <a:off x="3538440" y="2890800"/>
              <a:ext cx="3301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officialpenguin" descr="Linux Penguin"/>
            <p:cNvPicPr/>
            <p:nvPr/>
          </p:nvPicPr>
          <p:blipFill>
            <a:blip r:embed="rId39"/>
            <a:stretch/>
          </p:blipFill>
          <p:spPr>
            <a:xfrm>
              <a:off x="3646440" y="2926800"/>
              <a:ext cx="61560" cy="1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"/>
          <p:cNvSpPr/>
          <p:nvPr/>
        </p:nvSpPr>
        <p:spPr>
          <a:xfrm>
            <a:off x="3042000" y="2576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Video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Conference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74" name="j0249811" descr=""/>
          <p:cNvPicPr/>
          <p:nvPr/>
        </p:nvPicPr>
        <p:blipFill>
          <a:blip r:embed="rId40"/>
          <a:stretch/>
        </p:blipFill>
        <p:spPr>
          <a:xfrm>
            <a:off x="4648320" y="2286000"/>
            <a:ext cx="3776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3520" y="1295280"/>
            <a:ext cx="8076960" cy="42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core specific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Upcoming Operational Scenarios  (Mobility, QoS, IPsec,Multicast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Identifying and testing applications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Interoperability Issu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Research Conformance Issu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엽서체"/>
              </a:rPr>
              <a:t>Operational Experience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Testbed Purpos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57200" y="1676520"/>
            <a:ext cx="3962520" cy="4572000"/>
          </a:xfrm>
          <a:custGeom>
            <a:avLst/>
            <a:gdLst>
              <a:gd name="textAreaLeft" fmla="*/ 619200 w 3962520"/>
              <a:gd name="textAreaRight" fmla="*/ 3265920 w 3962520"/>
              <a:gd name="textAreaTop" fmla="*/ 735120 h 4572000"/>
              <a:gd name="textAreaBottom" fmla="*/ 3836880 h 4572000"/>
            </a:gdLst>
            <a:ahLst/>
            <a:rect l="textAreaLeft" t="textAreaTop" r="textAreaRight" b="textAreaBottom"/>
            <a:pathLst>
              <a:path w="21600" h="21600">
                <a:moveTo>
                  <a:pt x="3375" y="3473"/>
                </a:moveTo>
                <a:lnTo>
                  <a:pt x="16001" y="3473"/>
                </a:lnTo>
                <a:lnTo>
                  <a:pt x="16001" y="0"/>
                </a:lnTo>
                <a:lnTo>
                  <a:pt x="21600" y="10800"/>
                </a:lnTo>
                <a:lnTo>
                  <a:pt x="16001" y="21600"/>
                </a:lnTo>
                <a:lnTo>
                  <a:pt x="16001" y="18127"/>
                </a:lnTo>
                <a:lnTo>
                  <a:pt x="3375" y="18127"/>
                </a:lnTo>
                <a:close/>
              </a:path>
              <a:path w="21600" h="21600">
                <a:moveTo>
                  <a:pt x="0" y="3473"/>
                </a:moveTo>
                <a:lnTo>
                  <a:pt x="675" y="3473"/>
                </a:lnTo>
                <a:lnTo>
                  <a:pt x="675" y="18127"/>
                </a:lnTo>
                <a:lnTo>
                  <a:pt x="0" y="18127"/>
                </a:lnTo>
                <a:close/>
              </a:path>
              <a:path w="21600" h="21600">
                <a:moveTo>
                  <a:pt x="1350" y="3473"/>
                </a:moveTo>
                <a:lnTo>
                  <a:pt x="2700" y="3473"/>
                </a:lnTo>
                <a:lnTo>
                  <a:pt x="2700" y="18127"/>
                </a:lnTo>
                <a:lnTo>
                  <a:pt x="1350" y="18127"/>
                </a:lnTo>
                <a:close/>
              </a:path>
            </a:pathLst>
          </a:custGeom>
          <a:gradFill rotWithShape="0">
            <a:gsLst>
              <a:gs pos="0">
                <a:srgbClr val="c2c274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5760" y="3029040"/>
            <a:ext cx="2363760" cy="17524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stac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2200" y="4800600"/>
            <a:ext cx="1922400" cy="76212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mbedded Linux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Pv6 basic stack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Psec Funct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3360" y="2457360"/>
            <a:ext cx="1987560" cy="60984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bility Function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743200"/>
            <a:ext cx="4191120" cy="2438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usable IPv6 embedded stack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on Platfor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IOP at ETSI/TAHI test ev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S Independent Stac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ake a Best Functionality &amp; Usability &amp; Extensibility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Security, Mobility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,(Qo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articipate to the IPv6 Test Event (Interoperability, Conformance etc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Biz. Opportunity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7000" y="3036960"/>
            <a:ext cx="4754520" cy="2168280"/>
          </a:xfrm>
          <a:prstGeom prst="roundRect">
            <a:avLst>
              <a:gd name="adj" fmla="val 1666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040" y="2338560"/>
            <a:ext cx="3119400" cy="23079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3640" y="3260880"/>
            <a:ext cx="1413000" cy="111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06640" y="3260880"/>
            <a:ext cx="1411200" cy="111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7840" y="3260880"/>
            <a:ext cx="1411200" cy="111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1360" y="25455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arget Boar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33480" y="4548240"/>
            <a:ext cx="35427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mbedded Linux on Platfor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ith OS independent Architectur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5160" y="191700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. 1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5160" y="52729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. 2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121200"/>
            <a:ext cx="8840880" cy="1468440"/>
          </a:xfrm>
          <a:prstGeom prst="roundRect">
            <a:avLst>
              <a:gd name="adj" fmla="val 16667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26080" y="3440160"/>
            <a:ext cx="26067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mplementation to adop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specific OS on targ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86040" y="3440160"/>
            <a:ext cx="93060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Times New Roman"/>
              </a:rPr>
              <a:t>IPse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1640" y="3440160"/>
            <a:ext cx="138312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bile IPv6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4280" y="3440160"/>
            <a:ext cx="1191240" cy="699840"/>
          </a:xfrm>
          <a:prstGeom prst="rect">
            <a:avLst/>
          </a:prstGeom>
          <a:solidFill>
            <a:srgbClr val="ffb7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Pv6 basic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tac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15880" y="4504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ture Pla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7840" y="5415120"/>
            <a:ext cx="326880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ase platform of Produc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79720" y="1219320"/>
            <a:ext cx="327024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OP&amp;Conformance Test Ev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7560" y="2141640"/>
            <a:ext cx="3268440" cy="90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BIZ. Opportunity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857240" y="2058120"/>
            <a:ext cx="1857600" cy="559080"/>
          </a:xfrm>
          <a:custGeom>
            <a:avLst/>
            <a:gdLst>
              <a:gd name="textAreaLeft" fmla="*/ 325080 w 1857600"/>
              <a:gd name="textAreaRight" fmla="*/ 1346760 w 1857600"/>
              <a:gd name="textAreaTop" fmla="*/ 74880 h 559080"/>
              <a:gd name="textAreaBottom" fmla="*/ 484200 h 55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 rot="16521600">
            <a:off x="7744320" y="3090240"/>
            <a:ext cx="1747800" cy="593640"/>
          </a:xfrm>
          <a:custGeom>
            <a:avLst/>
            <a:gdLst>
              <a:gd name="textAreaLeft" fmla="*/ 305640 w 1747800"/>
              <a:gd name="textAreaRight" fmla="*/ 1267200 w 1747800"/>
              <a:gd name="textAreaTop" fmla="*/ 79560 h 593640"/>
              <a:gd name="textAreaBottom" fmla="*/ 514080 h 59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 rot="2308200">
            <a:off x="2450880" y="5764680"/>
            <a:ext cx="1857240" cy="558720"/>
          </a:xfrm>
          <a:custGeom>
            <a:avLst/>
            <a:gdLst>
              <a:gd name="textAreaLeft" fmla="*/ 325080 w 1857240"/>
              <a:gd name="textAreaRight" fmla="*/ 1346760 w 1857240"/>
              <a:gd name="textAreaTop" fmla="*/ 74880 h 558720"/>
              <a:gd name="textAreaBottom" fmla="*/ 483840 h 55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1371600"/>
            <a:ext cx="8305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2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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ur Features for plugtests - Embedded IPv6 Stack Func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Pv6 basic stack on PowerPC based Embedded Linu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Psec function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bility function ( Based on Internet Draft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HA / MN/ CN function implement with optimized stack     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2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pplication in Target System : Teln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09680" y="1952640"/>
            <a:ext cx="3429000" cy="32004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04920" y="1981080"/>
            <a:ext cx="2123640" cy="3124440"/>
            <a:chOff x="304920" y="1981080"/>
            <a:chExt cx="2123640" cy="3124440"/>
          </a:xfrm>
        </p:grpSpPr>
        <p:sp>
          <p:nvSpPr>
            <p:cNvPr id="411" name=""/>
            <p:cNvSpPr/>
            <p:nvPr/>
          </p:nvSpPr>
          <p:spPr>
            <a:xfrm>
              <a:off x="304920" y="1981080"/>
              <a:ext cx="1084320" cy="312444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9240" y="2832840"/>
              <a:ext cx="1039320" cy="12780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363680" y="1981080"/>
            <a:ext cx="2598840" cy="1490400"/>
            <a:chOff x="1363680" y="1981080"/>
            <a:chExt cx="2598840" cy="1490400"/>
          </a:xfrm>
        </p:grpSpPr>
        <p:sp>
          <p:nvSpPr>
            <p:cNvPr id="414" name=""/>
            <p:cNvSpPr/>
            <p:nvPr/>
          </p:nvSpPr>
          <p:spPr>
            <a:xfrm>
              <a:off x="1363680" y="1981080"/>
              <a:ext cx="2598840" cy="85176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97240" y="2832840"/>
              <a:ext cx="1559160" cy="638640"/>
            </a:xfrm>
            <a:prstGeom prst="rect">
              <a:avLst/>
            </a:pr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185840" y="4111560"/>
            <a:ext cx="2771640" cy="993960"/>
          </a:xfrm>
          <a:prstGeom prst="rect">
            <a:avLst/>
          </a:pr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97240" y="3409920"/>
            <a:ext cx="1558800" cy="1065240"/>
          </a:xfrm>
          <a:prstGeom prst="rect">
            <a:avLst/>
          </a:prstGeom>
          <a:solidFill>
            <a:srgbClr val="99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360" y="304632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Get the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신그래픽"/>
              </a:rPr>
              <a:t>Confidence 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37480" y="235116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Strong Sale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  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Points !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42640" y="42973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신그래픽"/>
              </a:rPr>
              <a:t>Share Experience !!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" name="Cloud"/>
          <p:cNvSpPr/>
          <p:nvPr/>
        </p:nvSpPr>
        <p:spPr>
          <a:xfrm>
            <a:off x="6019920" y="2371680"/>
            <a:ext cx="2743200" cy="242892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44320" y="302256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vent can b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duce developme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2514600"/>
            <a:ext cx="1676520" cy="2133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533520 h 2133720"/>
              <a:gd name="textAreaBottom" fmla="*/ 1600560 h 2133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Participate to the Plugtest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9960" y="227880"/>
            <a:ext cx="358128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mbedded IPv6 Stack(cont.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Times New Roman"/>
              </a:rPr>
              <a:t>Introduction of SAMSUNG’s IPv6</a:t>
            </a:r>
            <a:br>
              <a:rPr sz="4000"/>
            </a:br>
            <a:r>
              <a:rPr b="1" lang="ko-KR" sz="4000" spc="-1" strike="noStrike">
                <a:solidFill>
                  <a:srgbClr val="ff0000"/>
                </a:solidFill>
                <a:latin typeface="Times New Roman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ryan K. Chang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schang@samsung.com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amsung Advanced Institute of Technology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191120" y="1752480"/>
            <a:ext cx="3124080" cy="2971800"/>
          </a:xfrm>
          <a:prstGeom prst="ellipse">
            <a:avLst/>
          </a:prstGeom>
          <a:noFill/>
          <a:ln w="6336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600200" cy="12636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467480" y="3505320"/>
            <a:ext cx="981360" cy="1295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04920" y="11430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견고딕"/>
              </a:rPr>
              <a:t>Ad-Hoc Network Tiny Chip-set Develop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533520" cy="45720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5378400" y="1295280"/>
            <a:ext cx="992160" cy="866880"/>
            <a:chOff x="5378400" y="1295280"/>
            <a:chExt cx="992160" cy="866880"/>
          </a:xfrm>
        </p:grpSpPr>
        <p:pic>
          <p:nvPicPr>
            <p:cNvPr id="433" name="dell-PC" descr=""/>
            <p:cNvPicPr/>
            <p:nvPr/>
          </p:nvPicPr>
          <p:blipFill>
            <a:blip r:embed="rId5"/>
            <a:stretch/>
          </p:blipFill>
          <p:spPr>
            <a:xfrm>
              <a:off x="5384160" y="1295280"/>
              <a:ext cx="986400" cy="8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4" name=""/>
            <p:cNvGrpSpPr/>
            <p:nvPr/>
          </p:nvGrpSpPr>
          <p:grpSpPr>
            <a:xfrm>
              <a:off x="5378400" y="1357920"/>
              <a:ext cx="992160" cy="164520"/>
              <a:chOff x="5378400" y="1357920"/>
              <a:chExt cx="992160" cy="164520"/>
            </a:xfrm>
          </p:grpSpPr>
          <p:sp>
            <p:nvSpPr>
              <p:cNvPr id="435" name=""/>
              <p:cNvSpPr/>
              <p:nvPr/>
            </p:nvSpPr>
            <p:spPr>
              <a:xfrm>
                <a:off x="5378400" y="1364760"/>
                <a:ext cx="140760" cy="13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19160" y="1357920"/>
                <a:ext cx="21600" cy="1548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88680" y="1360800"/>
                <a:ext cx="28188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86240" y="1411200"/>
                <a:ext cx="184320" cy="10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6164640" y="1433880"/>
                <a:ext cx="21600" cy="885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6934320" y="3733920"/>
            <a:ext cx="5284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4343400" y="4114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2" name="wint2930" descr=""/>
          <p:cNvPicPr/>
          <p:nvPr/>
        </p:nvPicPr>
        <p:blipFill>
          <a:blip r:embed="rId8"/>
          <a:stretch/>
        </p:blipFill>
        <p:spPr>
          <a:xfrm>
            <a:off x="5562720" y="44197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443" name="PC001" descr=""/>
          <p:cNvPicPr/>
          <p:nvPr/>
        </p:nvPicPr>
        <p:blipFill>
          <a:blip r:embed="rId9"/>
          <a:stretch/>
        </p:blipFill>
        <p:spPr>
          <a:xfrm>
            <a:off x="3809880" y="2836800"/>
            <a:ext cx="577800" cy="592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0"/>
          <a:stretch/>
        </p:blipFill>
        <p:spPr>
          <a:xfrm>
            <a:off x="6629400" y="1676520"/>
            <a:ext cx="6112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5361840" y="1988280"/>
            <a:ext cx="787320" cy="938520"/>
            <a:chOff x="5361840" y="1988280"/>
            <a:chExt cx="787320" cy="938520"/>
          </a:xfrm>
        </p:grpSpPr>
        <p:sp>
          <p:nvSpPr>
            <p:cNvPr id="446" name=""/>
            <p:cNvSpPr/>
            <p:nvPr/>
          </p:nvSpPr>
          <p:spPr>
            <a:xfrm flipH="1" rot="9549600">
              <a:off x="5491080" y="208440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rot="9549600">
              <a:off x="5486040" y="2057760"/>
              <a:ext cx="538200" cy="79920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07720" y="2148120"/>
            <a:ext cx="948240" cy="813960"/>
            <a:chOff x="4707720" y="2148120"/>
            <a:chExt cx="948240" cy="813960"/>
          </a:xfrm>
        </p:grpSpPr>
        <p:sp>
          <p:nvSpPr>
            <p:cNvPr id="449" name=""/>
            <p:cNvSpPr/>
            <p:nvPr/>
          </p:nvSpPr>
          <p:spPr>
            <a:xfrm flipH="1" rot="6822600">
              <a:off x="4926600" y="217728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rot="6822600">
              <a:off x="4912560" y="2155320"/>
              <a:ext cx="538200" cy="79920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991840" y="2149200"/>
            <a:ext cx="745560" cy="920880"/>
            <a:chOff x="5991840" y="2149200"/>
            <a:chExt cx="745560" cy="920880"/>
          </a:xfrm>
        </p:grpSpPr>
        <p:sp>
          <p:nvSpPr>
            <p:cNvPr id="452" name=""/>
            <p:cNvSpPr/>
            <p:nvPr/>
          </p:nvSpPr>
          <p:spPr>
            <a:xfrm flipH="1" rot="1002000">
              <a:off x="6107040" y="2211480"/>
              <a:ext cx="530280" cy="77364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rot="1002000">
              <a:off x="6094800" y="2209680"/>
              <a:ext cx="538200" cy="79992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848120" y="3541680"/>
            <a:ext cx="664920" cy="878400"/>
            <a:chOff x="4848120" y="3541680"/>
            <a:chExt cx="664920" cy="878400"/>
          </a:xfrm>
        </p:grpSpPr>
        <p:sp>
          <p:nvSpPr>
            <p:cNvPr id="455" name=""/>
            <p:cNvSpPr/>
            <p:nvPr/>
          </p:nvSpPr>
          <p:spPr>
            <a:xfrm flipH="1" rot="580800">
              <a:off x="4921200" y="3581640"/>
              <a:ext cx="530280" cy="77400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rot="580800">
              <a:off x="4910760" y="3580920"/>
              <a:ext cx="538200" cy="7995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490280" y="2715480"/>
            <a:ext cx="963720" cy="888120"/>
            <a:chOff x="4490280" y="2715480"/>
            <a:chExt cx="963720" cy="888120"/>
          </a:xfrm>
        </p:grpSpPr>
        <p:sp>
          <p:nvSpPr>
            <p:cNvPr id="458" name=""/>
            <p:cNvSpPr/>
            <p:nvPr/>
          </p:nvSpPr>
          <p:spPr>
            <a:xfrm flipH="1" rot="3405600">
              <a:off x="4719600" y="2768760"/>
              <a:ext cx="530280" cy="77400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rot="3405600">
              <a:off x="4702680" y="2759760"/>
              <a:ext cx="537840" cy="7995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167160" y="2715480"/>
            <a:ext cx="963360" cy="887760"/>
            <a:chOff x="6167160" y="2715480"/>
            <a:chExt cx="963360" cy="887760"/>
          </a:xfrm>
        </p:grpSpPr>
        <p:sp>
          <p:nvSpPr>
            <p:cNvPr id="461" name=""/>
            <p:cNvSpPr/>
            <p:nvPr/>
          </p:nvSpPr>
          <p:spPr>
            <a:xfrm flipH="1" rot="3405600">
              <a:off x="6396480" y="276876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rot="3405600">
              <a:off x="6379560" y="2759760"/>
              <a:ext cx="537840" cy="79920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45640" y="3422880"/>
            <a:ext cx="806760" cy="550080"/>
            <a:chOff x="6245640" y="3422880"/>
            <a:chExt cx="806760" cy="550080"/>
          </a:xfrm>
        </p:grpSpPr>
        <p:sp>
          <p:nvSpPr>
            <p:cNvPr id="464" name=""/>
            <p:cNvSpPr/>
            <p:nvPr/>
          </p:nvSpPr>
          <p:spPr>
            <a:xfrm flipH="1" rot="5451600">
              <a:off x="6396480" y="3315240"/>
              <a:ext cx="530280" cy="77328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51600">
              <a:off x="6379200" y="3298320"/>
              <a:ext cx="538200" cy="79884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525640" y="3576960"/>
            <a:ext cx="917280" cy="961200"/>
            <a:chOff x="5525640" y="3576960"/>
            <a:chExt cx="917280" cy="961200"/>
          </a:xfrm>
        </p:grpSpPr>
        <p:sp>
          <p:nvSpPr>
            <p:cNvPr id="467" name=""/>
            <p:cNvSpPr/>
            <p:nvPr/>
          </p:nvSpPr>
          <p:spPr>
            <a:xfrm flipH="1" rot="8507400">
              <a:off x="5722920" y="3683160"/>
              <a:ext cx="530280" cy="773640"/>
            </a:xfrm>
            <a:custGeom>
              <a:avLst/>
              <a:gdLst/>
              <a:ahLst/>
              <a:rect l="l" t="t" r="r" b="b"/>
              <a:pathLst>
                <a:path w="409" h="176">
                  <a:moveTo>
                    <a:pt x="0" y="0"/>
                  </a:moveTo>
                  <a:lnTo>
                    <a:pt x="231" y="124"/>
                  </a:lnTo>
                  <a:lnTo>
                    <a:pt x="206" y="79"/>
                  </a:lnTo>
                  <a:lnTo>
                    <a:pt x="408" y="175"/>
                  </a:lnTo>
                  <a:lnTo>
                    <a:pt x="166" y="46"/>
                  </a:lnTo>
                  <a:lnTo>
                    <a:pt x="187" y="87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8507400">
              <a:off x="5715360" y="3657600"/>
              <a:ext cx="538200" cy="799560"/>
            </a:xfrm>
            <a:custGeom>
              <a:avLst/>
              <a:gdLst/>
              <a:ahLst/>
              <a:rect l="l" t="t" r="r" b="b"/>
              <a:pathLst>
                <a:path w="415" h="182">
                  <a:moveTo>
                    <a:pt x="0" y="0"/>
                  </a:moveTo>
                  <a:lnTo>
                    <a:pt x="234" y="128"/>
                  </a:lnTo>
                  <a:lnTo>
                    <a:pt x="209" y="82"/>
                  </a:lnTo>
                  <a:lnTo>
                    <a:pt x="414" y="181"/>
                  </a:lnTo>
                  <a:lnTo>
                    <a:pt x="168" y="48"/>
                  </a:lnTo>
                  <a:lnTo>
                    <a:pt x="190" y="9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89560" y="2882880"/>
            <a:ext cx="727200" cy="72396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03920" y="2400480"/>
            <a:ext cx="1698480" cy="168876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17720"/>
            <a:ext cx="2666880" cy="2654280"/>
          </a:xfrm>
          <a:prstGeom prst="ellipse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2362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Wireles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3581280"/>
            <a:ext cx="3809880" cy="2667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Peer-to-Peer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Low Cost &amp; Simple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Fast Network Setup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Independent Network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fast adapt to mobile device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10800000">
            <a:off x="1447560" y="2057400"/>
            <a:ext cx="2514600" cy="1295280"/>
          </a:xfrm>
          <a:custGeom>
            <a:avLst/>
            <a:gdLst>
              <a:gd name="textAreaLeft" fmla="*/ 1077480 w 2514600"/>
              <a:gd name="textAreaRight" fmla="*/ 2166840 w 2514600"/>
              <a:gd name="textAreaTop" fmla="*/ 739440 h 1295280"/>
              <a:gd name="textAreaBottom" fmla="*/ 111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318"/>
                </a:moveTo>
                <a:lnTo>
                  <a:pt x="12329" y="15318"/>
                </a:lnTo>
                <a:lnTo>
                  <a:pt x="12329" y="9257"/>
                </a:lnTo>
                <a:lnTo>
                  <a:pt x="9340" y="9257"/>
                </a:lnTo>
                <a:lnTo>
                  <a:pt x="15470" y="0"/>
                </a:lnTo>
                <a:lnTo>
                  <a:pt x="21600" y="9257"/>
                </a:lnTo>
                <a:lnTo>
                  <a:pt x="18611" y="9257"/>
                </a:lnTo>
                <a:lnTo>
                  <a:pt x="1861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0" y="203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신그래픽"/>
              </a:rPr>
              <a:t>Featur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2895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휴먼매직체"/>
              </a:rPr>
              <a:t>Ad–Hoc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휴먼매직체"/>
              </a:rPr>
              <a:t>Networ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86280" y="227880"/>
            <a:ext cx="34290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-hoc Tiny Chips develop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uro6IX Particip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9" name="capture5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686800" cy="4062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47640" y="9144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 IPv6 over xDSL,  Mobile Service Environ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1447920"/>
            <a:ext cx="548640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  <a:ea typeface="옛체"/>
              </a:rPr>
              <a:t>Our action plans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ticipate in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P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Network Implementation 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velopment featu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DSL(ADSL) + WLA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ke available an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Pv6 xDSL access technology.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 at least one central IX node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esee the technical evolution and future   usability of the Euro6IX network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53000" y="2733840"/>
            <a:ext cx="1676520" cy="914400"/>
          </a:xfrm>
          <a:prstGeom prst="wedgeEllipseCallout">
            <a:avLst>
              <a:gd name="adj1" fmla="val -84467"/>
              <a:gd name="adj2" fmla="val -79342"/>
            </a:avLst>
          </a:prstGeom>
          <a:noFill/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59680" y="685800"/>
            <a:ext cx="2209680" cy="34290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32040" y="762120"/>
            <a:ext cx="3132000" cy="281916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5" name="CPU" descr=""/>
          <p:cNvPicPr/>
          <p:nvPr/>
        </p:nvPicPr>
        <p:blipFill>
          <a:blip r:embed="rId1"/>
          <a:stretch/>
        </p:blipFill>
        <p:spPr>
          <a:xfrm>
            <a:off x="2819520" y="2882880"/>
            <a:ext cx="174600" cy="28116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2687760" y="3014640"/>
            <a:ext cx="198360" cy="185760"/>
            <a:chOff x="2687760" y="3014640"/>
            <a:chExt cx="198360" cy="185760"/>
          </a:xfrm>
        </p:grpSpPr>
        <p:grpSp>
          <p:nvGrpSpPr>
            <p:cNvPr id="487" name=""/>
            <p:cNvGrpSpPr/>
            <p:nvPr/>
          </p:nvGrpSpPr>
          <p:grpSpPr>
            <a:xfrm>
              <a:off x="2687760" y="3014640"/>
              <a:ext cx="198360" cy="185760"/>
              <a:chOff x="2687760" y="3014640"/>
              <a:chExt cx="198360" cy="185760"/>
            </a:xfrm>
          </p:grpSpPr>
          <p:sp>
            <p:nvSpPr>
              <p:cNvPr id="488" name=""/>
              <p:cNvSpPr/>
              <p:nvPr/>
            </p:nvSpPr>
            <p:spPr>
              <a:xfrm>
                <a:off x="2755800" y="313956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70" h="42">
                    <a:moveTo>
                      <a:pt x="0" y="41"/>
                    </a:moveTo>
                    <a:lnTo>
                      <a:pt x="127" y="41"/>
                    </a:lnTo>
                    <a:lnTo>
                      <a:pt x="169" y="0"/>
                    </a:lnTo>
                    <a:lnTo>
                      <a:pt x="4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83880" y="3144240"/>
                <a:ext cx="33840" cy="11160"/>
              </a:xfrm>
              <a:custGeom>
                <a:avLst/>
                <a:gdLst/>
                <a:ahLst/>
                <a:rect l="l" t="t" r="r" b="b"/>
                <a:pathLst>
                  <a:path w="61" h="21">
                    <a:moveTo>
                      <a:pt x="0" y="20"/>
                    </a:moveTo>
                    <a:lnTo>
                      <a:pt x="60" y="20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28160" y="3138480"/>
                <a:ext cx="30600" cy="288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1"/>
                    </a:moveTo>
                    <a:lnTo>
                      <a:pt x="43" y="0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55800" y="3161160"/>
                <a:ext cx="72360" cy="9000"/>
              </a:xfrm>
              <a:custGeom>
                <a:avLst/>
                <a:gdLst/>
                <a:ahLst/>
                <a:rect l="l" t="t" r="r" b="b"/>
                <a:pathLst>
                  <a:path w="130" h="17">
                    <a:moveTo>
                      <a:pt x="129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29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83880" y="3140640"/>
                <a:ext cx="48600" cy="14760"/>
              </a:xfrm>
              <a:custGeom>
                <a:avLst/>
                <a:gdLst/>
                <a:ahLst/>
                <a:rect l="l" t="t" r="r" b="b"/>
                <a:pathLst>
                  <a:path w="87" h="28">
                    <a:moveTo>
                      <a:pt x="0" y="0"/>
                    </a:moveTo>
                    <a:lnTo>
                      <a:pt x="0" y="7"/>
                    </a:lnTo>
                    <a:lnTo>
                      <a:pt x="60" y="7"/>
                    </a:lnTo>
                    <a:lnTo>
                      <a:pt x="60" y="2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59840" y="3173400"/>
                <a:ext cx="19440" cy="26280"/>
              </a:xfrm>
              <a:custGeom>
                <a:avLst/>
                <a:gdLst/>
                <a:ahLst/>
                <a:rect l="l" t="t" r="r" b="b"/>
                <a:pathLst>
                  <a:path w="35" h="50">
                    <a:moveTo>
                      <a:pt x="0" y="49"/>
                    </a:moveTo>
                    <a:lnTo>
                      <a:pt x="0" y="32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69920" y="3014640"/>
                <a:ext cx="16200" cy="127080"/>
              </a:xfrm>
              <a:custGeom>
                <a:avLst/>
                <a:gdLst/>
                <a:ahLst/>
                <a:rect l="l" t="t" r="r" b="b"/>
                <a:pathLst>
                  <a:path w="29" h="240">
                    <a:moveTo>
                      <a:pt x="0" y="29"/>
                    </a:moveTo>
                    <a:lnTo>
                      <a:pt x="28" y="0"/>
                    </a:lnTo>
                    <a:lnTo>
                      <a:pt x="28" y="210"/>
                    </a:lnTo>
                    <a:lnTo>
                      <a:pt x="0" y="23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28440" y="3015000"/>
                <a:ext cx="156960" cy="14760"/>
              </a:xfrm>
              <a:custGeom>
                <a:avLst/>
                <a:gdLst/>
                <a:ahLst/>
                <a:rect l="l" t="t" r="r" b="b"/>
                <a:pathLst>
                  <a:path w="281" h="28">
                    <a:moveTo>
                      <a:pt x="0" y="27"/>
                    </a:moveTo>
                    <a:lnTo>
                      <a:pt x="28" y="0"/>
                    </a:lnTo>
                    <a:lnTo>
                      <a:pt x="280" y="0"/>
                    </a:lnTo>
                    <a:lnTo>
                      <a:pt x="252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88120" y="3190320"/>
                <a:ext cx="172080" cy="10080"/>
              </a:xfrm>
              <a:custGeom>
                <a:avLst/>
                <a:gdLst/>
                <a:ahLst/>
                <a:rect l="l" t="t" r="r" b="b"/>
                <a:pathLst>
                  <a:path w="308" h="19">
                    <a:moveTo>
                      <a:pt x="30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7" y="0"/>
                    </a:lnTo>
                    <a:lnTo>
                      <a:pt x="307" y="18"/>
                    </a:lnTo>
                  </a:path>
                </a:pathLst>
              </a:cu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87760" y="3173400"/>
                <a:ext cx="191520" cy="17280"/>
              </a:xfrm>
              <a:custGeom>
                <a:avLst/>
                <a:gdLst/>
                <a:ahLst/>
                <a:rect l="l" t="t" r="r" b="b"/>
                <a:pathLst>
                  <a:path w="343" h="33">
                    <a:moveTo>
                      <a:pt x="342" y="0"/>
                    </a:moveTo>
                    <a:lnTo>
                      <a:pt x="309" y="32"/>
                    </a:lnTo>
                    <a:lnTo>
                      <a:pt x="0" y="32"/>
                    </a:lnTo>
                    <a:lnTo>
                      <a:pt x="33" y="0"/>
                    </a:lnTo>
                    <a:lnTo>
                      <a:pt x="342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2698200" y="3175920"/>
                <a:ext cx="168120" cy="11520"/>
                <a:chOff x="2698200" y="3175920"/>
                <a:chExt cx="168120" cy="115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2710440" y="3175920"/>
                  <a:ext cx="15588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706840" y="3179520"/>
                  <a:ext cx="15588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702880" y="3183840"/>
                  <a:ext cx="15660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698200" y="3187440"/>
                  <a:ext cx="156240" cy="0"/>
                </a:xfrm>
                <a:prstGeom prst="line">
                  <a:avLst/>
                </a:prstGeom>
                <a:ln w="12600">
                  <a:solidFill>
                    <a:srgbClr val="6b64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2728440" y="3029400"/>
                <a:ext cx="141480" cy="111600"/>
              </a:xfrm>
              <a:prstGeom prst="rect">
                <a:avLst/>
              </a:prstGeom>
              <a:solidFill>
                <a:srgbClr val="9e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42840" y="3043440"/>
                <a:ext cx="112320" cy="8136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153"/>
                    </a:moveTo>
                    <a:lnTo>
                      <a:pt x="0" y="153"/>
                    </a:lnTo>
                    <a:lnTo>
                      <a:pt x="0" y="0"/>
                    </a:lnTo>
                    <a:lnTo>
                      <a:pt x="200" y="0"/>
                    </a:lnTo>
                    <a:lnTo>
                      <a:pt x="200" y="15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42840" y="3043440"/>
                <a:ext cx="112320" cy="81360"/>
              </a:xfrm>
              <a:custGeom>
                <a:avLst/>
                <a:gdLst/>
                <a:ahLst/>
                <a:rect l="l" t="t" r="r" b="b"/>
                <a:pathLst>
                  <a:path w="201" h="154">
                    <a:moveTo>
                      <a:pt x="200" y="0"/>
                    </a:moveTo>
                    <a:lnTo>
                      <a:pt x="0" y="0"/>
                    </a:lnTo>
                    <a:lnTo>
                      <a:pt x="0" y="153"/>
                    </a:lnTo>
                    <a:lnTo>
                      <a:pt x="48" y="104"/>
                    </a:lnTo>
                    <a:lnTo>
                      <a:pt x="146" y="54"/>
                    </a:lnTo>
                    <a:lnTo>
                      <a:pt x="200" y="0"/>
                    </a:lnTo>
                  </a:path>
                </a:pathLst>
              </a:custGeom>
              <a:solidFill>
                <a:srgbClr val="6b6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2746440" y="3048120"/>
              <a:ext cx="104040" cy="72000"/>
            </a:xfrm>
            <a:custGeom>
              <a:avLst/>
              <a:gdLst/>
              <a:ahLst/>
              <a:rect l="l" t="t" r="r" b="b"/>
              <a:pathLst>
                <a:path w="187" h="137">
                  <a:moveTo>
                    <a:pt x="186" y="136"/>
                  </a:moveTo>
                  <a:lnTo>
                    <a:pt x="0" y="136"/>
                  </a:lnTo>
                  <a:lnTo>
                    <a:pt x="0" y="0"/>
                  </a:lnTo>
                  <a:lnTo>
                    <a:pt x="186" y="0"/>
                  </a:lnTo>
                  <a:lnTo>
                    <a:pt x="186" y="136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acac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26280" bIns="2628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752560" y="2043000"/>
            <a:ext cx="153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144520" y="2200320"/>
            <a:ext cx="45396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78040" y="22860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06840" y="1447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83160" y="1981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78040" y="3200400"/>
            <a:ext cx="459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굴림체"/>
                <a:ea typeface="바탕"/>
              </a:rPr>
              <a:t>EMS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98640" y="2060640"/>
            <a:ext cx="919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굴림체"/>
                <a:ea typeface="바탕"/>
              </a:rPr>
              <a:t>STM-1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578200" y="1382760"/>
            <a:ext cx="572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5603400" y="1382760"/>
            <a:ext cx="5724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573880" y="1949400"/>
            <a:ext cx="568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5598720" y="1949400"/>
            <a:ext cx="57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5000" y="2270160"/>
            <a:ext cx="6256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굴림체"/>
                <a:ea typeface="바탕"/>
              </a:rPr>
              <a:t>Router</a:t>
            </a:r>
            <a:endParaRPr b="0" lang="en-US" sz="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97360" y="2666880"/>
            <a:ext cx="919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굴림체"/>
                <a:ea typeface="굴림체"/>
              </a:rPr>
              <a:t>Central Office</a:t>
            </a:r>
            <a:endParaRPr b="0" lang="en-US" sz="11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679920" y="228276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rcRect l="12937" t="0" r="20369" b="26457"/>
          <a:stretch/>
        </p:blipFill>
        <p:spPr>
          <a:xfrm>
            <a:off x="3544920" y="2563920"/>
            <a:ext cx="255600" cy="266760"/>
          </a:xfrm>
          <a:prstGeom prst="rect">
            <a:avLst/>
          </a:prstGeom>
          <a:ln w="0">
            <a:noFill/>
          </a:ln>
        </p:spPr>
      </p:pic>
      <p:pic>
        <p:nvPicPr>
          <p:cNvPr id="522" name="VMSicon" descr=""/>
          <p:cNvPicPr/>
          <p:nvPr/>
        </p:nvPicPr>
        <p:blipFill>
          <a:blip r:embed="rId3"/>
          <a:stretch/>
        </p:blipFill>
        <p:spPr>
          <a:xfrm>
            <a:off x="4076640" y="1746360"/>
            <a:ext cx="513000" cy="685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3" name="VMSicon" descr=""/>
          <p:cNvPicPr/>
          <p:nvPr/>
        </p:nvPicPr>
        <p:blipFill>
          <a:blip r:embed="rId4"/>
          <a:stretch/>
        </p:blipFill>
        <p:spPr>
          <a:xfrm>
            <a:off x="3873600" y="1609560"/>
            <a:ext cx="512640" cy="825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24" name="VMSicon" descr=""/>
          <p:cNvPicPr/>
          <p:nvPr/>
        </p:nvPicPr>
        <p:blipFill>
          <a:blip r:embed="rId5"/>
          <a:stretch/>
        </p:blipFill>
        <p:spPr>
          <a:xfrm>
            <a:off x="3670200" y="1476360"/>
            <a:ext cx="513000" cy="96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6946920" y="1467000"/>
            <a:ext cx="61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005600" y="1255320"/>
            <a:ext cx="18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05600" y="1255680"/>
            <a:ext cx="62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7058160" y="1398600"/>
            <a:ext cx="261720" cy="122400"/>
          </a:xfrm>
          <a:prstGeom prst="rect">
            <a:avLst/>
          </a:prstGeom>
          <a:ln w="0">
            <a:noFill/>
          </a:ln>
        </p:spPr>
      </p:pic>
      <p:pic>
        <p:nvPicPr>
          <p:cNvPr id="529" name="pc_bw" descr=""/>
          <p:cNvPicPr/>
          <p:nvPr/>
        </p:nvPicPr>
        <p:blipFill>
          <a:blip r:embed="rId7"/>
          <a:stretch/>
        </p:blipFill>
        <p:spPr>
          <a:xfrm>
            <a:off x="7481880" y="1392120"/>
            <a:ext cx="216000" cy="196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265880" y="12304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69160" y="1515960"/>
            <a:ext cx="6127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S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08880" y="120024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40560" y="124632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2864400">
            <a:off x="7435440" y="1238040"/>
            <a:ext cx="104760" cy="5724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515360" y="1203480"/>
            <a:ext cx="106200" cy="5220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39120" y="124452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51720" y="126216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569360" y="125892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88080" y="1254240"/>
            <a:ext cx="1620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558200" y="1274760"/>
            <a:ext cx="17280" cy="1116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75480" y="1271520"/>
            <a:ext cx="1584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94560" y="1266840"/>
            <a:ext cx="15840" cy="1260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62880" y="1287360"/>
            <a:ext cx="17280" cy="1296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580160" y="1285920"/>
            <a:ext cx="1620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599240" y="1281240"/>
            <a:ext cx="1584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69360" y="1301760"/>
            <a:ext cx="17280" cy="1260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86640" y="1298520"/>
            <a:ext cx="176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05720" y="1293840"/>
            <a:ext cx="15840" cy="1260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524720" y="1260360"/>
            <a:ext cx="34920" cy="10980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07440" y="1270080"/>
            <a:ext cx="42840" cy="9828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08960" y="1235160"/>
            <a:ext cx="55440" cy="11880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61440" y="1355760"/>
            <a:ext cx="9504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59640" y="1330200"/>
            <a:ext cx="96840" cy="1296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7481160" y="1148400"/>
            <a:ext cx="172080" cy="153360"/>
            <a:chOff x="7481160" y="1148400"/>
            <a:chExt cx="172080" cy="153360"/>
          </a:xfrm>
        </p:grpSpPr>
        <p:sp>
          <p:nvSpPr>
            <p:cNvPr id="555" name=""/>
            <p:cNvSpPr/>
            <p:nvPr/>
          </p:nvSpPr>
          <p:spPr>
            <a:xfrm rot="6550800">
              <a:off x="7510680" y="1153440"/>
              <a:ext cx="112680" cy="14292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6550800">
              <a:off x="7513920" y="1162080"/>
              <a:ext cx="100440" cy="12492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1447920" y="2666880"/>
            <a:ext cx="706320" cy="4730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9"/>
          <a:stretch/>
        </p:blipFill>
        <p:spPr>
          <a:xfrm>
            <a:off x="2362320" y="1674720"/>
            <a:ext cx="463320" cy="6336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921360" y="1962000"/>
            <a:ext cx="61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981840" y="1750680"/>
            <a:ext cx="14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981840" y="1751040"/>
            <a:ext cx="62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0"/>
          <a:stretch/>
        </p:blipFill>
        <p:spPr>
          <a:xfrm>
            <a:off x="7034040" y="1892160"/>
            <a:ext cx="262080" cy="123840"/>
          </a:xfrm>
          <a:prstGeom prst="rect">
            <a:avLst/>
          </a:prstGeom>
          <a:ln w="0">
            <a:noFill/>
          </a:ln>
        </p:spPr>
      </p:pic>
      <p:pic>
        <p:nvPicPr>
          <p:cNvPr id="563" name="pc_bw" descr=""/>
          <p:cNvPicPr/>
          <p:nvPr/>
        </p:nvPicPr>
        <p:blipFill>
          <a:blip r:embed="rId11"/>
          <a:stretch/>
        </p:blipFill>
        <p:spPr>
          <a:xfrm>
            <a:off x="7458120" y="1887480"/>
            <a:ext cx="216000" cy="1954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242120" y="17254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45400" y="2009880"/>
            <a:ext cx="612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A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50200" y="170820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81880" y="175428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864400">
            <a:off x="7378560" y="1746360"/>
            <a:ext cx="104760" cy="5688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8120" y="1711440"/>
            <a:ext cx="104760" cy="5220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80440" y="175248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94480" y="177012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12120" y="176688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31200" y="1762200"/>
            <a:ext cx="1404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500960" y="1782720"/>
            <a:ext cx="15840" cy="1116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18240" y="1779480"/>
            <a:ext cx="1620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35880" y="1774800"/>
            <a:ext cx="15840" cy="1260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505640" y="1795320"/>
            <a:ext cx="15840" cy="1296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523280" y="1793880"/>
            <a:ext cx="1584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42360" y="1789200"/>
            <a:ext cx="1404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512120" y="1809720"/>
            <a:ext cx="15840" cy="1260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29400" y="1806480"/>
            <a:ext cx="158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7040" y="1801800"/>
            <a:ext cx="15840" cy="1260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67480" y="1768320"/>
            <a:ext cx="33480" cy="10980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48400" y="1778040"/>
            <a:ext cx="42840" cy="9828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551720" y="1743120"/>
            <a:ext cx="54000" cy="11916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02400" y="1863720"/>
            <a:ext cx="9540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02400" y="1838160"/>
            <a:ext cx="95400" cy="1296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422840" y="1656360"/>
            <a:ext cx="171720" cy="153360"/>
            <a:chOff x="7422840" y="1656360"/>
            <a:chExt cx="171720" cy="153360"/>
          </a:xfrm>
        </p:grpSpPr>
        <p:sp>
          <p:nvSpPr>
            <p:cNvPr id="589" name=""/>
            <p:cNvSpPr/>
            <p:nvPr/>
          </p:nvSpPr>
          <p:spPr>
            <a:xfrm rot="6550800">
              <a:off x="7452360" y="1661400"/>
              <a:ext cx="112680" cy="14256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6550800">
              <a:off x="7455600" y="1670040"/>
              <a:ext cx="100440" cy="12456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12"/>
          <a:stretch/>
        </p:blipFill>
        <p:spPr>
          <a:xfrm>
            <a:off x="6829560" y="2549520"/>
            <a:ext cx="261720" cy="1238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640560" y="2666880"/>
            <a:ext cx="612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A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06840" y="2438280"/>
            <a:ext cx="0" cy="2286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06840" y="2666880"/>
            <a:ext cx="22860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573880" y="2649600"/>
            <a:ext cx="568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598720" y="2649600"/>
            <a:ext cx="57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792840" y="243792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92840" y="2438280"/>
            <a:ext cx="62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53120" y="24130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61200" y="239544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92880" y="244152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2864400">
            <a:off x="7189560" y="2433600"/>
            <a:ext cx="104760" cy="5724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69120" y="2398680"/>
            <a:ext cx="104760" cy="5256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91440" y="244008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05840" y="245736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323120" y="245412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42200" y="2449440"/>
            <a:ext cx="1440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311960" y="2470320"/>
            <a:ext cx="15840" cy="1080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29600" y="2467080"/>
            <a:ext cx="1584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46880" y="2462040"/>
            <a:ext cx="15840" cy="1296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16640" y="2482920"/>
            <a:ext cx="16200" cy="1260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34280" y="2481120"/>
            <a:ext cx="1584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53360" y="2476440"/>
            <a:ext cx="1440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323120" y="2496960"/>
            <a:ext cx="15840" cy="1296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40760" y="2494080"/>
            <a:ext cx="158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58040" y="2489040"/>
            <a:ext cx="15840" cy="129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78840" y="2455920"/>
            <a:ext cx="33120" cy="10944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59760" y="2465280"/>
            <a:ext cx="42840" cy="9864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62720" y="2430360"/>
            <a:ext cx="54000" cy="11916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313760" y="2550960"/>
            <a:ext cx="9504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3760" y="2525760"/>
            <a:ext cx="95040" cy="1260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233480" y="2343600"/>
            <a:ext cx="172080" cy="153360"/>
            <a:chOff x="7233480" y="2343600"/>
            <a:chExt cx="172080" cy="153360"/>
          </a:xfrm>
        </p:grpSpPr>
        <p:sp>
          <p:nvSpPr>
            <p:cNvPr id="623" name=""/>
            <p:cNvSpPr/>
            <p:nvPr/>
          </p:nvSpPr>
          <p:spPr>
            <a:xfrm rot="6550800">
              <a:off x="7263000" y="2348640"/>
              <a:ext cx="112680" cy="14292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6550800">
              <a:off x="7266240" y="2357280"/>
              <a:ext cx="100440" cy="12492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 flipH="1" rot="5451600">
            <a:off x="7212600" y="2633400"/>
            <a:ext cx="150840" cy="220680"/>
          </a:xfrm>
          <a:custGeom>
            <a:avLst/>
            <a:gdLst/>
            <a:ahLst/>
            <a:rect l="l" t="t" r="r" b="b"/>
            <a:pathLst>
              <a:path w="409" h="176">
                <a:moveTo>
                  <a:pt x="0" y="0"/>
                </a:moveTo>
                <a:lnTo>
                  <a:pt x="231" y="124"/>
                </a:lnTo>
                <a:lnTo>
                  <a:pt x="206" y="79"/>
                </a:lnTo>
                <a:lnTo>
                  <a:pt x="408" y="175"/>
                </a:lnTo>
                <a:lnTo>
                  <a:pt x="166" y="46"/>
                </a:lnTo>
                <a:lnTo>
                  <a:pt x="187" y="87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rot="5451600">
            <a:off x="7211160" y="2629080"/>
            <a:ext cx="152640" cy="228600"/>
          </a:xfrm>
          <a:custGeom>
            <a:avLst/>
            <a:gdLst/>
            <a:ahLst/>
            <a:rect l="l" t="t" r="r" b="b"/>
            <a:pathLst>
              <a:path w="415" h="182">
                <a:moveTo>
                  <a:pt x="0" y="0"/>
                </a:moveTo>
                <a:lnTo>
                  <a:pt x="234" y="128"/>
                </a:lnTo>
                <a:lnTo>
                  <a:pt x="209" y="82"/>
                </a:lnTo>
                <a:lnTo>
                  <a:pt x="414" y="181"/>
                </a:lnTo>
                <a:lnTo>
                  <a:pt x="168" y="48"/>
                </a:lnTo>
                <a:lnTo>
                  <a:pt x="190" y="90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3"/>
          <a:stretch/>
        </p:blipFill>
        <p:spPr>
          <a:xfrm>
            <a:off x="747864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6640560" y="3505320"/>
            <a:ext cx="6127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굴림체"/>
                <a:ea typeface="바탕"/>
              </a:rPr>
              <a:t>ATU-R</a:t>
            </a:r>
            <a:endParaRPr b="0" lang="en-US" sz="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921360" y="3427560"/>
            <a:ext cx="61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0" name="pc_bw" descr=""/>
          <p:cNvPicPr/>
          <p:nvPr/>
        </p:nvPicPr>
        <p:blipFill>
          <a:blip r:embed="rId14"/>
          <a:stretch/>
        </p:blipFill>
        <p:spPr>
          <a:xfrm>
            <a:off x="7458120" y="3352680"/>
            <a:ext cx="216000" cy="1954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>
            <a:off x="6829560" y="3352680"/>
            <a:ext cx="261720" cy="123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 flipH="1" rot="5451600">
            <a:off x="7212600" y="3623760"/>
            <a:ext cx="150840" cy="220680"/>
          </a:xfrm>
          <a:custGeom>
            <a:avLst/>
            <a:gdLst/>
            <a:ahLst/>
            <a:rect l="l" t="t" r="r" b="b"/>
            <a:pathLst>
              <a:path w="409" h="176">
                <a:moveTo>
                  <a:pt x="0" y="0"/>
                </a:moveTo>
                <a:lnTo>
                  <a:pt x="231" y="124"/>
                </a:lnTo>
                <a:lnTo>
                  <a:pt x="206" y="79"/>
                </a:lnTo>
                <a:lnTo>
                  <a:pt x="408" y="175"/>
                </a:lnTo>
                <a:lnTo>
                  <a:pt x="166" y="46"/>
                </a:lnTo>
                <a:lnTo>
                  <a:pt x="187" y="87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51600">
            <a:off x="7211160" y="3619080"/>
            <a:ext cx="152280" cy="228600"/>
          </a:xfrm>
          <a:custGeom>
            <a:avLst/>
            <a:gdLst/>
            <a:ahLst/>
            <a:rect l="l" t="t" r="r" b="b"/>
            <a:pathLst>
              <a:path w="415" h="182">
                <a:moveTo>
                  <a:pt x="0" y="0"/>
                </a:moveTo>
                <a:lnTo>
                  <a:pt x="234" y="128"/>
                </a:lnTo>
                <a:lnTo>
                  <a:pt x="209" y="82"/>
                </a:lnTo>
                <a:lnTo>
                  <a:pt x="414" y="181"/>
                </a:lnTo>
                <a:lnTo>
                  <a:pt x="168" y="48"/>
                </a:lnTo>
                <a:lnTo>
                  <a:pt x="190" y="90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6"/>
          <a:stretch/>
        </p:blipFill>
        <p:spPr>
          <a:xfrm>
            <a:off x="747864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5" name="pc_bw" descr=""/>
          <p:cNvPicPr/>
          <p:nvPr/>
        </p:nvPicPr>
        <p:blipFill>
          <a:blip r:embed="rId17"/>
          <a:stretch/>
        </p:blipFill>
        <p:spPr>
          <a:xfrm>
            <a:off x="7783560" y="3352680"/>
            <a:ext cx="216000" cy="1954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7097760" y="3352680"/>
            <a:ext cx="30492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402680" y="3200040"/>
            <a:ext cx="0" cy="152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402680" y="3200400"/>
            <a:ext cx="457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9880" y="3200400"/>
            <a:ext cx="0" cy="15228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753240" y="3122280"/>
            <a:ext cx="144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53240" y="3122640"/>
            <a:ext cx="625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13520" y="3097080"/>
            <a:ext cx="63720" cy="61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1600" y="3079800"/>
            <a:ext cx="155520" cy="174600"/>
          </a:xfrm>
          <a:custGeom>
            <a:avLst/>
            <a:gdLst/>
            <a:ahLst/>
            <a:rect l="l" t="t" r="r" b="b"/>
            <a:pathLst>
              <a:path w="8821" h="7438">
                <a:moveTo>
                  <a:pt x="3198" y="7438"/>
                </a:moveTo>
                <a:lnTo>
                  <a:pt x="0" y="5276"/>
                </a:lnTo>
                <a:lnTo>
                  <a:pt x="859" y="1534"/>
                </a:lnTo>
                <a:lnTo>
                  <a:pt x="849" y="1512"/>
                </a:lnTo>
                <a:lnTo>
                  <a:pt x="823" y="1454"/>
                </a:lnTo>
                <a:lnTo>
                  <a:pt x="786" y="1372"/>
                </a:lnTo>
                <a:lnTo>
                  <a:pt x="743" y="1278"/>
                </a:lnTo>
                <a:lnTo>
                  <a:pt x="701" y="1184"/>
                </a:lnTo>
                <a:lnTo>
                  <a:pt x="663" y="1102"/>
                </a:lnTo>
                <a:lnTo>
                  <a:pt x="637" y="1044"/>
                </a:lnTo>
                <a:lnTo>
                  <a:pt x="627" y="1022"/>
                </a:lnTo>
                <a:lnTo>
                  <a:pt x="651" y="991"/>
                </a:lnTo>
                <a:lnTo>
                  <a:pt x="718" y="910"/>
                </a:lnTo>
                <a:lnTo>
                  <a:pt x="762" y="856"/>
                </a:lnTo>
                <a:lnTo>
                  <a:pt x="811" y="797"/>
                </a:lnTo>
                <a:lnTo>
                  <a:pt x="864" y="736"/>
                </a:lnTo>
                <a:lnTo>
                  <a:pt x="918" y="674"/>
                </a:lnTo>
                <a:lnTo>
                  <a:pt x="973" y="615"/>
                </a:lnTo>
                <a:lnTo>
                  <a:pt x="1026" y="560"/>
                </a:lnTo>
                <a:lnTo>
                  <a:pt x="1051" y="535"/>
                </a:lnTo>
                <a:lnTo>
                  <a:pt x="1075" y="511"/>
                </a:lnTo>
                <a:lnTo>
                  <a:pt x="1098" y="491"/>
                </a:lnTo>
                <a:lnTo>
                  <a:pt x="1120" y="474"/>
                </a:lnTo>
                <a:lnTo>
                  <a:pt x="1140" y="459"/>
                </a:lnTo>
                <a:lnTo>
                  <a:pt x="1158" y="447"/>
                </a:lnTo>
                <a:lnTo>
                  <a:pt x="1174" y="440"/>
                </a:lnTo>
                <a:lnTo>
                  <a:pt x="1187" y="436"/>
                </a:lnTo>
                <a:lnTo>
                  <a:pt x="1199" y="437"/>
                </a:lnTo>
                <a:lnTo>
                  <a:pt x="1207" y="441"/>
                </a:lnTo>
                <a:lnTo>
                  <a:pt x="1213" y="451"/>
                </a:lnTo>
                <a:lnTo>
                  <a:pt x="1215" y="466"/>
                </a:lnTo>
                <a:lnTo>
                  <a:pt x="1215" y="486"/>
                </a:lnTo>
                <a:lnTo>
                  <a:pt x="1217" y="507"/>
                </a:lnTo>
                <a:lnTo>
                  <a:pt x="1221" y="530"/>
                </a:lnTo>
                <a:lnTo>
                  <a:pt x="1226" y="556"/>
                </a:lnTo>
                <a:lnTo>
                  <a:pt x="1233" y="582"/>
                </a:lnTo>
                <a:lnTo>
                  <a:pt x="1241" y="609"/>
                </a:lnTo>
                <a:lnTo>
                  <a:pt x="1251" y="639"/>
                </a:lnTo>
                <a:lnTo>
                  <a:pt x="1260" y="668"/>
                </a:lnTo>
                <a:lnTo>
                  <a:pt x="1272" y="698"/>
                </a:lnTo>
                <a:lnTo>
                  <a:pt x="1284" y="729"/>
                </a:lnTo>
                <a:lnTo>
                  <a:pt x="1297" y="760"/>
                </a:lnTo>
                <a:lnTo>
                  <a:pt x="1310" y="792"/>
                </a:lnTo>
                <a:lnTo>
                  <a:pt x="1338" y="855"/>
                </a:lnTo>
                <a:lnTo>
                  <a:pt x="1367" y="917"/>
                </a:lnTo>
                <a:lnTo>
                  <a:pt x="1397" y="976"/>
                </a:lnTo>
                <a:lnTo>
                  <a:pt x="1425" y="1032"/>
                </a:lnTo>
                <a:lnTo>
                  <a:pt x="1451" y="1083"/>
                </a:lnTo>
                <a:lnTo>
                  <a:pt x="1475" y="1128"/>
                </a:lnTo>
                <a:lnTo>
                  <a:pt x="1511" y="1193"/>
                </a:lnTo>
                <a:lnTo>
                  <a:pt x="1525" y="1217"/>
                </a:lnTo>
                <a:lnTo>
                  <a:pt x="1555" y="1195"/>
                </a:lnTo>
                <a:lnTo>
                  <a:pt x="1635" y="1137"/>
                </a:lnTo>
                <a:lnTo>
                  <a:pt x="1748" y="1055"/>
                </a:lnTo>
                <a:lnTo>
                  <a:pt x="1877" y="961"/>
                </a:lnTo>
                <a:lnTo>
                  <a:pt x="2006" y="867"/>
                </a:lnTo>
                <a:lnTo>
                  <a:pt x="2119" y="785"/>
                </a:lnTo>
                <a:lnTo>
                  <a:pt x="2199" y="727"/>
                </a:lnTo>
                <a:lnTo>
                  <a:pt x="2229" y="705"/>
                </a:lnTo>
                <a:lnTo>
                  <a:pt x="2247" y="730"/>
                </a:lnTo>
                <a:lnTo>
                  <a:pt x="2295" y="798"/>
                </a:lnTo>
                <a:lnTo>
                  <a:pt x="2364" y="892"/>
                </a:lnTo>
                <a:lnTo>
                  <a:pt x="2443" y="1000"/>
                </a:lnTo>
                <a:lnTo>
                  <a:pt x="2520" y="1109"/>
                </a:lnTo>
                <a:lnTo>
                  <a:pt x="2589" y="1202"/>
                </a:lnTo>
                <a:lnTo>
                  <a:pt x="2637" y="1270"/>
                </a:lnTo>
                <a:lnTo>
                  <a:pt x="2656" y="1295"/>
                </a:lnTo>
                <a:lnTo>
                  <a:pt x="2714" y="1295"/>
                </a:lnTo>
                <a:lnTo>
                  <a:pt x="2867" y="1295"/>
                </a:lnTo>
                <a:lnTo>
                  <a:pt x="3085" y="1295"/>
                </a:lnTo>
                <a:lnTo>
                  <a:pt x="3334" y="1295"/>
                </a:lnTo>
                <a:lnTo>
                  <a:pt x="3583" y="1295"/>
                </a:lnTo>
                <a:lnTo>
                  <a:pt x="3801" y="1295"/>
                </a:lnTo>
                <a:lnTo>
                  <a:pt x="3954" y="1295"/>
                </a:lnTo>
                <a:lnTo>
                  <a:pt x="4013" y="1295"/>
                </a:lnTo>
                <a:lnTo>
                  <a:pt x="3593" y="466"/>
                </a:lnTo>
                <a:lnTo>
                  <a:pt x="4246" y="162"/>
                </a:lnTo>
                <a:lnTo>
                  <a:pt x="4833" y="783"/>
                </a:lnTo>
                <a:lnTo>
                  <a:pt x="5887" y="0"/>
                </a:lnTo>
                <a:lnTo>
                  <a:pt x="6436" y="666"/>
                </a:lnTo>
                <a:lnTo>
                  <a:pt x="5932" y="1450"/>
                </a:lnTo>
                <a:lnTo>
                  <a:pt x="8704" y="5432"/>
                </a:lnTo>
                <a:lnTo>
                  <a:pt x="8821" y="6732"/>
                </a:lnTo>
                <a:lnTo>
                  <a:pt x="3198" y="7438"/>
                </a:lnTo>
                <a:close/>
              </a:path>
            </a:pathLst>
          </a:custGeom>
          <a:solidFill>
            <a:srgbClr val="b968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53280" y="3125880"/>
            <a:ext cx="95400" cy="74520"/>
          </a:xfrm>
          <a:custGeom>
            <a:avLst/>
            <a:gdLst/>
            <a:ahLst/>
            <a:rect l="l" t="t" r="r" b="b"/>
            <a:pathLst>
              <a:path w="5425" h="3185">
                <a:moveTo>
                  <a:pt x="3" y="524"/>
                </a:moveTo>
                <a:lnTo>
                  <a:pt x="3590" y="0"/>
                </a:lnTo>
                <a:lnTo>
                  <a:pt x="5425" y="2551"/>
                </a:lnTo>
                <a:lnTo>
                  <a:pt x="5379" y="2559"/>
                </a:lnTo>
                <a:lnTo>
                  <a:pt x="5249" y="2580"/>
                </a:lnTo>
                <a:lnTo>
                  <a:pt x="5047" y="2612"/>
                </a:lnTo>
                <a:lnTo>
                  <a:pt x="4786" y="2653"/>
                </a:lnTo>
                <a:lnTo>
                  <a:pt x="4130" y="2754"/>
                </a:lnTo>
                <a:lnTo>
                  <a:pt x="3380" y="2870"/>
                </a:lnTo>
                <a:lnTo>
                  <a:pt x="2629" y="2985"/>
                </a:lnTo>
                <a:lnTo>
                  <a:pt x="1973" y="3087"/>
                </a:lnTo>
                <a:lnTo>
                  <a:pt x="1511" y="3158"/>
                </a:lnTo>
                <a:lnTo>
                  <a:pt x="1334" y="3185"/>
                </a:lnTo>
                <a:lnTo>
                  <a:pt x="1274" y="3072"/>
                </a:lnTo>
                <a:lnTo>
                  <a:pt x="1115" y="2772"/>
                </a:lnTo>
                <a:lnTo>
                  <a:pt x="1010" y="2572"/>
                </a:lnTo>
                <a:lnTo>
                  <a:pt x="892" y="2348"/>
                </a:lnTo>
                <a:lnTo>
                  <a:pt x="768" y="2109"/>
                </a:lnTo>
                <a:lnTo>
                  <a:pt x="640" y="1862"/>
                </a:lnTo>
                <a:lnTo>
                  <a:pt x="513" y="1614"/>
                </a:lnTo>
                <a:lnTo>
                  <a:pt x="390" y="1374"/>
                </a:lnTo>
                <a:lnTo>
                  <a:pt x="277" y="1150"/>
                </a:lnTo>
                <a:lnTo>
                  <a:pt x="179" y="948"/>
                </a:lnTo>
                <a:lnTo>
                  <a:pt x="136" y="858"/>
                </a:lnTo>
                <a:lnTo>
                  <a:pt x="98" y="777"/>
                </a:lnTo>
                <a:lnTo>
                  <a:pt x="65" y="705"/>
                </a:lnTo>
                <a:lnTo>
                  <a:pt x="38" y="644"/>
                </a:lnTo>
                <a:lnTo>
                  <a:pt x="18" y="595"/>
                </a:lnTo>
                <a:lnTo>
                  <a:pt x="5" y="557"/>
                </a:lnTo>
                <a:lnTo>
                  <a:pt x="0" y="534"/>
                </a:lnTo>
                <a:lnTo>
                  <a:pt x="3" y="524"/>
                </a:lnTo>
                <a:close/>
              </a:path>
            </a:pathLst>
          </a:custGeom>
          <a:solidFill>
            <a:srgbClr val="b4d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2864400">
            <a:off x="7149960" y="3117960"/>
            <a:ext cx="104760" cy="56880"/>
          </a:xfrm>
          <a:custGeom>
            <a:avLst/>
            <a:gdLst/>
            <a:ahLst/>
            <a:rect l="l" t="t" r="r" b="b"/>
            <a:pathLst>
              <a:path w="4943" h="5434">
                <a:moveTo>
                  <a:pt x="1344" y="71"/>
                </a:moveTo>
                <a:lnTo>
                  <a:pt x="1338" y="51"/>
                </a:lnTo>
                <a:lnTo>
                  <a:pt x="1327" y="35"/>
                </a:lnTo>
                <a:lnTo>
                  <a:pt x="1310" y="21"/>
                </a:lnTo>
                <a:lnTo>
                  <a:pt x="1288" y="12"/>
                </a:lnTo>
                <a:lnTo>
                  <a:pt x="1262" y="6"/>
                </a:lnTo>
                <a:lnTo>
                  <a:pt x="1231" y="1"/>
                </a:lnTo>
                <a:lnTo>
                  <a:pt x="1196" y="0"/>
                </a:lnTo>
                <a:lnTo>
                  <a:pt x="1159" y="2"/>
                </a:lnTo>
                <a:lnTo>
                  <a:pt x="1117" y="7"/>
                </a:lnTo>
                <a:lnTo>
                  <a:pt x="1073" y="14"/>
                </a:lnTo>
                <a:lnTo>
                  <a:pt x="1027" y="22"/>
                </a:lnTo>
                <a:lnTo>
                  <a:pt x="980" y="34"/>
                </a:lnTo>
                <a:lnTo>
                  <a:pt x="931" y="47"/>
                </a:lnTo>
                <a:lnTo>
                  <a:pt x="880" y="62"/>
                </a:lnTo>
                <a:lnTo>
                  <a:pt x="830" y="79"/>
                </a:lnTo>
                <a:lnTo>
                  <a:pt x="778" y="97"/>
                </a:lnTo>
                <a:lnTo>
                  <a:pt x="727" y="117"/>
                </a:lnTo>
                <a:lnTo>
                  <a:pt x="676" y="138"/>
                </a:lnTo>
                <a:lnTo>
                  <a:pt x="627" y="160"/>
                </a:lnTo>
                <a:lnTo>
                  <a:pt x="578" y="184"/>
                </a:lnTo>
                <a:lnTo>
                  <a:pt x="532" y="208"/>
                </a:lnTo>
                <a:lnTo>
                  <a:pt x="488" y="233"/>
                </a:lnTo>
                <a:lnTo>
                  <a:pt x="446" y="258"/>
                </a:lnTo>
                <a:lnTo>
                  <a:pt x="407" y="285"/>
                </a:lnTo>
                <a:lnTo>
                  <a:pt x="372" y="311"/>
                </a:lnTo>
                <a:lnTo>
                  <a:pt x="340" y="337"/>
                </a:lnTo>
                <a:lnTo>
                  <a:pt x="312" y="364"/>
                </a:lnTo>
                <a:lnTo>
                  <a:pt x="289" y="390"/>
                </a:lnTo>
                <a:lnTo>
                  <a:pt x="271" y="416"/>
                </a:lnTo>
                <a:lnTo>
                  <a:pt x="259" y="443"/>
                </a:lnTo>
                <a:lnTo>
                  <a:pt x="252" y="468"/>
                </a:lnTo>
                <a:lnTo>
                  <a:pt x="251" y="492"/>
                </a:lnTo>
                <a:lnTo>
                  <a:pt x="259" y="553"/>
                </a:lnTo>
                <a:lnTo>
                  <a:pt x="268" y="612"/>
                </a:lnTo>
                <a:lnTo>
                  <a:pt x="280" y="668"/>
                </a:lnTo>
                <a:lnTo>
                  <a:pt x="292" y="722"/>
                </a:lnTo>
                <a:lnTo>
                  <a:pt x="306" y="773"/>
                </a:lnTo>
                <a:lnTo>
                  <a:pt x="321" y="824"/>
                </a:lnTo>
                <a:lnTo>
                  <a:pt x="337" y="871"/>
                </a:lnTo>
                <a:lnTo>
                  <a:pt x="352" y="918"/>
                </a:lnTo>
                <a:lnTo>
                  <a:pt x="384" y="1007"/>
                </a:lnTo>
                <a:lnTo>
                  <a:pt x="415" y="1091"/>
                </a:lnTo>
                <a:lnTo>
                  <a:pt x="430" y="1132"/>
                </a:lnTo>
                <a:lnTo>
                  <a:pt x="444" y="1173"/>
                </a:lnTo>
                <a:lnTo>
                  <a:pt x="456" y="1213"/>
                </a:lnTo>
                <a:lnTo>
                  <a:pt x="467" y="1252"/>
                </a:lnTo>
                <a:lnTo>
                  <a:pt x="476" y="1292"/>
                </a:lnTo>
                <a:lnTo>
                  <a:pt x="484" y="1332"/>
                </a:lnTo>
                <a:lnTo>
                  <a:pt x="489" y="1372"/>
                </a:lnTo>
                <a:lnTo>
                  <a:pt x="491" y="1413"/>
                </a:lnTo>
                <a:lnTo>
                  <a:pt x="491" y="1455"/>
                </a:lnTo>
                <a:lnTo>
                  <a:pt x="489" y="1496"/>
                </a:lnTo>
                <a:lnTo>
                  <a:pt x="483" y="1539"/>
                </a:lnTo>
                <a:lnTo>
                  <a:pt x="474" y="1583"/>
                </a:lnTo>
                <a:lnTo>
                  <a:pt x="461" y="1628"/>
                </a:lnTo>
                <a:lnTo>
                  <a:pt x="445" y="1675"/>
                </a:lnTo>
                <a:lnTo>
                  <a:pt x="424" y="1723"/>
                </a:lnTo>
                <a:lnTo>
                  <a:pt x="399" y="1773"/>
                </a:lnTo>
                <a:lnTo>
                  <a:pt x="369" y="1824"/>
                </a:lnTo>
                <a:lnTo>
                  <a:pt x="336" y="1879"/>
                </a:lnTo>
                <a:lnTo>
                  <a:pt x="296" y="1935"/>
                </a:lnTo>
                <a:lnTo>
                  <a:pt x="251" y="1994"/>
                </a:lnTo>
                <a:lnTo>
                  <a:pt x="230" y="2022"/>
                </a:lnTo>
                <a:lnTo>
                  <a:pt x="209" y="2052"/>
                </a:lnTo>
                <a:lnTo>
                  <a:pt x="189" y="2082"/>
                </a:lnTo>
                <a:lnTo>
                  <a:pt x="170" y="2114"/>
                </a:lnTo>
                <a:lnTo>
                  <a:pt x="152" y="2147"/>
                </a:lnTo>
                <a:lnTo>
                  <a:pt x="134" y="2180"/>
                </a:lnTo>
                <a:lnTo>
                  <a:pt x="117" y="2215"/>
                </a:lnTo>
                <a:lnTo>
                  <a:pt x="101" y="2251"/>
                </a:lnTo>
                <a:lnTo>
                  <a:pt x="85" y="2287"/>
                </a:lnTo>
                <a:lnTo>
                  <a:pt x="72" y="2323"/>
                </a:lnTo>
                <a:lnTo>
                  <a:pt x="58" y="2360"/>
                </a:lnTo>
                <a:lnTo>
                  <a:pt x="46" y="2397"/>
                </a:lnTo>
                <a:lnTo>
                  <a:pt x="36" y="2435"/>
                </a:lnTo>
                <a:lnTo>
                  <a:pt x="26" y="2473"/>
                </a:lnTo>
                <a:lnTo>
                  <a:pt x="18" y="2511"/>
                </a:lnTo>
                <a:lnTo>
                  <a:pt x="12" y="2549"/>
                </a:lnTo>
                <a:lnTo>
                  <a:pt x="6" y="2587"/>
                </a:lnTo>
                <a:lnTo>
                  <a:pt x="2" y="2625"/>
                </a:lnTo>
                <a:lnTo>
                  <a:pt x="0" y="2662"/>
                </a:lnTo>
                <a:lnTo>
                  <a:pt x="0" y="2699"/>
                </a:lnTo>
                <a:lnTo>
                  <a:pt x="2" y="2735"/>
                </a:lnTo>
                <a:lnTo>
                  <a:pt x="5" y="2771"/>
                </a:lnTo>
                <a:lnTo>
                  <a:pt x="11" y="2807"/>
                </a:lnTo>
                <a:lnTo>
                  <a:pt x="18" y="2841"/>
                </a:lnTo>
                <a:lnTo>
                  <a:pt x="26" y="2874"/>
                </a:lnTo>
                <a:lnTo>
                  <a:pt x="38" y="2907"/>
                </a:lnTo>
                <a:lnTo>
                  <a:pt x="52" y="2938"/>
                </a:lnTo>
                <a:lnTo>
                  <a:pt x="67" y="2968"/>
                </a:lnTo>
                <a:lnTo>
                  <a:pt x="85" y="2997"/>
                </a:lnTo>
                <a:lnTo>
                  <a:pt x="106" y="3025"/>
                </a:lnTo>
                <a:lnTo>
                  <a:pt x="129" y="3051"/>
                </a:lnTo>
                <a:lnTo>
                  <a:pt x="155" y="3075"/>
                </a:lnTo>
                <a:lnTo>
                  <a:pt x="193" y="3104"/>
                </a:lnTo>
                <a:lnTo>
                  <a:pt x="231" y="3129"/>
                </a:lnTo>
                <a:lnTo>
                  <a:pt x="271" y="3150"/>
                </a:lnTo>
                <a:lnTo>
                  <a:pt x="311" y="3169"/>
                </a:lnTo>
                <a:lnTo>
                  <a:pt x="351" y="3185"/>
                </a:lnTo>
                <a:lnTo>
                  <a:pt x="392" y="3199"/>
                </a:lnTo>
                <a:lnTo>
                  <a:pt x="433" y="3210"/>
                </a:lnTo>
                <a:lnTo>
                  <a:pt x="473" y="3220"/>
                </a:lnTo>
                <a:lnTo>
                  <a:pt x="513" y="3227"/>
                </a:lnTo>
                <a:lnTo>
                  <a:pt x="552" y="3234"/>
                </a:lnTo>
                <a:lnTo>
                  <a:pt x="590" y="3240"/>
                </a:lnTo>
                <a:lnTo>
                  <a:pt x="627" y="3244"/>
                </a:lnTo>
                <a:lnTo>
                  <a:pt x="697" y="3252"/>
                </a:lnTo>
                <a:lnTo>
                  <a:pt x="760" y="3260"/>
                </a:lnTo>
                <a:lnTo>
                  <a:pt x="789" y="3264"/>
                </a:lnTo>
                <a:lnTo>
                  <a:pt x="815" y="3269"/>
                </a:lnTo>
                <a:lnTo>
                  <a:pt x="839" y="3277"/>
                </a:lnTo>
                <a:lnTo>
                  <a:pt x="860" y="3284"/>
                </a:lnTo>
                <a:lnTo>
                  <a:pt x="878" y="3293"/>
                </a:lnTo>
                <a:lnTo>
                  <a:pt x="894" y="3305"/>
                </a:lnTo>
                <a:lnTo>
                  <a:pt x="905" y="3318"/>
                </a:lnTo>
                <a:lnTo>
                  <a:pt x="914" y="3333"/>
                </a:lnTo>
                <a:lnTo>
                  <a:pt x="919" y="3352"/>
                </a:lnTo>
                <a:lnTo>
                  <a:pt x="920" y="3373"/>
                </a:lnTo>
                <a:lnTo>
                  <a:pt x="917" y="3399"/>
                </a:lnTo>
                <a:lnTo>
                  <a:pt x="909" y="3427"/>
                </a:lnTo>
                <a:lnTo>
                  <a:pt x="897" y="3459"/>
                </a:lnTo>
                <a:lnTo>
                  <a:pt x="881" y="3495"/>
                </a:lnTo>
                <a:lnTo>
                  <a:pt x="859" y="3536"/>
                </a:lnTo>
                <a:lnTo>
                  <a:pt x="833" y="3580"/>
                </a:lnTo>
                <a:lnTo>
                  <a:pt x="783" y="3680"/>
                </a:lnTo>
                <a:lnTo>
                  <a:pt x="748" y="3784"/>
                </a:lnTo>
                <a:lnTo>
                  <a:pt x="723" y="3889"/>
                </a:lnTo>
                <a:lnTo>
                  <a:pt x="711" y="3998"/>
                </a:lnTo>
                <a:lnTo>
                  <a:pt x="709" y="4106"/>
                </a:lnTo>
                <a:lnTo>
                  <a:pt x="717" y="4216"/>
                </a:lnTo>
                <a:lnTo>
                  <a:pt x="736" y="4325"/>
                </a:lnTo>
                <a:lnTo>
                  <a:pt x="763" y="4434"/>
                </a:lnTo>
                <a:lnTo>
                  <a:pt x="800" y="4539"/>
                </a:lnTo>
                <a:lnTo>
                  <a:pt x="844" y="4643"/>
                </a:lnTo>
                <a:lnTo>
                  <a:pt x="896" y="4744"/>
                </a:lnTo>
                <a:lnTo>
                  <a:pt x="954" y="4840"/>
                </a:lnTo>
                <a:lnTo>
                  <a:pt x="1019" y="4932"/>
                </a:lnTo>
                <a:lnTo>
                  <a:pt x="1088" y="5018"/>
                </a:lnTo>
                <a:lnTo>
                  <a:pt x="1164" y="5099"/>
                </a:lnTo>
                <a:lnTo>
                  <a:pt x="1243" y="5172"/>
                </a:lnTo>
                <a:lnTo>
                  <a:pt x="1327" y="5238"/>
                </a:lnTo>
                <a:lnTo>
                  <a:pt x="1413" y="5296"/>
                </a:lnTo>
                <a:lnTo>
                  <a:pt x="1502" y="5345"/>
                </a:lnTo>
                <a:lnTo>
                  <a:pt x="1593" y="5384"/>
                </a:lnTo>
                <a:lnTo>
                  <a:pt x="1685" y="5411"/>
                </a:lnTo>
                <a:lnTo>
                  <a:pt x="1779" y="5429"/>
                </a:lnTo>
                <a:lnTo>
                  <a:pt x="1872" y="5434"/>
                </a:lnTo>
                <a:lnTo>
                  <a:pt x="1965" y="5426"/>
                </a:lnTo>
                <a:lnTo>
                  <a:pt x="2057" y="5406"/>
                </a:lnTo>
                <a:lnTo>
                  <a:pt x="2148" y="5370"/>
                </a:lnTo>
                <a:lnTo>
                  <a:pt x="2236" y="5321"/>
                </a:lnTo>
                <a:lnTo>
                  <a:pt x="2321" y="5255"/>
                </a:lnTo>
                <a:lnTo>
                  <a:pt x="2403" y="5173"/>
                </a:lnTo>
                <a:lnTo>
                  <a:pt x="2481" y="5074"/>
                </a:lnTo>
                <a:lnTo>
                  <a:pt x="2555" y="4958"/>
                </a:lnTo>
                <a:lnTo>
                  <a:pt x="2623" y="4823"/>
                </a:lnTo>
                <a:lnTo>
                  <a:pt x="2679" y="4873"/>
                </a:lnTo>
                <a:lnTo>
                  <a:pt x="2740" y="4926"/>
                </a:lnTo>
                <a:lnTo>
                  <a:pt x="2772" y="4954"/>
                </a:lnTo>
                <a:lnTo>
                  <a:pt x="2805" y="4982"/>
                </a:lnTo>
                <a:lnTo>
                  <a:pt x="2840" y="5009"/>
                </a:lnTo>
                <a:lnTo>
                  <a:pt x="2874" y="5035"/>
                </a:lnTo>
                <a:lnTo>
                  <a:pt x="2910" y="5062"/>
                </a:lnTo>
                <a:lnTo>
                  <a:pt x="2947" y="5087"/>
                </a:lnTo>
                <a:lnTo>
                  <a:pt x="2985" y="5111"/>
                </a:lnTo>
                <a:lnTo>
                  <a:pt x="3022" y="5134"/>
                </a:lnTo>
                <a:lnTo>
                  <a:pt x="3061" y="5155"/>
                </a:lnTo>
                <a:lnTo>
                  <a:pt x="3100" y="5175"/>
                </a:lnTo>
                <a:lnTo>
                  <a:pt x="3140" y="5192"/>
                </a:lnTo>
                <a:lnTo>
                  <a:pt x="3180" y="5207"/>
                </a:lnTo>
                <a:lnTo>
                  <a:pt x="3221" y="5218"/>
                </a:lnTo>
                <a:lnTo>
                  <a:pt x="3261" y="5228"/>
                </a:lnTo>
                <a:lnTo>
                  <a:pt x="3302" y="5233"/>
                </a:lnTo>
                <a:lnTo>
                  <a:pt x="3343" y="5235"/>
                </a:lnTo>
                <a:lnTo>
                  <a:pt x="3384" y="5234"/>
                </a:lnTo>
                <a:lnTo>
                  <a:pt x="3426" y="5229"/>
                </a:lnTo>
                <a:lnTo>
                  <a:pt x="3467" y="5220"/>
                </a:lnTo>
                <a:lnTo>
                  <a:pt x="3508" y="5206"/>
                </a:lnTo>
                <a:lnTo>
                  <a:pt x="3549" y="5187"/>
                </a:lnTo>
                <a:lnTo>
                  <a:pt x="3589" y="5163"/>
                </a:lnTo>
                <a:lnTo>
                  <a:pt x="3630" y="5134"/>
                </a:lnTo>
                <a:lnTo>
                  <a:pt x="3670" y="5099"/>
                </a:lnTo>
                <a:lnTo>
                  <a:pt x="3709" y="5058"/>
                </a:lnTo>
                <a:lnTo>
                  <a:pt x="3749" y="5012"/>
                </a:lnTo>
                <a:lnTo>
                  <a:pt x="3787" y="4959"/>
                </a:lnTo>
                <a:lnTo>
                  <a:pt x="3825" y="4900"/>
                </a:lnTo>
                <a:lnTo>
                  <a:pt x="3841" y="4870"/>
                </a:lnTo>
                <a:lnTo>
                  <a:pt x="3856" y="4838"/>
                </a:lnTo>
                <a:lnTo>
                  <a:pt x="3870" y="4805"/>
                </a:lnTo>
                <a:lnTo>
                  <a:pt x="3883" y="4771"/>
                </a:lnTo>
                <a:lnTo>
                  <a:pt x="3909" y="4701"/>
                </a:lnTo>
                <a:lnTo>
                  <a:pt x="3934" y="4631"/>
                </a:lnTo>
                <a:lnTo>
                  <a:pt x="3948" y="4595"/>
                </a:lnTo>
                <a:lnTo>
                  <a:pt x="3961" y="4559"/>
                </a:lnTo>
                <a:lnTo>
                  <a:pt x="3976" y="4523"/>
                </a:lnTo>
                <a:lnTo>
                  <a:pt x="3993" y="4488"/>
                </a:lnTo>
                <a:lnTo>
                  <a:pt x="4011" y="4452"/>
                </a:lnTo>
                <a:lnTo>
                  <a:pt x="4031" y="4418"/>
                </a:lnTo>
                <a:lnTo>
                  <a:pt x="4041" y="4400"/>
                </a:lnTo>
                <a:lnTo>
                  <a:pt x="4053" y="4383"/>
                </a:lnTo>
                <a:lnTo>
                  <a:pt x="4064" y="4367"/>
                </a:lnTo>
                <a:lnTo>
                  <a:pt x="4077" y="4351"/>
                </a:lnTo>
                <a:lnTo>
                  <a:pt x="4102" y="4353"/>
                </a:lnTo>
                <a:lnTo>
                  <a:pt x="4128" y="4353"/>
                </a:lnTo>
                <a:lnTo>
                  <a:pt x="4154" y="4353"/>
                </a:lnTo>
                <a:lnTo>
                  <a:pt x="4180" y="4352"/>
                </a:lnTo>
                <a:lnTo>
                  <a:pt x="4205" y="4350"/>
                </a:lnTo>
                <a:lnTo>
                  <a:pt x="4231" y="4348"/>
                </a:lnTo>
                <a:lnTo>
                  <a:pt x="4258" y="4343"/>
                </a:lnTo>
                <a:lnTo>
                  <a:pt x="4284" y="4339"/>
                </a:lnTo>
                <a:lnTo>
                  <a:pt x="4337" y="4330"/>
                </a:lnTo>
                <a:lnTo>
                  <a:pt x="4390" y="4317"/>
                </a:lnTo>
                <a:lnTo>
                  <a:pt x="4444" y="4303"/>
                </a:lnTo>
                <a:lnTo>
                  <a:pt x="4497" y="4289"/>
                </a:lnTo>
                <a:lnTo>
                  <a:pt x="4607" y="4257"/>
                </a:lnTo>
                <a:lnTo>
                  <a:pt x="4717" y="4225"/>
                </a:lnTo>
                <a:lnTo>
                  <a:pt x="4773" y="4212"/>
                </a:lnTo>
                <a:lnTo>
                  <a:pt x="4830" y="4200"/>
                </a:lnTo>
                <a:lnTo>
                  <a:pt x="4858" y="4195"/>
                </a:lnTo>
                <a:lnTo>
                  <a:pt x="4886" y="4190"/>
                </a:lnTo>
                <a:lnTo>
                  <a:pt x="4915" y="4185"/>
                </a:lnTo>
                <a:lnTo>
                  <a:pt x="4943" y="4182"/>
                </a:lnTo>
                <a:lnTo>
                  <a:pt x="4939" y="4151"/>
                </a:lnTo>
                <a:lnTo>
                  <a:pt x="4935" y="4123"/>
                </a:lnTo>
                <a:lnTo>
                  <a:pt x="4929" y="4099"/>
                </a:lnTo>
                <a:lnTo>
                  <a:pt x="4924" y="4079"/>
                </a:lnTo>
                <a:lnTo>
                  <a:pt x="4917" y="4061"/>
                </a:lnTo>
                <a:lnTo>
                  <a:pt x="4909" y="4047"/>
                </a:lnTo>
                <a:lnTo>
                  <a:pt x="4900" y="4036"/>
                </a:lnTo>
                <a:lnTo>
                  <a:pt x="4891" y="4027"/>
                </a:lnTo>
                <a:lnTo>
                  <a:pt x="4880" y="4022"/>
                </a:lnTo>
                <a:lnTo>
                  <a:pt x="4867" y="4018"/>
                </a:lnTo>
                <a:lnTo>
                  <a:pt x="4855" y="4017"/>
                </a:lnTo>
                <a:lnTo>
                  <a:pt x="4841" y="4017"/>
                </a:lnTo>
                <a:lnTo>
                  <a:pt x="4826" y="4019"/>
                </a:lnTo>
                <a:lnTo>
                  <a:pt x="4811" y="4023"/>
                </a:lnTo>
                <a:lnTo>
                  <a:pt x="4794" y="4028"/>
                </a:lnTo>
                <a:lnTo>
                  <a:pt x="4776" y="4035"/>
                </a:lnTo>
                <a:lnTo>
                  <a:pt x="4736" y="4051"/>
                </a:lnTo>
                <a:lnTo>
                  <a:pt x="4692" y="4068"/>
                </a:lnTo>
                <a:lnTo>
                  <a:pt x="4668" y="4079"/>
                </a:lnTo>
                <a:lnTo>
                  <a:pt x="4644" y="4088"/>
                </a:lnTo>
                <a:lnTo>
                  <a:pt x="4617" y="4098"/>
                </a:lnTo>
                <a:lnTo>
                  <a:pt x="4589" y="4107"/>
                </a:lnTo>
                <a:lnTo>
                  <a:pt x="4560" y="4117"/>
                </a:lnTo>
                <a:lnTo>
                  <a:pt x="4530" y="4124"/>
                </a:lnTo>
                <a:lnTo>
                  <a:pt x="4500" y="4132"/>
                </a:lnTo>
                <a:lnTo>
                  <a:pt x="4467" y="4138"/>
                </a:lnTo>
                <a:lnTo>
                  <a:pt x="4432" y="4143"/>
                </a:lnTo>
                <a:lnTo>
                  <a:pt x="4398" y="4147"/>
                </a:lnTo>
                <a:lnTo>
                  <a:pt x="4361" y="4150"/>
                </a:lnTo>
                <a:lnTo>
                  <a:pt x="4323" y="4150"/>
                </a:lnTo>
                <a:lnTo>
                  <a:pt x="4299" y="4150"/>
                </a:lnTo>
                <a:lnTo>
                  <a:pt x="4277" y="4149"/>
                </a:lnTo>
                <a:lnTo>
                  <a:pt x="4256" y="4146"/>
                </a:lnTo>
                <a:lnTo>
                  <a:pt x="4237" y="4144"/>
                </a:lnTo>
                <a:lnTo>
                  <a:pt x="4219" y="4141"/>
                </a:lnTo>
                <a:lnTo>
                  <a:pt x="4202" y="4137"/>
                </a:lnTo>
                <a:lnTo>
                  <a:pt x="4187" y="4133"/>
                </a:lnTo>
                <a:lnTo>
                  <a:pt x="4173" y="4127"/>
                </a:lnTo>
                <a:lnTo>
                  <a:pt x="4160" y="4122"/>
                </a:lnTo>
                <a:lnTo>
                  <a:pt x="4147" y="4117"/>
                </a:lnTo>
                <a:lnTo>
                  <a:pt x="4137" y="4111"/>
                </a:lnTo>
                <a:lnTo>
                  <a:pt x="4126" y="4103"/>
                </a:lnTo>
                <a:lnTo>
                  <a:pt x="4106" y="4090"/>
                </a:lnTo>
                <a:lnTo>
                  <a:pt x="4090" y="4075"/>
                </a:lnTo>
                <a:lnTo>
                  <a:pt x="4059" y="4042"/>
                </a:lnTo>
                <a:lnTo>
                  <a:pt x="4026" y="4011"/>
                </a:lnTo>
                <a:lnTo>
                  <a:pt x="4017" y="4003"/>
                </a:lnTo>
                <a:lnTo>
                  <a:pt x="4008" y="3995"/>
                </a:lnTo>
                <a:lnTo>
                  <a:pt x="3998" y="3987"/>
                </a:lnTo>
                <a:lnTo>
                  <a:pt x="3986" y="3981"/>
                </a:lnTo>
                <a:lnTo>
                  <a:pt x="3975" y="3974"/>
                </a:lnTo>
                <a:lnTo>
                  <a:pt x="3962" y="3967"/>
                </a:lnTo>
                <a:lnTo>
                  <a:pt x="3950" y="3961"/>
                </a:lnTo>
                <a:lnTo>
                  <a:pt x="3935" y="3956"/>
                </a:lnTo>
                <a:lnTo>
                  <a:pt x="3936" y="4003"/>
                </a:lnTo>
                <a:lnTo>
                  <a:pt x="3932" y="4053"/>
                </a:lnTo>
                <a:lnTo>
                  <a:pt x="3922" y="4106"/>
                </a:lnTo>
                <a:lnTo>
                  <a:pt x="3908" y="4161"/>
                </a:lnTo>
                <a:lnTo>
                  <a:pt x="3887" y="4218"/>
                </a:lnTo>
                <a:lnTo>
                  <a:pt x="3862" y="4276"/>
                </a:lnTo>
                <a:lnTo>
                  <a:pt x="3834" y="4334"/>
                </a:lnTo>
                <a:lnTo>
                  <a:pt x="3801" y="4393"/>
                </a:lnTo>
                <a:lnTo>
                  <a:pt x="3766" y="4451"/>
                </a:lnTo>
                <a:lnTo>
                  <a:pt x="3727" y="4508"/>
                </a:lnTo>
                <a:lnTo>
                  <a:pt x="3685" y="4563"/>
                </a:lnTo>
                <a:lnTo>
                  <a:pt x="3642" y="4618"/>
                </a:lnTo>
                <a:lnTo>
                  <a:pt x="3595" y="4670"/>
                </a:lnTo>
                <a:lnTo>
                  <a:pt x="3548" y="4718"/>
                </a:lnTo>
                <a:lnTo>
                  <a:pt x="3500" y="4764"/>
                </a:lnTo>
                <a:lnTo>
                  <a:pt x="3450" y="4806"/>
                </a:lnTo>
                <a:lnTo>
                  <a:pt x="3400" y="4843"/>
                </a:lnTo>
                <a:lnTo>
                  <a:pt x="3350" y="4875"/>
                </a:lnTo>
                <a:lnTo>
                  <a:pt x="3301" y="4901"/>
                </a:lnTo>
                <a:lnTo>
                  <a:pt x="3252" y="4923"/>
                </a:lnTo>
                <a:lnTo>
                  <a:pt x="3203" y="4937"/>
                </a:lnTo>
                <a:lnTo>
                  <a:pt x="3157" y="4946"/>
                </a:lnTo>
                <a:lnTo>
                  <a:pt x="3112" y="4946"/>
                </a:lnTo>
                <a:lnTo>
                  <a:pt x="3070" y="4938"/>
                </a:lnTo>
                <a:lnTo>
                  <a:pt x="3030" y="4924"/>
                </a:lnTo>
                <a:lnTo>
                  <a:pt x="2992" y="4898"/>
                </a:lnTo>
                <a:lnTo>
                  <a:pt x="2958" y="4865"/>
                </a:lnTo>
                <a:lnTo>
                  <a:pt x="2928" y="4821"/>
                </a:lnTo>
                <a:lnTo>
                  <a:pt x="2901" y="4767"/>
                </a:lnTo>
                <a:lnTo>
                  <a:pt x="2878" y="4702"/>
                </a:lnTo>
                <a:lnTo>
                  <a:pt x="2862" y="4627"/>
                </a:lnTo>
                <a:lnTo>
                  <a:pt x="2849" y="4538"/>
                </a:lnTo>
                <a:lnTo>
                  <a:pt x="2837" y="4447"/>
                </a:lnTo>
                <a:lnTo>
                  <a:pt x="2823" y="4375"/>
                </a:lnTo>
                <a:lnTo>
                  <a:pt x="2806" y="4320"/>
                </a:lnTo>
                <a:lnTo>
                  <a:pt x="2786" y="4283"/>
                </a:lnTo>
                <a:lnTo>
                  <a:pt x="2764" y="4261"/>
                </a:lnTo>
                <a:lnTo>
                  <a:pt x="2739" y="4253"/>
                </a:lnTo>
                <a:lnTo>
                  <a:pt x="2711" y="4258"/>
                </a:lnTo>
                <a:lnTo>
                  <a:pt x="2682" y="4275"/>
                </a:lnTo>
                <a:lnTo>
                  <a:pt x="2649" y="4302"/>
                </a:lnTo>
                <a:lnTo>
                  <a:pt x="2615" y="4338"/>
                </a:lnTo>
                <a:lnTo>
                  <a:pt x="2578" y="4383"/>
                </a:lnTo>
                <a:lnTo>
                  <a:pt x="2539" y="4435"/>
                </a:lnTo>
                <a:lnTo>
                  <a:pt x="2454" y="4553"/>
                </a:lnTo>
                <a:lnTo>
                  <a:pt x="2360" y="4683"/>
                </a:lnTo>
                <a:lnTo>
                  <a:pt x="2311" y="4750"/>
                </a:lnTo>
                <a:lnTo>
                  <a:pt x="2258" y="4816"/>
                </a:lnTo>
                <a:lnTo>
                  <a:pt x="2205" y="4880"/>
                </a:lnTo>
                <a:lnTo>
                  <a:pt x="2149" y="4940"/>
                </a:lnTo>
                <a:lnTo>
                  <a:pt x="2091" y="4997"/>
                </a:lnTo>
                <a:lnTo>
                  <a:pt x="2031" y="5049"/>
                </a:lnTo>
                <a:lnTo>
                  <a:pt x="1970" y="5093"/>
                </a:lnTo>
                <a:lnTo>
                  <a:pt x="1907" y="5129"/>
                </a:lnTo>
                <a:lnTo>
                  <a:pt x="1842" y="5156"/>
                </a:lnTo>
                <a:lnTo>
                  <a:pt x="1776" y="5172"/>
                </a:lnTo>
                <a:lnTo>
                  <a:pt x="1707" y="5176"/>
                </a:lnTo>
                <a:lnTo>
                  <a:pt x="1637" y="5168"/>
                </a:lnTo>
                <a:lnTo>
                  <a:pt x="1567" y="5145"/>
                </a:lnTo>
                <a:lnTo>
                  <a:pt x="1493" y="5107"/>
                </a:lnTo>
                <a:lnTo>
                  <a:pt x="1419" y="5051"/>
                </a:lnTo>
                <a:lnTo>
                  <a:pt x="1344" y="4978"/>
                </a:lnTo>
                <a:lnTo>
                  <a:pt x="1311" y="4945"/>
                </a:lnTo>
                <a:lnTo>
                  <a:pt x="1282" y="4910"/>
                </a:lnTo>
                <a:lnTo>
                  <a:pt x="1253" y="4873"/>
                </a:lnTo>
                <a:lnTo>
                  <a:pt x="1226" y="4834"/>
                </a:lnTo>
                <a:lnTo>
                  <a:pt x="1201" y="4795"/>
                </a:lnTo>
                <a:lnTo>
                  <a:pt x="1178" y="4754"/>
                </a:lnTo>
                <a:lnTo>
                  <a:pt x="1155" y="4712"/>
                </a:lnTo>
                <a:lnTo>
                  <a:pt x="1136" y="4669"/>
                </a:lnTo>
                <a:lnTo>
                  <a:pt x="1118" y="4625"/>
                </a:lnTo>
                <a:lnTo>
                  <a:pt x="1101" y="4579"/>
                </a:lnTo>
                <a:lnTo>
                  <a:pt x="1086" y="4534"/>
                </a:lnTo>
                <a:lnTo>
                  <a:pt x="1073" y="4488"/>
                </a:lnTo>
                <a:lnTo>
                  <a:pt x="1062" y="4440"/>
                </a:lnTo>
                <a:lnTo>
                  <a:pt x="1052" y="4393"/>
                </a:lnTo>
                <a:lnTo>
                  <a:pt x="1045" y="4345"/>
                </a:lnTo>
                <a:lnTo>
                  <a:pt x="1039" y="4297"/>
                </a:lnTo>
                <a:lnTo>
                  <a:pt x="1035" y="4249"/>
                </a:lnTo>
                <a:lnTo>
                  <a:pt x="1032" y="4200"/>
                </a:lnTo>
                <a:lnTo>
                  <a:pt x="1031" y="4152"/>
                </a:lnTo>
                <a:lnTo>
                  <a:pt x="1034" y="4103"/>
                </a:lnTo>
                <a:lnTo>
                  <a:pt x="1037" y="4056"/>
                </a:lnTo>
                <a:lnTo>
                  <a:pt x="1042" y="4007"/>
                </a:lnTo>
                <a:lnTo>
                  <a:pt x="1048" y="3960"/>
                </a:lnTo>
                <a:lnTo>
                  <a:pt x="1057" y="3914"/>
                </a:lnTo>
                <a:lnTo>
                  <a:pt x="1067" y="3867"/>
                </a:lnTo>
                <a:lnTo>
                  <a:pt x="1080" y="3821"/>
                </a:lnTo>
                <a:lnTo>
                  <a:pt x="1095" y="3777"/>
                </a:lnTo>
                <a:lnTo>
                  <a:pt x="1110" y="3733"/>
                </a:lnTo>
                <a:lnTo>
                  <a:pt x="1129" y="3689"/>
                </a:lnTo>
                <a:lnTo>
                  <a:pt x="1149" y="3647"/>
                </a:lnTo>
                <a:lnTo>
                  <a:pt x="1171" y="3606"/>
                </a:lnTo>
                <a:lnTo>
                  <a:pt x="1194" y="3567"/>
                </a:lnTo>
                <a:lnTo>
                  <a:pt x="1207" y="3541"/>
                </a:lnTo>
                <a:lnTo>
                  <a:pt x="1222" y="3516"/>
                </a:lnTo>
                <a:lnTo>
                  <a:pt x="1236" y="3490"/>
                </a:lnTo>
                <a:lnTo>
                  <a:pt x="1251" y="3464"/>
                </a:lnTo>
                <a:lnTo>
                  <a:pt x="1268" y="3440"/>
                </a:lnTo>
                <a:lnTo>
                  <a:pt x="1285" y="3414"/>
                </a:lnTo>
                <a:lnTo>
                  <a:pt x="1303" y="3389"/>
                </a:lnTo>
                <a:lnTo>
                  <a:pt x="1321" y="3365"/>
                </a:lnTo>
                <a:lnTo>
                  <a:pt x="1395" y="3267"/>
                </a:lnTo>
                <a:lnTo>
                  <a:pt x="1470" y="3171"/>
                </a:lnTo>
                <a:lnTo>
                  <a:pt x="1504" y="3124"/>
                </a:lnTo>
                <a:lnTo>
                  <a:pt x="1536" y="3076"/>
                </a:lnTo>
                <a:lnTo>
                  <a:pt x="1551" y="3053"/>
                </a:lnTo>
                <a:lnTo>
                  <a:pt x="1564" y="3029"/>
                </a:lnTo>
                <a:lnTo>
                  <a:pt x="1577" y="3006"/>
                </a:lnTo>
                <a:lnTo>
                  <a:pt x="1590" y="2982"/>
                </a:lnTo>
                <a:lnTo>
                  <a:pt x="1599" y="2958"/>
                </a:lnTo>
                <a:lnTo>
                  <a:pt x="1609" y="2934"/>
                </a:lnTo>
                <a:lnTo>
                  <a:pt x="1616" y="2910"/>
                </a:lnTo>
                <a:lnTo>
                  <a:pt x="1622" y="2887"/>
                </a:lnTo>
                <a:lnTo>
                  <a:pt x="1626" y="2863"/>
                </a:lnTo>
                <a:lnTo>
                  <a:pt x="1629" y="2838"/>
                </a:lnTo>
                <a:lnTo>
                  <a:pt x="1630" y="2814"/>
                </a:lnTo>
                <a:lnTo>
                  <a:pt x="1627" y="2790"/>
                </a:lnTo>
                <a:lnTo>
                  <a:pt x="1609" y="2794"/>
                </a:lnTo>
                <a:lnTo>
                  <a:pt x="1586" y="2801"/>
                </a:lnTo>
                <a:lnTo>
                  <a:pt x="1562" y="2808"/>
                </a:lnTo>
                <a:lnTo>
                  <a:pt x="1539" y="2815"/>
                </a:lnTo>
                <a:lnTo>
                  <a:pt x="1518" y="2823"/>
                </a:lnTo>
                <a:lnTo>
                  <a:pt x="1501" y="2829"/>
                </a:lnTo>
                <a:lnTo>
                  <a:pt x="1490" y="2834"/>
                </a:lnTo>
                <a:lnTo>
                  <a:pt x="1486" y="2835"/>
                </a:lnTo>
                <a:lnTo>
                  <a:pt x="1434" y="2810"/>
                </a:lnTo>
                <a:lnTo>
                  <a:pt x="1372" y="2819"/>
                </a:lnTo>
                <a:lnTo>
                  <a:pt x="1313" y="2829"/>
                </a:lnTo>
                <a:lnTo>
                  <a:pt x="1256" y="2839"/>
                </a:lnTo>
                <a:lnTo>
                  <a:pt x="1202" y="2850"/>
                </a:lnTo>
                <a:lnTo>
                  <a:pt x="1100" y="2871"/>
                </a:lnTo>
                <a:lnTo>
                  <a:pt x="1006" y="2891"/>
                </a:lnTo>
                <a:lnTo>
                  <a:pt x="963" y="2900"/>
                </a:lnTo>
                <a:lnTo>
                  <a:pt x="921" y="2908"/>
                </a:lnTo>
                <a:lnTo>
                  <a:pt x="881" y="2915"/>
                </a:lnTo>
                <a:lnTo>
                  <a:pt x="844" y="2921"/>
                </a:lnTo>
                <a:lnTo>
                  <a:pt x="809" y="2926"/>
                </a:lnTo>
                <a:lnTo>
                  <a:pt x="774" y="2929"/>
                </a:lnTo>
                <a:lnTo>
                  <a:pt x="742" y="2930"/>
                </a:lnTo>
                <a:lnTo>
                  <a:pt x="712" y="2929"/>
                </a:lnTo>
                <a:lnTo>
                  <a:pt x="682" y="2927"/>
                </a:lnTo>
                <a:lnTo>
                  <a:pt x="655" y="2922"/>
                </a:lnTo>
                <a:lnTo>
                  <a:pt x="630" y="2915"/>
                </a:lnTo>
                <a:lnTo>
                  <a:pt x="606" y="2905"/>
                </a:lnTo>
                <a:lnTo>
                  <a:pt x="583" y="2893"/>
                </a:lnTo>
                <a:lnTo>
                  <a:pt x="560" y="2877"/>
                </a:lnTo>
                <a:lnTo>
                  <a:pt x="540" y="2858"/>
                </a:lnTo>
                <a:lnTo>
                  <a:pt x="522" y="2837"/>
                </a:lnTo>
                <a:lnTo>
                  <a:pt x="504" y="2812"/>
                </a:lnTo>
                <a:lnTo>
                  <a:pt x="487" y="2783"/>
                </a:lnTo>
                <a:lnTo>
                  <a:pt x="471" y="2751"/>
                </a:lnTo>
                <a:lnTo>
                  <a:pt x="456" y="2714"/>
                </a:lnTo>
                <a:lnTo>
                  <a:pt x="443" y="2673"/>
                </a:lnTo>
                <a:lnTo>
                  <a:pt x="430" y="2629"/>
                </a:lnTo>
                <a:lnTo>
                  <a:pt x="418" y="2579"/>
                </a:lnTo>
                <a:lnTo>
                  <a:pt x="406" y="2525"/>
                </a:lnTo>
                <a:lnTo>
                  <a:pt x="402" y="2480"/>
                </a:lnTo>
                <a:lnTo>
                  <a:pt x="403" y="2435"/>
                </a:lnTo>
                <a:lnTo>
                  <a:pt x="410" y="2390"/>
                </a:lnTo>
                <a:lnTo>
                  <a:pt x="424" y="2343"/>
                </a:lnTo>
                <a:lnTo>
                  <a:pt x="443" y="2298"/>
                </a:lnTo>
                <a:lnTo>
                  <a:pt x="467" y="2253"/>
                </a:lnTo>
                <a:lnTo>
                  <a:pt x="495" y="2208"/>
                </a:lnTo>
                <a:lnTo>
                  <a:pt x="527" y="2163"/>
                </a:lnTo>
                <a:lnTo>
                  <a:pt x="564" y="2118"/>
                </a:lnTo>
                <a:lnTo>
                  <a:pt x="604" y="2074"/>
                </a:lnTo>
                <a:lnTo>
                  <a:pt x="646" y="2030"/>
                </a:lnTo>
                <a:lnTo>
                  <a:pt x="691" y="1985"/>
                </a:lnTo>
                <a:lnTo>
                  <a:pt x="738" y="1942"/>
                </a:lnTo>
                <a:lnTo>
                  <a:pt x="788" y="1899"/>
                </a:lnTo>
                <a:lnTo>
                  <a:pt x="838" y="1856"/>
                </a:lnTo>
                <a:lnTo>
                  <a:pt x="890" y="1815"/>
                </a:lnTo>
                <a:lnTo>
                  <a:pt x="1097" y="1654"/>
                </a:lnTo>
                <a:lnTo>
                  <a:pt x="1288" y="1507"/>
                </a:lnTo>
                <a:lnTo>
                  <a:pt x="1330" y="1473"/>
                </a:lnTo>
                <a:lnTo>
                  <a:pt x="1369" y="1440"/>
                </a:lnTo>
                <a:lnTo>
                  <a:pt x="1405" y="1408"/>
                </a:lnTo>
                <a:lnTo>
                  <a:pt x="1437" y="1378"/>
                </a:lnTo>
                <a:lnTo>
                  <a:pt x="1465" y="1348"/>
                </a:lnTo>
                <a:lnTo>
                  <a:pt x="1488" y="1321"/>
                </a:lnTo>
                <a:lnTo>
                  <a:pt x="1506" y="1293"/>
                </a:lnTo>
                <a:lnTo>
                  <a:pt x="1518" y="1269"/>
                </a:lnTo>
                <a:lnTo>
                  <a:pt x="1410" y="1282"/>
                </a:lnTo>
                <a:lnTo>
                  <a:pt x="1307" y="1289"/>
                </a:lnTo>
                <a:lnTo>
                  <a:pt x="1210" y="1291"/>
                </a:lnTo>
                <a:lnTo>
                  <a:pt x="1119" y="1288"/>
                </a:lnTo>
                <a:lnTo>
                  <a:pt x="1032" y="1280"/>
                </a:lnTo>
                <a:lnTo>
                  <a:pt x="953" y="1266"/>
                </a:lnTo>
                <a:lnTo>
                  <a:pt x="879" y="1248"/>
                </a:lnTo>
                <a:lnTo>
                  <a:pt x="811" y="1227"/>
                </a:lnTo>
                <a:lnTo>
                  <a:pt x="749" y="1201"/>
                </a:lnTo>
                <a:lnTo>
                  <a:pt x="692" y="1171"/>
                </a:lnTo>
                <a:lnTo>
                  <a:pt x="641" y="1139"/>
                </a:lnTo>
                <a:lnTo>
                  <a:pt x="597" y="1103"/>
                </a:lnTo>
                <a:lnTo>
                  <a:pt x="559" y="1065"/>
                </a:lnTo>
                <a:lnTo>
                  <a:pt x="528" y="1024"/>
                </a:lnTo>
                <a:lnTo>
                  <a:pt x="503" y="981"/>
                </a:lnTo>
                <a:lnTo>
                  <a:pt x="484" y="935"/>
                </a:lnTo>
                <a:lnTo>
                  <a:pt x="471" y="889"/>
                </a:lnTo>
                <a:lnTo>
                  <a:pt x="465" y="841"/>
                </a:lnTo>
                <a:lnTo>
                  <a:pt x="466" y="792"/>
                </a:lnTo>
                <a:lnTo>
                  <a:pt x="473" y="743"/>
                </a:lnTo>
                <a:lnTo>
                  <a:pt x="487" y="692"/>
                </a:lnTo>
                <a:lnTo>
                  <a:pt x="508" y="643"/>
                </a:lnTo>
                <a:lnTo>
                  <a:pt x="535" y="592"/>
                </a:lnTo>
                <a:lnTo>
                  <a:pt x="569" y="543"/>
                </a:lnTo>
                <a:lnTo>
                  <a:pt x="610" y="493"/>
                </a:lnTo>
                <a:lnTo>
                  <a:pt x="658" y="446"/>
                </a:lnTo>
                <a:lnTo>
                  <a:pt x="714" y="398"/>
                </a:lnTo>
                <a:lnTo>
                  <a:pt x="776" y="353"/>
                </a:lnTo>
                <a:lnTo>
                  <a:pt x="845" y="310"/>
                </a:lnTo>
                <a:lnTo>
                  <a:pt x="922" y="269"/>
                </a:lnTo>
                <a:lnTo>
                  <a:pt x="1006" y="230"/>
                </a:lnTo>
                <a:lnTo>
                  <a:pt x="1098" y="194"/>
                </a:lnTo>
                <a:lnTo>
                  <a:pt x="1194" y="209"/>
                </a:lnTo>
                <a:lnTo>
                  <a:pt x="1287" y="221"/>
                </a:lnTo>
                <a:lnTo>
                  <a:pt x="1374" y="234"/>
                </a:lnTo>
                <a:lnTo>
                  <a:pt x="1455" y="245"/>
                </a:lnTo>
                <a:lnTo>
                  <a:pt x="1528" y="252"/>
                </a:lnTo>
                <a:lnTo>
                  <a:pt x="1590" y="258"/>
                </a:lnTo>
                <a:lnTo>
                  <a:pt x="1617" y="259"/>
                </a:lnTo>
                <a:lnTo>
                  <a:pt x="1640" y="260"/>
                </a:lnTo>
                <a:lnTo>
                  <a:pt x="1661" y="260"/>
                </a:lnTo>
                <a:lnTo>
                  <a:pt x="1679" y="259"/>
                </a:lnTo>
                <a:lnTo>
                  <a:pt x="1693" y="257"/>
                </a:lnTo>
                <a:lnTo>
                  <a:pt x="1702" y="254"/>
                </a:lnTo>
                <a:lnTo>
                  <a:pt x="1708" y="250"/>
                </a:lnTo>
                <a:lnTo>
                  <a:pt x="1711" y="245"/>
                </a:lnTo>
                <a:lnTo>
                  <a:pt x="1708" y="238"/>
                </a:lnTo>
                <a:lnTo>
                  <a:pt x="1701" y="230"/>
                </a:lnTo>
                <a:lnTo>
                  <a:pt x="1690" y="221"/>
                </a:lnTo>
                <a:lnTo>
                  <a:pt x="1673" y="211"/>
                </a:lnTo>
                <a:lnTo>
                  <a:pt x="1652" y="199"/>
                </a:lnTo>
                <a:lnTo>
                  <a:pt x="1624" y="186"/>
                </a:lnTo>
                <a:lnTo>
                  <a:pt x="1593" y="171"/>
                </a:lnTo>
                <a:lnTo>
                  <a:pt x="1555" y="154"/>
                </a:lnTo>
                <a:lnTo>
                  <a:pt x="1511" y="136"/>
                </a:lnTo>
                <a:lnTo>
                  <a:pt x="1461" y="116"/>
                </a:lnTo>
                <a:lnTo>
                  <a:pt x="1406" y="95"/>
                </a:lnTo>
                <a:lnTo>
                  <a:pt x="1344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29520" y="3083040"/>
            <a:ext cx="104760" cy="52200"/>
          </a:xfrm>
          <a:custGeom>
            <a:avLst/>
            <a:gdLst/>
            <a:ahLst/>
            <a:rect l="l" t="t" r="r" b="b"/>
            <a:pathLst>
              <a:path w="6013" h="2257">
                <a:moveTo>
                  <a:pt x="447" y="2051"/>
                </a:moveTo>
                <a:lnTo>
                  <a:pt x="449" y="2044"/>
                </a:lnTo>
                <a:lnTo>
                  <a:pt x="451" y="2034"/>
                </a:lnTo>
                <a:lnTo>
                  <a:pt x="454" y="2024"/>
                </a:lnTo>
                <a:lnTo>
                  <a:pt x="457" y="2010"/>
                </a:lnTo>
                <a:lnTo>
                  <a:pt x="467" y="1979"/>
                </a:lnTo>
                <a:lnTo>
                  <a:pt x="480" y="1942"/>
                </a:lnTo>
                <a:lnTo>
                  <a:pt x="493" y="1897"/>
                </a:lnTo>
                <a:lnTo>
                  <a:pt x="506" y="1848"/>
                </a:lnTo>
                <a:lnTo>
                  <a:pt x="513" y="1822"/>
                </a:lnTo>
                <a:lnTo>
                  <a:pt x="518" y="1794"/>
                </a:lnTo>
                <a:lnTo>
                  <a:pt x="523" y="1765"/>
                </a:lnTo>
                <a:lnTo>
                  <a:pt x="527" y="1735"/>
                </a:lnTo>
                <a:lnTo>
                  <a:pt x="532" y="1705"/>
                </a:lnTo>
                <a:lnTo>
                  <a:pt x="534" y="1673"/>
                </a:lnTo>
                <a:lnTo>
                  <a:pt x="536" y="1640"/>
                </a:lnTo>
                <a:lnTo>
                  <a:pt x="536" y="1607"/>
                </a:lnTo>
                <a:lnTo>
                  <a:pt x="535" y="1573"/>
                </a:lnTo>
                <a:lnTo>
                  <a:pt x="532" y="1538"/>
                </a:lnTo>
                <a:lnTo>
                  <a:pt x="527" y="1503"/>
                </a:lnTo>
                <a:lnTo>
                  <a:pt x="521" y="1468"/>
                </a:lnTo>
                <a:lnTo>
                  <a:pt x="514" y="1432"/>
                </a:lnTo>
                <a:lnTo>
                  <a:pt x="503" y="1396"/>
                </a:lnTo>
                <a:lnTo>
                  <a:pt x="491" y="1359"/>
                </a:lnTo>
                <a:lnTo>
                  <a:pt x="476" y="1323"/>
                </a:lnTo>
                <a:lnTo>
                  <a:pt x="458" y="1287"/>
                </a:lnTo>
                <a:lnTo>
                  <a:pt x="438" y="1250"/>
                </a:lnTo>
                <a:lnTo>
                  <a:pt x="415" y="1213"/>
                </a:lnTo>
                <a:lnTo>
                  <a:pt x="390" y="1177"/>
                </a:lnTo>
                <a:lnTo>
                  <a:pt x="372" y="1150"/>
                </a:lnTo>
                <a:lnTo>
                  <a:pt x="359" y="1121"/>
                </a:lnTo>
                <a:lnTo>
                  <a:pt x="349" y="1092"/>
                </a:lnTo>
                <a:lnTo>
                  <a:pt x="342" y="1061"/>
                </a:lnTo>
                <a:lnTo>
                  <a:pt x="339" y="1030"/>
                </a:lnTo>
                <a:lnTo>
                  <a:pt x="339" y="997"/>
                </a:lnTo>
                <a:lnTo>
                  <a:pt x="341" y="965"/>
                </a:lnTo>
                <a:lnTo>
                  <a:pt x="348" y="933"/>
                </a:lnTo>
                <a:lnTo>
                  <a:pt x="355" y="900"/>
                </a:lnTo>
                <a:lnTo>
                  <a:pt x="365" y="868"/>
                </a:lnTo>
                <a:lnTo>
                  <a:pt x="378" y="837"/>
                </a:lnTo>
                <a:lnTo>
                  <a:pt x="393" y="806"/>
                </a:lnTo>
                <a:lnTo>
                  <a:pt x="409" y="777"/>
                </a:lnTo>
                <a:lnTo>
                  <a:pt x="426" y="748"/>
                </a:lnTo>
                <a:lnTo>
                  <a:pt x="446" y="722"/>
                </a:lnTo>
                <a:lnTo>
                  <a:pt x="466" y="698"/>
                </a:lnTo>
                <a:lnTo>
                  <a:pt x="487" y="675"/>
                </a:lnTo>
                <a:lnTo>
                  <a:pt x="511" y="655"/>
                </a:lnTo>
                <a:lnTo>
                  <a:pt x="534" y="637"/>
                </a:lnTo>
                <a:lnTo>
                  <a:pt x="557" y="622"/>
                </a:lnTo>
                <a:lnTo>
                  <a:pt x="581" y="609"/>
                </a:lnTo>
                <a:lnTo>
                  <a:pt x="605" y="601"/>
                </a:lnTo>
                <a:lnTo>
                  <a:pt x="628" y="596"/>
                </a:lnTo>
                <a:lnTo>
                  <a:pt x="652" y="594"/>
                </a:lnTo>
                <a:lnTo>
                  <a:pt x="676" y="597"/>
                </a:lnTo>
                <a:lnTo>
                  <a:pt x="698" y="603"/>
                </a:lnTo>
                <a:lnTo>
                  <a:pt x="720" y="614"/>
                </a:lnTo>
                <a:lnTo>
                  <a:pt x="741" y="629"/>
                </a:lnTo>
                <a:lnTo>
                  <a:pt x="760" y="649"/>
                </a:lnTo>
                <a:lnTo>
                  <a:pt x="779" y="676"/>
                </a:lnTo>
                <a:lnTo>
                  <a:pt x="794" y="706"/>
                </a:lnTo>
                <a:lnTo>
                  <a:pt x="810" y="743"/>
                </a:lnTo>
                <a:lnTo>
                  <a:pt x="812" y="755"/>
                </a:lnTo>
                <a:lnTo>
                  <a:pt x="818" y="768"/>
                </a:lnTo>
                <a:lnTo>
                  <a:pt x="824" y="785"/>
                </a:lnTo>
                <a:lnTo>
                  <a:pt x="833" y="804"/>
                </a:lnTo>
                <a:lnTo>
                  <a:pt x="845" y="825"/>
                </a:lnTo>
                <a:lnTo>
                  <a:pt x="857" y="848"/>
                </a:lnTo>
                <a:lnTo>
                  <a:pt x="872" y="874"/>
                </a:lnTo>
                <a:lnTo>
                  <a:pt x="888" y="900"/>
                </a:lnTo>
                <a:lnTo>
                  <a:pt x="905" y="926"/>
                </a:lnTo>
                <a:lnTo>
                  <a:pt x="924" y="955"/>
                </a:lnTo>
                <a:lnTo>
                  <a:pt x="944" y="982"/>
                </a:lnTo>
                <a:lnTo>
                  <a:pt x="964" y="1011"/>
                </a:lnTo>
                <a:lnTo>
                  <a:pt x="985" y="1039"/>
                </a:lnTo>
                <a:lnTo>
                  <a:pt x="1007" y="1067"/>
                </a:lnTo>
                <a:lnTo>
                  <a:pt x="1029" y="1095"/>
                </a:lnTo>
                <a:lnTo>
                  <a:pt x="1051" y="1121"/>
                </a:lnTo>
                <a:lnTo>
                  <a:pt x="1074" y="1148"/>
                </a:lnTo>
                <a:lnTo>
                  <a:pt x="1096" y="1172"/>
                </a:lnTo>
                <a:lnTo>
                  <a:pt x="1119" y="1194"/>
                </a:lnTo>
                <a:lnTo>
                  <a:pt x="1141" y="1214"/>
                </a:lnTo>
                <a:lnTo>
                  <a:pt x="1162" y="1233"/>
                </a:lnTo>
                <a:lnTo>
                  <a:pt x="1183" y="1248"/>
                </a:lnTo>
                <a:lnTo>
                  <a:pt x="1203" y="1261"/>
                </a:lnTo>
                <a:lnTo>
                  <a:pt x="1223" y="1271"/>
                </a:lnTo>
                <a:lnTo>
                  <a:pt x="1241" y="1278"/>
                </a:lnTo>
                <a:lnTo>
                  <a:pt x="1258" y="1280"/>
                </a:lnTo>
                <a:lnTo>
                  <a:pt x="1274" y="1280"/>
                </a:lnTo>
                <a:lnTo>
                  <a:pt x="1288" y="1275"/>
                </a:lnTo>
                <a:lnTo>
                  <a:pt x="1301" y="1265"/>
                </a:lnTo>
                <a:lnTo>
                  <a:pt x="1312" y="1252"/>
                </a:lnTo>
                <a:lnTo>
                  <a:pt x="1320" y="1233"/>
                </a:lnTo>
                <a:lnTo>
                  <a:pt x="1326" y="1209"/>
                </a:lnTo>
                <a:lnTo>
                  <a:pt x="1329" y="1197"/>
                </a:lnTo>
                <a:lnTo>
                  <a:pt x="1335" y="1182"/>
                </a:lnTo>
                <a:lnTo>
                  <a:pt x="1340" y="1168"/>
                </a:lnTo>
                <a:lnTo>
                  <a:pt x="1347" y="1151"/>
                </a:lnTo>
                <a:lnTo>
                  <a:pt x="1364" y="1113"/>
                </a:lnTo>
                <a:lnTo>
                  <a:pt x="1385" y="1072"/>
                </a:lnTo>
                <a:lnTo>
                  <a:pt x="1410" y="1027"/>
                </a:lnTo>
                <a:lnTo>
                  <a:pt x="1438" y="980"/>
                </a:lnTo>
                <a:lnTo>
                  <a:pt x="1467" y="932"/>
                </a:lnTo>
                <a:lnTo>
                  <a:pt x="1500" y="883"/>
                </a:lnTo>
                <a:lnTo>
                  <a:pt x="1532" y="835"/>
                </a:lnTo>
                <a:lnTo>
                  <a:pt x="1567" y="787"/>
                </a:lnTo>
                <a:lnTo>
                  <a:pt x="1602" y="742"/>
                </a:lnTo>
                <a:lnTo>
                  <a:pt x="1635" y="700"/>
                </a:lnTo>
                <a:lnTo>
                  <a:pt x="1652" y="681"/>
                </a:lnTo>
                <a:lnTo>
                  <a:pt x="1669" y="662"/>
                </a:lnTo>
                <a:lnTo>
                  <a:pt x="1686" y="645"/>
                </a:lnTo>
                <a:lnTo>
                  <a:pt x="1702" y="629"/>
                </a:lnTo>
                <a:lnTo>
                  <a:pt x="1716" y="615"/>
                </a:lnTo>
                <a:lnTo>
                  <a:pt x="1732" y="602"/>
                </a:lnTo>
                <a:lnTo>
                  <a:pt x="1746" y="590"/>
                </a:lnTo>
                <a:lnTo>
                  <a:pt x="1759" y="581"/>
                </a:lnTo>
                <a:lnTo>
                  <a:pt x="1804" y="599"/>
                </a:lnTo>
                <a:lnTo>
                  <a:pt x="1842" y="618"/>
                </a:lnTo>
                <a:lnTo>
                  <a:pt x="1878" y="638"/>
                </a:lnTo>
                <a:lnTo>
                  <a:pt x="1909" y="658"/>
                </a:lnTo>
                <a:lnTo>
                  <a:pt x="1936" y="680"/>
                </a:lnTo>
                <a:lnTo>
                  <a:pt x="1959" y="703"/>
                </a:lnTo>
                <a:lnTo>
                  <a:pt x="1980" y="726"/>
                </a:lnTo>
                <a:lnTo>
                  <a:pt x="1997" y="752"/>
                </a:lnTo>
                <a:lnTo>
                  <a:pt x="2011" y="777"/>
                </a:lnTo>
                <a:lnTo>
                  <a:pt x="2021" y="803"/>
                </a:lnTo>
                <a:lnTo>
                  <a:pt x="2031" y="829"/>
                </a:lnTo>
                <a:lnTo>
                  <a:pt x="2037" y="857"/>
                </a:lnTo>
                <a:lnTo>
                  <a:pt x="2040" y="885"/>
                </a:lnTo>
                <a:lnTo>
                  <a:pt x="2042" y="914"/>
                </a:lnTo>
                <a:lnTo>
                  <a:pt x="2043" y="942"/>
                </a:lnTo>
                <a:lnTo>
                  <a:pt x="2041" y="972"/>
                </a:lnTo>
                <a:lnTo>
                  <a:pt x="2039" y="1002"/>
                </a:lnTo>
                <a:lnTo>
                  <a:pt x="2035" y="1032"/>
                </a:lnTo>
                <a:lnTo>
                  <a:pt x="2031" y="1062"/>
                </a:lnTo>
                <a:lnTo>
                  <a:pt x="2025" y="1093"/>
                </a:lnTo>
                <a:lnTo>
                  <a:pt x="2013" y="1154"/>
                </a:lnTo>
                <a:lnTo>
                  <a:pt x="2000" y="1216"/>
                </a:lnTo>
                <a:lnTo>
                  <a:pt x="1995" y="1246"/>
                </a:lnTo>
                <a:lnTo>
                  <a:pt x="1990" y="1277"/>
                </a:lnTo>
                <a:lnTo>
                  <a:pt x="1984" y="1308"/>
                </a:lnTo>
                <a:lnTo>
                  <a:pt x="1981" y="1338"/>
                </a:lnTo>
                <a:lnTo>
                  <a:pt x="1978" y="1368"/>
                </a:lnTo>
                <a:lnTo>
                  <a:pt x="1977" y="1397"/>
                </a:lnTo>
                <a:lnTo>
                  <a:pt x="1977" y="1427"/>
                </a:lnTo>
                <a:lnTo>
                  <a:pt x="1979" y="1455"/>
                </a:lnTo>
                <a:lnTo>
                  <a:pt x="2012" y="1452"/>
                </a:lnTo>
                <a:lnTo>
                  <a:pt x="2050" y="1450"/>
                </a:lnTo>
                <a:lnTo>
                  <a:pt x="2092" y="1448"/>
                </a:lnTo>
                <a:lnTo>
                  <a:pt x="2140" y="1446"/>
                </a:lnTo>
                <a:lnTo>
                  <a:pt x="2247" y="1441"/>
                </a:lnTo>
                <a:lnTo>
                  <a:pt x="2368" y="1438"/>
                </a:lnTo>
                <a:lnTo>
                  <a:pt x="2500" y="1434"/>
                </a:lnTo>
                <a:lnTo>
                  <a:pt x="2638" y="1428"/>
                </a:lnTo>
                <a:lnTo>
                  <a:pt x="2708" y="1424"/>
                </a:lnTo>
                <a:lnTo>
                  <a:pt x="2779" y="1420"/>
                </a:lnTo>
                <a:lnTo>
                  <a:pt x="2850" y="1416"/>
                </a:lnTo>
                <a:lnTo>
                  <a:pt x="2920" y="1411"/>
                </a:lnTo>
                <a:lnTo>
                  <a:pt x="2988" y="1404"/>
                </a:lnTo>
                <a:lnTo>
                  <a:pt x="3057" y="1398"/>
                </a:lnTo>
                <a:lnTo>
                  <a:pt x="3122" y="1390"/>
                </a:lnTo>
                <a:lnTo>
                  <a:pt x="3186" y="1381"/>
                </a:lnTo>
                <a:lnTo>
                  <a:pt x="3247" y="1372"/>
                </a:lnTo>
                <a:lnTo>
                  <a:pt x="3304" y="1361"/>
                </a:lnTo>
                <a:lnTo>
                  <a:pt x="3358" y="1349"/>
                </a:lnTo>
                <a:lnTo>
                  <a:pt x="3408" y="1336"/>
                </a:lnTo>
                <a:lnTo>
                  <a:pt x="3453" y="1321"/>
                </a:lnTo>
                <a:lnTo>
                  <a:pt x="3494" y="1305"/>
                </a:lnTo>
                <a:lnTo>
                  <a:pt x="3529" y="1288"/>
                </a:lnTo>
                <a:lnTo>
                  <a:pt x="3558" y="1269"/>
                </a:lnTo>
                <a:lnTo>
                  <a:pt x="3581" y="1249"/>
                </a:lnTo>
                <a:lnTo>
                  <a:pt x="3597" y="1226"/>
                </a:lnTo>
                <a:lnTo>
                  <a:pt x="3606" y="1202"/>
                </a:lnTo>
                <a:lnTo>
                  <a:pt x="3608" y="1177"/>
                </a:lnTo>
                <a:lnTo>
                  <a:pt x="3603" y="1149"/>
                </a:lnTo>
                <a:lnTo>
                  <a:pt x="3596" y="1120"/>
                </a:lnTo>
                <a:lnTo>
                  <a:pt x="3588" y="1091"/>
                </a:lnTo>
                <a:lnTo>
                  <a:pt x="3578" y="1061"/>
                </a:lnTo>
                <a:lnTo>
                  <a:pt x="3556" y="1001"/>
                </a:lnTo>
                <a:lnTo>
                  <a:pt x="3531" y="940"/>
                </a:lnTo>
                <a:lnTo>
                  <a:pt x="3519" y="908"/>
                </a:lnTo>
                <a:lnTo>
                  <a:pt x="3507" y="878"/>
                </a:lnTo>
                <a:lnTo>
                  <a:pt x="3495" y="847"/>
                </a:lnTo>
                <a:lnTo>
                  <a:pt x="3486" y="817"/>
                </a:lnTo>
                <a:lnTo>
                  <a:pt x="3476" y="786"/>
                </a:lnTo>
                <a:lnTo>
                  <a:pt x="3469" y="757"/>
                </a:lnTo>
                <a:lnTo>
                  <a:pt x="3466" y="742"/>
                </a:lnTo>
                <a:lnTo>
                  <a:pt x="3462" y="727"/>
                </a:lnTo>
                <a:lnTo>
                  <a:pt x="3460" y="713"/>
                </a:lnTo>
                <a:lnTo>
                  <a:pt x="3459" y="698"/>
                </a:lnTo>
                <a:lnTo>
                  <a:pt x="3505" y="671"/>
                </a:lnTo>
                <a:lnTo>
                  <a:pt x="3502" y="644"/>
                </a:lnTo>
                <a:lnTo>
                  <a:pt x="3502" y="619"/>
                </a:lnTo>
                <a:lnTo>
                  <a:pt x="3503" y="596"/>
                </a:lnTo>
                <a:lnTo>
                  <a:pt x="3507" y="575"/>
                </a:lnTo>
                <a:lnTo>
                  <a:pt x="3509" y="565"/>
                </a:lnTo>
                <a:lnTo>
                  <a:pt x="3511" y="556"/>
                </a:lnTo>
                <a:lnTo>
                  <a:pt x="3514" y="546"/>
                </a:lnTo>
                <a:lnTo>
                  <a:pt x="3517" y="538"/>
                </a:lnTo>
                <a:lnTo>
                  <a:pt x="3521" y="529"/>
                </a:lnTo>
                <a:lnTo>
                  <a:pt x="3527" y="521"/>
                </a:lnTo>
                <a:lnTo>
                  <a:pt x="3532" y="512"/>
                </a:lnTo>
                <a:lnTo>
                  <a:pt x="3537" y="504"/>
                </a:lnTo>
                <a:lnTo>
                  <a:pt x="3551" y="488"/>
                </a:lnTo>
                <a:lnTo>
                  <a:pt x="3568" y="472"/>
                </a:lnTo>
                <a:lnTo>
                  <a:pt x="3587" y="457"/>
                </a:lnTo>
                <a:lnTo>
                  <a:pt x="3609" y="440"/>
                </a:lnTo>
                <a:lnTo>
                  <a:pt x="3634" y="422"/>
                </a:lnTo>
                <a:lnTo>
                  <a:pt x="3663" y="403"/>
                </a:lnTo>
                <a:lnTo>
                  <a:pt x="3695" y="383"/>
                </a:lnTo>
                <a:lnTo>
                  <a:pt x="3731" y="361"/>
                </a:lnTo>
                <a:lnTo>
                  <a:pt x="3783" y="384"/>
                </a:lnTo>
                <a:lnTo>
                  <a:pt x="3830" y="409"/>
                </a:lnTo>
                <a:lnTo>
                  <a:pt x="3872" y="439"/>
                </a:lnTo>
                <a:lnTo>
                  <a:pt x="3910" y="471"/>
                </a:lnTo>
                <a:lnTo>
                  <a:pt x="3943" y="505"/>
                </a:lnTo>
                <a:lnTo>
                  <a:pt x="3972" y="541"/>
                </a:lnTo>
                <a:lnTo>
                  <a:pt x="3998" y="579"/>
                </a:lnTo>
                <a:lnTo>
                  <a:pt x="4021" y="617"/>
                </a:lnTo>
                <a:lnTo>
                  <a:pt x="4040" y="656"/>
                </a:lnTo>
                <a:lnTo>
                  <a:pt x="4057" y="695"/>
                </a:lnTo>
                <a:lnTo>
                  <a:pt x="4073" y="734"/>
                </a:lnTo>
                <a:lnTo>
                  <a:pt x="4087" y="772"/>
                </a:lnTo>
                <a:lnTo>
                  <a:pt x="4101" y="807"/>
                </a:lnTo>
                <a:lnTo>
                  <a:pt x="4113" y="842"/>
                </a:lnTo>
                <a:lnTo>
                  <a:pt x="4125" y="875"/>
                </a:lnTo>
                <a:lnTo>
                  <a:pt x="4137" y="905"/>
                </a:lnTo>
                <a:lnTo>
                  <a:pt x="4151" y="932"/>
                </a:lnTo>
                <a:lnTo>
                  <a:pt x="4165" y="955"/>
                </a:lnTo>
                <a:lnTo>
                  <a:pt x="4180" y="975"/>
                </a:lnTo>
                <a:lnTo>
                  <a:pt x="4198" y="990"/>
                </a:lnTo>
                <a:lnTo>
                  <a:pt x="4217" y="1000"/>
                </a:lnTo>
                <a:lnTo>
                  <a:pt x="4239" y="1005"/>
                </a:lnTo>
                <a:lnTo>
                  <a:pt x="4266" y="1005"/>
                </a:lnTo>
                <a:lnTo>
                  <a:pt x="4294" y="998"/>
                </a:lnTo>
                <a:lnTo>
                  <a:pt x="4327" y="985"/>
                </a:lnTo>
                <a:lnTo>
                  <a:pt x="4363" y="965"/>
                </a:lnTo>
                <a:lnTo>
                  <a:pt x="4405" y="937"/>
                </a:lnTo>
                <a:lnTo>
                  <a:pt x="4453" y="902"/>
                </a:lnTo>
                <a:lnTo>
                  <a:pt x="4505" y="858"/>
                </a:lnTo>
                <a:lnTo>
                  <a:pt x="4563" y="805"/>
                </a:lnTo>
                <a:lnTo>
                  <a:pt x="4628" y="743"/>
                </a:lnTo>
                <a:lnTo>
                  <a:pt x="4700" y="671"/>
                </a:lnTo>
                <a:lnTo>
                  <a:pt x="4748" y="625"/>
                </a:lnTo>
                <a:lnTo>
                  <a:pt x="4795" y="583"/>
                </a:lnTo>
                <a:lnTo>
                  <a:pt x="4842" y="544"/>
                </a:lnTo>
                <a:lnTo>
                  <a:pt x="4888" y="508"/>
                </a:lnTo>
                <a:lnTo>
                  <a:pt x="4934" y="476"/>
                </a:lnTo>
                <a:lnTo>
                  <a:pt x="4978" y="447"/>
                </a:lnTo>
                <a:lnTo>
                  <a:pt x="5023" y="422"/>
                </a:lnTo>
                <a:lnTo>
                  <a:pt x="5065" y="400"/>
                </a:lnTo>
                <a:lnTo>
                  <a:pt x="5106" y="381"/>
                </a:lnTo>
                <a:lnTo>
                  <a:pt x="5144" y="365"/>
                </a:lnTo>
                <a:lnTo>
                  <a:pt x="5182" y="353"/>
                </a:lnTo>
                <a:lnTo>
                  <a:pt x="5217" y="344"/>
                </a:lnTo>
                <a:lnTo>
                  <a:pt x="5251" y="339"/>
                </a:lnTo>
                <a:lnTo>
                  <a:pt x="5282" y="336"/>
                </a:lnTo>
                <a:lnTo>
                  <a:pt x="5311" y="337"/>
                </a:lnTo>
                <a:lnTo>
                  <a:pt x="5337" y="340"/>
                </a:lnTo>
                <a:lnTo>
                  <a:pt x="5361" y="347"/>
                </a:lnTo>
                <a:lnTo>
                  <a:pt x="5382" y="357"/>
                </a:lnTo>
                <a:lnTo>
                  <a:pt x="5399" y="369"/>
                </a:lnTo>
                <a:lnTo>
                  <a:pt x="5414" y="385"/>
                </a:lnTo>
                <a:lnTo>
                  <a:pt x="5425" y="404"/>
                </a:lnTo>
                <a:lnTo>
                  <a:pt x="5433" y="425"/>
                </a:lnTo>
                <a:lnTo>
                  <a:pt x="5437" y="449"/>
                </a:lnTo>
                <a:lnTo>
                  <a:pt x="5437" y="477"/>
                </a:lnTo>
                <a:lnTo>
                  <a:pt x="5434" y="507"/>
                </a:lnTo>
                <a:lnTo>
                  <a:pt x="5425" y="540"/>
                </a:lnTo>
                <a:lnTo>
                  <a:pt x="5413" y="576"/>
                </a:lnTo>
                <a:lnTo>
                  <a:pt x="5397" y="615"/>
                </a:lnTo>
                <a:lnTo>
                  <a:pt x="5375" y="656"/>
                </a:lnTo>
                <a:lnTo>
                  <a:pt x="5348" y="699"/>
                </a:lnTo>
                <a:lnTo>
                  <a:pt x="5318" y="745"/>
                </a:lnTo>
                <a:lnTo>
                  <a:pt x="5281" y="795"/>
                </a:lnTo>
                <a:lnTo>
                  <a:pt x="5256" y="841"/>
                </a:lnTo>
                <a:lnTo>
                  <a:pt x="5216" y="908"/>
                </a:lnTo>
                <a:lnTo>
                  <a:pt x="5195" y="947"/>
                </a:lnTo>
                <a:lnTo>
                  <a:pt x="5175" y="990"/>
                </a:lnTo>
                <a:lnTo>
                  <a:pt x="5165" y="1011"/>
                </a:lnTo>
                <a:lnTo>
                  <a:pt x="5157" y="1032"/>
                </a:lnTo>
                <a:lnTo>
                  <a:pt x="5150" y="1053"/>
                </a:lnTo>
                <a:lnTo>
                  <a:pt x="5144" y="1073"/>
                </a:lnTo>
                <a:lnTo>
                  <a:pt x="5140" y="1094"/>
                </a:lnTo>
                <a:lnTo>
                  <a:pt x="5137" y="1114"/>
                </a:lnTo>
                <a:lnTo>
                  <a:pt x="5136" y="1133"/>
                </a:lnTo>
                <a:lnTo>
                  <a:pt x="5137" y="1151"/>
                </a:lnTo>
                <a:lnTo>
                  <a:pt x="5141" y="1169"/>
                </a:lnTo>
                <a:lnTo>
                  <a:pt x="5147" y="1184"/>
                </a:lnTo>
                <a:lnTo>
                  <a:pt x="5156" y="1200"/>
                </a:lnTo>
                <a:lnTo>
                  <a:pt x="5167" y="1214"/>
                </a:lnTo>
                <a:lnTo>
                  <a:pt x="5181" y="1225"/>
                </a:lnTo>
                <a:lnTo>
                  <a:pt x="5199" y="1236"/>
                </a:lnTo>
                <a:lnTo>
                  <a:pt x="5220" y="1244"/>
                </a:lnTo>
                <a:lnTo>
                  <a:pt x="5245" y="1251"/>
                </a:lnTo>
                <a:lnTo>
                  <a:pt x="5274" y="1256"/>
                </a:lnTo>
                <a:lnTo>
                  <a:pt x="5306" y="1258"/>
                </a:lnTo>
                <a:lnTo>
                  <a:pt x="5343" y="1257"/>
                </a:lnTo>
                <a:lnTo>
                  <a:pt x="5385" y="1254"/>
                </a:lnTo>
                <a:lnTo>
                  <a:pt x="5384" y="1237"/>
                </a:lnTo>
                <a:lnTo>
                  <a:pt x="5387" y="1217"/>
                </a:lnTo>
                <a:lnTo>
                  <a:pt x="5392" y="1197"/>
                </a:lnTo>
                <a:lnTo>
                  <a:pt x="5399" y="1175"/>
                </a:lnTo>
                <a:lnTo>
                  <a:pt x="5408" y="1153"/>
                </a:lnTo>
                <a:lnTo>
                  <a:pt x="5421" y="1129"/>
                </a:lnTo>
                <a:lnTo>
                  <a:pt x="5435" y="1103"/>
                </a:lnTo>
                <a:lnTo>
                  <a:pt x="5449" y="1078"/>
                </a:lnTo>
                <a:lnTo>
                  <a:pt x="5467" y="1052"/>
                </a:lnTo>
                <a:lnTo>
                  <a:pt x="5485" y="1024"/>
                </a:lnTo>
                <a:lnTo>
                  <a:pt x="5506" y="997"/>
                </a:lnTo>
                <a:lnTo>
                  <a:pt x="5527" y="968"/>
                </a:lnTo>
                <a:lnTo>
                  <a:pt x="5572" y="912"/>
                </a:lnTo>
                <a:lnTo>
                  <a:pt x="5622" y="854"/>
                </a:lnTo>
                <a:lnTo>
                  <a:pt x="5672" y="796"/>
                </a:lnTo>
                <a:lnTo>
                  <a:pt x="5724" y="739"/>
                </a:lnTo>
                <a:lnTo>
                  <a:pt x="5774" y="684"/>
                </a:lnTo>
                <a:lnTo>
                  <a:pt x="5824" y="630"/>
                </a:lnTo>
                <a:lnTo>
                  <a:pt x="5870" y="581"/>
                </a:lnTo>
                <a:lnTo>
                  <a:pt x="5912" y="535"/>
                </a:lnTo>
                <a:lnTo>
                  <a:pt x="5949" y="494"/>
                </a:lnTo>
                <a:lnTo>
                  <a:pt x="5979" y="458"/>
                </a:lnTo>
                <a:lnTo>
                  <a:pt x="5991" y="443"/>
                </a:lnTo>
                <a:lnTo>
                  <a:pt x="6000" y="429"/>
                </a:lnTo>
                <a:lnTo>
                  <a:pt x="6006" y="415"/>
                </a:lnTo>
                <a:lnTo>
                  <a:pt x="6011" y="402"/>
                </a:lnTo>
                <a:lnTo>
                  <a:pt x="6013" y="388"/>
                </a:lnTo>
                <a:lnTo>
                  <a:pt x="6013" y="376"/>
                </a:lnTo>
                <a:lnTo>
                  <a:pt x="6012" y="363"/>
                </a:lnTo>
                <a:lnTo>
                  <a:pt x="6009" y="351"/>
                </a:lnTo>
                <a:lnTo>
                  <a:pt x="6003" y="340"/>
                </a:lnTo>
                <a:lnTo>
                  <a:pt x="5997" y="328"/>
                </a:lnTo>
                <a:lnTo>
                  <a:pt x="5990" y="318"/>
                </a:lnTo>
                <a:lnTo>
                  <a:pt x="5981" y="306"/>
                </a:lnTo>
                <a:lnTo>
                  <a:pt x="5971" y="296"/>
                </a:lnTo>
                <a:lnTo>
                  <a:pt x="5960" y="285"/>
                </a:lnTo>
                <a:lnTo>
                  <a:pt x="5950" y="274"/>
                </a:lnTo>
                <a:lnTo>
                  <a:pt x="5937" y="265"/>
                </a:lnTo>
                <a:lnTo>
                  <a:pt x="5887" y="225"/>
                </a:lnTo>
                <a:lnTo>
                  <a:pt x="5837" y="184"/>
                </a:lnTo>
                <a:lnTo>
                  <a:pt x="5827" y="173"/>
                </a:lnTo>
                <a:lnTo>
                  <a:pt x="5816" y="163"/>
                </a:lnTo>
                <a:lnTo>
                  <a:pt x="5807" y="152"/>
                </a:lnTo>
                <a:lnTo>
                  <a:pt x="5799" y="142"/>
                </a:lnTo>
                <a:lnTo>
                  <a:pt x="5792" y="130"/>
                </a:lnTo>
                <a:lnTo>
                  <a:pt x="5786" y="120"/>
                </a:lnTo>
                <a:lnTo>
                  <a:pt x="5782" y="108"/>
                </a:lnTo>
                <a:lnTo>
                  <a:pt x="5779" y="95"/>
                </a:lnTo>
                <a:lnTo>
                  <a:pt x="5714" y="102"/>
                </a:lnTo>
                <a:lnTo>
                  <a:pt x="5653" y="105"/>
                </a:lnTo>
                <a:lnTo>
                  <a:pt x="5595" y="105"/>
                </a:lnTo>
                <a:lnTo>
                  <a:pt x="5542" y="104"/>
                </a:lnTo>
                <a:lnTo>
                  <a:pt x="5491" y="100"/>
                </a:lnTo>
                <a:lnTo>
                  <a:pt x="5444" y="94"/>
                </a:lnTo>
                <a:lnTo>
                  <a:pt x="5400" y="88"/>
                </a:lnTo>
                <a:lnTo>
                  <a:pt x="5359" y="80"/>
                </a:lnTo>
                <a:lnTo>
                  <a:pt x="5320" y="71"/>
                </a:lnTo>
                <a:lnTo>
                  <a:pt x="5284" y="63"/>
                </a:lnTo>
                <a:lnTo>
                  <a:pt x="5250" y="53"/>
                </a:lnTo>
                <a:lnTo>
                  <a:pt x="5217" y="44"/>
                </a:lnTo>
                <a:lnTo>
                  <a:pt x="5157" y="25"/>
                </a:lnTo>
                <a:lnTo>
                  <a:pt x="5103" y="10"/>
                </a:lnTo>
                <a:lnTo>
                  <a:pt x="5077" y="5"/>
                </a:lnTo>
                <a:lnTo>
                  <a:pt x="5052" y="2"/>
                </a:lnTo>
                <a:lnTo>
                  <a:pt x="5028" y="0"/>
                </a:lnTo>
                <a:lnTo>
                  <a:pt x="5004" y="0"/>
                </a:lnTo>
                <a:lnTo>
                  <a:pt x="4978" y="2"/>
                </a:lnTo>
                <a:lnTo>
                  <a:pt x="4954" y="7"/>
                </a:lnTo>
                <a:lnTo>
                  <a:pt x="4929" y="15"/>
                </a:lnTo>
                <a:lnTo>
                  <a:pt x="4904" y="27"/>
                </a:lnTo>
                <a:lnTo>
                  <a:pt x="4877" y="43"/>
                </a:lnTo>
                <a:lnTo>
                  <a:pt x="4850" y="62"/>
                </a:lnTo>
                <a:lnTo>
                  <a:pt x="4822" y="85"/>
                </a:lnTo>
                <a:lnTo>
                  <a:pt x="4792" y="112"/>
                </a:lnTo>
                <a:lnTo>
                  <a:pt x="4761" y="144"/>
                </a:lnTo>
                <a:lnTo>
                  <a:pt x="4727" y="181"/>
                </a:lnTo>
                <a:lnTo>
                  <a:pt x="4692" y="223"/>
                </a:lnTo>
                <a:lnTo>
                  <a:pt x="4655" y="270"/>
                </a:lnTo>
                <a:lnTo>
                  <a:pt x="4332" y="659"/>
                </a:lnTo>
                <a:lnTo>
                  <a:pt x="4298" y="645"/>
                </a:lnTo>
                <a:lnTo>
                  <a:pt x="4268" y="630"/>
                </a:lnTo>
                <a:lnTo>
                  <a:pt x="4238" y="615"/>
                </a:lnTo>
                <a:lnTo>
                  <a:pt x="4210" y="599"/>
                </a:lnTo>
                <a:lnTo>
                  <a:pt x="4185" y="582"/>
                </a:lnTo>
                <a:lnTo>
                  <a:pt x="4159" y="564"/>
                </a:lnTo>
                <a:lnTo>
                  <a:pt x="4136" y="546"/>
                </a:lnTo>
                <a:lnTo>
                  <a:pt x="4114" y="527"/>
                </a:lnTo>
                <a:lnTo>
                  <a:pt x="4093" y="507"/>
                </a:lnTo>
                <a:lnTo>
                  <a:pt x="4074" y="487"/>
                </a:lnTo>
                <a:lnTo>
                  <a:pt x="4055" y="467"/>
                </a:lnTo>
                <a:lnTo>
                  <a:pt x="4037" y="447"/>
                </a:lnTo>
                <a:lnTo>
                  <a:pt x="4021" y="426"/>
                </a:lnTo>
                <a:lnTo>
                  <a:pt x="4005" y="404"/>
                </a:lnTo>
                <a:lnTo>
                  <a:pt x="3989" y="383"/>
                </a:lnTo>
                <a:lnTo>
                  <a:pt x="3974" y="361"/>
                </a:lnTo>
                <a:lnTo>
                  <a:pt x="3920" y="273"/>
                </a:lnTo>
                <a:lnTo>
                  <a:pt x="3866" y="185"/>
                </a:lnTo>
                <a:lnTo>
                  <a:pt x="3839" y="143"/>
                </a:lnTo>
                <a:lnTo>
                  <a:pt x="3809" y="102"/>
                </a:lnTo>
                <a:lnTo>
                  <a:pt x="3795" y="82"/>
                </a:lnTo>
                <a:lnTo>
                  <a:pt x="3778" y="62"/>
                </a:lnTo>
                <a:lnTo>
                  <a:pt x="3761" y="43"/>
                </a:lnTo>
                <a:lnTo>
                  <a:pt x="3743" y="24"/>
                </a:lnTo>
                <a:lnTo>
                  <a:pt x="3717" y="14"/>
                </a:lnTo>
                <a:lnTo>
                  <a:pt x="3688" y="7"/>
                </a:lnTo>
                <a:lnTo>
                  <a:pt x="3658" y="3"/>
                </a:lnTo>
                <a:lnTo>
                  <a:pt x="3626" y="2"/>
                </a:lnTo>
                <a:lnTo>
                  <a:pt x="3595" y="4"/>
                </a:lnTo>
                <a:lnTo>
                  <a:pt x="3561" y="8"/>
                </a:lnTo>
                <a:lnTo>
                  <a:pt x="3528" y="16"/>
                </a:lnTo>
                <a:lnTo>
                  <a:pt x="3494" y="26"/>
                </a:lnTo>
                <a:lnTo>
                  <a:pt x="3460" y="39"/>
                </a:lnTo>
                <a:lnTo>
                  <a:pt x="3427" y="53"/>
                </a:lnTo>
                <a:lnTo>
                  <a:pt x="3394" y="70"/>
                </a:lnTo>
                <a:lnTo>
                  <a:pt x="3362" y="89"/>
                </a:lnTo>
                <a:lnTo>
                  <a:pt x="3329" y="109"/>
                </a:lnTo>
                <a:lnTo>
                  <a:pt x="3298" y="132"/>
                </a:lnTo>
                <a:lnTo>
                  <a:pt x="3270" y="157"/>
                </a:lnTo>
                <a:lnTo>
                  <a:pt x="3242" y="182"/>
                </a:lnTo>
                <a:lnTo>
                  <a:pt x="3216" y="209"/>
                </a:lnTo>
                <a:lnTo>
                  <a:pt x="3192" y="238"/>
                </a:lnTo>
                <a:lnTo>
                  <a:pt x="3170" y="268"/>
                </a:lnTo>
                <a:lnTo>
                  <a:pt x="3151" y="299"/>
                </a:lnTo>
                <a:lnTo>
                  <a:pt x="3136" y="330"/>
                </a:lnTo>
                <a:lnTo>
                  <a:pt x="3122" y="363"/>
                </a:lnTo>
                <a:lnTo>
                  <a:pt x="3111" y="396"/>
                </a:lnTo>
                <a:lnTo>
                  <a:pt x="3105" y="429"/>
                </a:lnTo>
                <a:lnTo>
                  <a:pt x="3102" y="464"/>
                </a:lnTo>
                <a:lnTo>
                  <a:pt x="3102" y="498"/>
                </a:lnTo>
                <a:lnTo>
                  <a:pt x="3107" y="532"/>
                </a:lnTo>
                <a:lnTo>
                  <a:pt x="3117" y="567"/>
                </a:lnTo>
                <a:lnTo>
                  <a:pt x="3130" y="602"/>
                </a:lnTo>
                <a:lnTo>
                  <a:pt x="3148" y="637"/>
                </a:lnTo>
                <a:lnTo>
                  <a:pt x="3172" y="670"/>
                </a:lnTo>
                <a:lnTo>
                  <a:pt x="3201" y="704"/>
                </a:lnTo>
                <a:lnTo>
                  <a:pt x="3221" y="727"/>
                </a:lnTo>
                <a:lnTo>
                  <a:pt x="3235" y="749"/>
                </a:lnTo>
                <a:lnTo>
                  <a:pt x="3246" y="769"/>
                </a:lnTo>
                <a:lnTo>
                  <a:pt x="3252" y="789"/>
                </a:lnTo>
                <a:lnTo>
                  <a:pt x="3254" y="808"/>
                </a:lnTo>
                <a:lnTo>
                  <a:pt x="3253" y="825"/>
                </a:lnTo>
                <a:lnTo>
                  <a:pt x="3248" y="842"/>
                </a:lnTo>
                <a:lnTo>
                  <a:pt x="3240" y="858"/>
                </a:lnTo>
                <a:lnTo>
                  <a:pt x="3227" y="873"/>
                </a:lnTo>
                <a:lnTo>
                  <a:pt x="3212" y="886"/>
                </a:lnTo>
                <a:lnTo>
                  <a:pt x="3193" y="900"/>
                </a:lnTo>
                <a:lnTo>
                  <a:pt x="3172" y="913"/>
                </a:lnTo>
                <a:lnTo>
                  <a:pt x="3149" y="924"/>
                </a:lnTo>
                <a:lnTo>
                  <a:pt x="3123" y="936"/>
                </a:lnTo>
                <a:lnTo>
                  <a:pt x="3095" y="947"/>
                </a:lnTo>
                <a:lnTo>
                  <a:pt x="3063" y="957"/>
                </a:lnTo>
                <a:lnTo>
                  <a:pt x="3030" y="967"/>
                </a:lnTo>
                <a:lnTo>
                  <a:pt x="2996" y="977"/>
                </a:lnTo>
                <a:lnTo>
                  <a:pt x="2960" y="986"/>
                </a:lnTo>
                <a:lnTo>
                  <a:pt x="2922" y="995"/>
                </a:lnTo>
                <a:lnTo>
                  <a:pt x="2842" y="1013"/>
                </a:lnTo>
                <a:lnTo>
                  <a:pt x="2759" y="1030"/>
                </a:lnTo>
                <a:lnTo>
                  <a:pt x="2673" y="1045"/>
                </a:lnTo>
                <a:lnTo>
                  <a:pt x="2586" y="1062"/>
                </a:lnTo>
                <a:lnTo>
                  <a:pt x="2498" y="1080"/>
                </a:lnTo>
                <a:lnTo>
                  <a:pt x="2412" y="1099"/>
                </a:lnTo>
                <a:lnTo>
                  <a:pt x="2399" y="1100"/>
                </a:lnTo>
                <a:lnTo>
                  <a:pt x="2386" y="1099"/>
                </a:lnTo>
                <a:lnTo>
                  <a:pt x="2375" y="1097"/>
                </a:lnTo>
                <a:lnTo>
                  <a:pt x="2366" y="1093"/>
                </a:lnTo>
                <a:lnTo>
                  <a:pt x="2358" y="1086"/>
                </a:lnTo>
                <a:lnTo>
                  <a:pt x="2351" y="1080"/>
                </a:lnTo>
                <a:lnTo>
                  <a:pt x="2345" y="1072"/>
                </a:lnTo>
                <a:lnTo>
                  <a:pt x="2341" y="1062"/>
                </a:lnTo>
                <a:lnTo>
                  <a:pt x="2338" y="1052"/>
                </a:lnTo>
                <a:lnTo>
                  <a:pt x="2334" y="1040"/>
                </a:lnTo>
                <a:lnTo>
                  <a:pt x="2332" y="1027"/>
                </a:lnTo>
                <a:lnTo>
                  <a:pt x="2332" y="1015"/>
                </a:lnTo>
                <a:lnTo>
                  <a:pt x="2331" y="1001"/>
                </a:lnTo>
                <a:lnTo>
                  <a:pt x="2332" y="986"/>
                </a:lnTo>
                <a:lnTo>
                  <a:pt x="2333" y="973"/>
                </a:lnTo>
                <a:lnTo>
                  <a:pt x="2334" y="957"/>
                </a:lnTo>
                <a:lnTo>
                  <a:pt x="2340" y="927"/>
                </a:lnTo>
                <a:lnTo>
                  <a:pt x="2345" y="897"/>
                </a:lnTo>
                <a:lnTo>
                  <a:pt x="2351" y="867"/>
                </a:lnTo>
                <a:lnTo>
                  <a:pt x="2358" y="840"/>
                </a:lnTo>
                <a:lnTo>
                  <a:pt x="2364" y="815"/>
                </a:lnTo>
                <a:lnTo>
                  <a:pt x="2369" y="793"/>
                </a:lnTo>
                <a:lnTo>
                  <a:pt x="2372" y="775"/>
                </a:lnTo>
                <a:lnTo>
                  <a:pt x="2373" y="762"/>
                </a:lnTo>
                <a:lnTo>
                  <a:pt x="2374" y="730"/>
                </a:lnTo>
                <a:lnTo>
                  <a:pt x="2370" y="700"/>
                </a:lnTo>
                <a:lnTo>
                  <a:pt x="2364" y="670"/>
                </a:lnTo>
                <a:lnTo>
                  <a:pt x="2353" y="643"/>
                </a:lnTo>
                <a:lnTo>
                  <a:pt x="2340" y="616"/>
                </a:lnTo>
                <a:lnTo>
                  <a:pt x="2324" y="590"/>
                </a:lnTo>
                <a:lnTo>
                  <a:pt x="2304" y="565"/>
                </a:lnTo>
                <a:lnTo>
                  <a:pt x="2282" y="543"/>
                </a:lnTo>
                <a:lnTo>
                  <a:pt x="2258" y="521"/>
                </a:lnTo>
                <a:lnTo>
                  <a:pt x="2231" y="501"/>
                </a:lnTo>
                <a:lnTo>
                  <a:pt x="2202" y="483"/>
                </a:lnTo>
                <a:lnTo>
                  <a:pt x="2172" y="466"/>
                </a:lnTo>
                <a:lnTo>
                  <a:pt x="2140" y="451"/>
                </a:lnTo>
                <a:lnTo>
                  <a:pt x="2106" y="439"/>
                </a:lnTo>
                <a:lnTo>
                  <a:pt x="2071" y="427"/>
                </a:lnTo>
                <a:lnTo>
                  <a:pt x="2035" y="418"/>
                </a:lnTo>
                <a:lnTo>
                  <a:pt x="1998" y="410"/>
                </a:lnTo>
                <a:lnTo>
                  <a:pt x="1960" y="405"/>
                </a:lnTo>
                <a:lnTo>
                  <a:pt x="1922" y="401"/>
                </a:lnTo>
                <a:lnTo>
                  <a:pt x="1885" y="400"/>
                </a:lnTo>
                <a:lnTo>
                  <a:pt x="1846" y="401"/>
                </a:lnTo>
                <a:lnTo>
                  <a:pt x="1807" y="404"/>
                </a:lnTo>
                <a:lnTo>
                  <a:pt x="1769" y="409"/>
                </a:lnTo>
                <a:lnTo>
                  <a:pt x="1731" y="417"/>
                </a:lnTo>
                <a:lnTo>
                  <a:pt x="1694" y="426"/>
                </a:lnTo>
                <a:lnTo>
                  <a:pt x="1657" y="439"/>
                </a:lnTo>
                <a:lnTo>
                  <a:pt x="1623" y="453"/>
                </a:lnTo>
                <a:lnTo>
                  <a:pt x="1588" y="471"/>
                </a:lnTo>
                <a:lnTo>
                  <a:pt x="1555" y="491"/>
                </a:lnTo>
                <a:lnTo>
                  <a:pt x="1525" y="515"/>
                </a:lnTo>
                <a:lnTo>
                  <a:pt x="1496" y="540"/>
                </a:lnTo>
                <a:lnTo>
                  <a:pt x="1469" y="568"/>
                </a:lnTo>
                <a:lnTo>
                  <a:pt x="1469" y="576"/>
                </a:lnTo>
                <a:lnTo>
                  <a:pt x="1468" y="584"/>
                </a:lnTo>
                <a:lnTo>
                  <a:pt x="1466" y="594"/>
                </a:lnTo>
                <a:lnTo>
                  <a:pt x="1463" y="604"/>
                </a:lnTo>
                <a:lnTo>
                  <a:pt x="1455" y="625"/>
                </a:lnTo>
                <a:lnTo>
                  <a:pt x="1443" y="649"/>
                </a:lnTo>
                <a:lnTo>
                  <a:pt x="1428" y="675"/>
                </a:lnTo>
                <a:lnTo>
                  <a:pt x="1411" y="702"/>
                </a:lnTo>
                <a:lnTo>
                  <a:pt x="1393" y="729"/>
                </a:lnTo>
                <a:lnTo>
                  <a:pt x="1372" y="758"/>
                </a:lnTo>
                <a:lnTo>
                  <a:pt x="1351" y="785"/>
                </a:lnTo>
                <a:lnTo>
                  <a:pt x="1327" y="813"/>
                </a:lnTo>
                <a:lnTo>
                  <a:pt x="1304" y="839"/>
                </a:lnTo>
                <a:lnTo>
                  <a:pt x="1282" y="863"/>
                </a:lnTo>
                <a:lnTo>
                  <a:pt x="1259" y="885"/>
                </a:lnTo>
                <a:lnTo>
                  <a:pt x="1237" y="906"/>
                </a:lnTo>
                <a:lnTo>
                  <a:pt x="1217" y="923"/>
                </a:lnTo>
                <a:lnTo>
                  <a:pt x="1197" y="937"/>
                </a:lnTo>
                <a:lnTo>
                  <a:pt x="1181" y="917"/>
                </a:lnTo>
                <a:lnTo>
                  <a:pt x="1159" y="884"/>
                </a:lnTo>
                <a:lnTo>
                  <a:pt x="1131" y="842"/>
                </a:lnTo>
                <a:lnTo>
                  <a:pt x="1096" y="790"/>
                </a:lnTo>
                <a:lnTo>
                  <a:pt x="1057" y="734"/>
                </a:lnTo>
                <a:lnTo>
                  <a:pt x="1015" y="673"/>
                </a:lnTo>
                <a:lnTo>
                  <a:pt x="968" y="608"/>
                </a:lnTo>
                <a:lnTo>
                  <a:pt x="918" y="545"/>
                </a:lnTo>
                <a:lnTo>
                  <a:pt x="893" y="514"/>
                </a:lnTo>
                <a:lnTo>
                  <a:pt x="867" y="483"/>
                </a:lnTo>
                <a:lnTo>
                  <a:pt x="841" y="452"/>
                </a:lnTo>
                <a:lnTo>
                  <a:pt x="814" y="424"/>
                </a:lnTo>
                <a:lnTo>
                  <a:pt x="787" y="397"/>
                </a:lnTo>
                <a:lnTo>
                  <a:pt x="760" y="371"/>
                </a:lnTo>
                <a:lnTo>
                  <a:pt x="732" y="348"/>
                </a:lnTo>
                <a:lnTo>
                  <a:pt x="706" y="326"/>
                </a:lnTo>
                <a:lnTo>
                  <a:pt x="679" y="307"/>
                </a:lnTo>
                <a:lnTo>
                  <a:pt x="652" y="291"/>
                </a:lnTo>
                <a:lnTo>
                  <a:pt x="625" y="278"/>
                </a:lnTo>
                <a:lnTo>
                  <a:pt x="599" y="267"/>
                </a:lnTo>
                <a:lnTo>
                  <a:pt x="574" y="261"/>
                </a:lnTo>
                <a:lnTo>
                  <a:pt x="548" y="258"/>
                </a:lnTo>
                <a:lnTo>
                  <a:pt x="523" y="259"/>
                </a:lnTo>
                <a:lnTo>
                  <a:pt x="500" y="264"/>
                </a:lnTo>
                <a:lnTo>
                  <a:pt x="412" y="298"/>
                </a:lnTo>
                <a:lnTo>
                  <a:pt x="333" y="333"/>
                </a:lnTo>
                <a:lnTo>
                  <a:pt x="265" y="369"/>
                </a:lnTo>
                <a:lnTo>
                  <a:pt x="205" y="407"/>
                </a:lnTo>
                <a:lnTo>
                  <a:pt x="154" y="445"/>
                </a:lnTo>
                <a:lnTo>
                  <a:pt x="111" y="484"/>
                </a:lnTo>
                <a:lnTo>
                  <a:pt x="75" y="524"/>
                </a:lnTo>
                <a:lnTo>
                  <a:pt x="48" y="565"/>
                </a:lnTo>
                <a:lnTo>
                  <a:pt x="27" y="606"/>
                </a:lnTo>
                <a:lnTo>
                  <a:pt x="12" y="649"/>
                </a:lnTo>
                <a:lnTo>
                  <a:pt x="3" y="692"/>
                </a:lnTo>
                <a:lnTo>
                  <a:pt x="0" y="735"/>
                </a:lnTo>
                <a:lnTo>
                  <a:pt x="2" y="779"/>
                </a:lnTo>
                <a:lnTo>
                  <a:pt x="8" y="822"/>
                </a:lnTo>
                <a:lnTo>
                  <a:pt x="18" y="866"/>
                </a:lnTo>
                <a:lnTo>
                  <a:pt x="32" y="912"/>
                </a:lnTo>
                <a:lnTo>
                  <a:pt x="49" y="956"/>
                </a:lnTo>
                <a:lnTo>
                  <a:pt x="69" y="1001"/>
                </a:lnTo>
                <a:lnTo>
                  <a:pt x="91" y="1045"/>
                </a:lnTo>
                <a:lnTo>
                  <a:pt x="115" y="1091"/>
                </a:lnTo>
                <a:lnTo>
                  <a:pt x="141" y="1135"/>
                </a:lnTo>
                <a:lnTo>
                  <a:pt x="167" y="1179"/>
                </a:lnTo>
                <a:lnTo>
                  <a:pt x="194" y="1223"/>
                </a:lnTo>
                <a:lnTo>
                  <a:pt x="220" y="1268"/>
                </a:lnTo>
                <a:lnTo>
                  <a:pt x="247" y="1311"/>
                </a:lnTo>
                <a:lnTo>
                  <a:pt x="273" y="1354"/>
                </a:lnTo>
                <a:lnTo>
                  <a:pt x="297" y="1396"/>
                </a:lnTo>
                <a:lnTo>
                  <a:pt x="319" y="1438"/>
                </a:lnTo>
                <a:lnTo>
                  <a:pt x="340" y="1479"/>
                </a:lnTo>
                <a:lnTo>
                  <a:pt x="358" y="1519"/>
                </a:lnTo>
                <a:lnTo>
                  <a:pt x="372" y="1559"/>
                </a:lnTo>
                <a:lnTo>
                  <a:pt x="383" y="1597"/>
                </a:lnTo>
                <a:lnTo>
                  <a:pt x="390" y="1671"/>
                </a:lnTo>
                <a:lnTo>
                  <a:pt x="394" y="1735"/>
                </a:lnTo>
                <a:lnTo>
                  <a:pt x="395" y="1792"/>
                </a:lnTo>
                <a:lnTo>
                  <a:pt x="394" y="1843"/>
                </a:lnTo>
                <a:lnTo>
                  <a:pt x="392" y="1886"/>
                </a:lnTo>
                <a:lnTo>
                  <a:pt x="387" y="1923"/>
                </a:lnTo>
                <a:lnTo>
                  <a:pt x="381" y="1954"/>
                </a:lnTo>
                <a:lnTo>
                  <a:pt x="374" y="1981"/>
                </a:lnTo>
                <a:lnTo>
                  <a:pt x="365" y="2002"/>
                </a:lnTo>
                <a:lnTo>
                  <a:pt x="356" y="2018"/>
                </a:lnTo>
                <a:lnTo>
                  <a:pt x="346" y="2032"/>
                </a:lnTo>
                <a:lnTo>
                  <a:pt x="336" y="2042"/>
                </a:lnTo>
                <a:lnTo>
                  <a:pt x="326" y="2048"/>
                </a:lnTo>
                <a:lnTo>
                  <a:pt x="315" y="2053"/>
                </a:lnTo>
                <a:lnTo>
                  <a:pt x="305" y="2055"/>
                </a:lnTo>
                <a:lnTo>
                  <a:pt x="295" y="2056"/>
                </a:lnTo>
                <a:lnTo>
                  <a:pt x="278" y="2056"/>
                </a:lnTo>
                <a:lnTo>
                  <a:pt x="267" y="2055"/>
                </a:lnTo>
                <a:lnTo>
                  <a:pt x="262" y="2056"/>
                </a:lnTo>
                <a:lnTo>
                  <a:pt x="261" y="2058"/>
                </a:lnTo>
                <a:lnTo>
                  <a:pt x="261" y="2062"/>
                </a:lnTo>
                <a:lnTo>
                  <a:pt x="265" y="2068"/>
                </a:lnTo>
                <a:lnTo>
                  <a:pt x="277" y="2089"/>
                </a:lnTo>
                <a:lnTo>
                  <a:pt x="302" y="2126"/>
                </a:lnTo>
                <a:lnTo>
                  <a:pt x="341" y="2181"/>
                </a:lnTo>
                <a:lnTo>
                  <a:pt x="396" y="2257"/>
                </a:lnTo>
                <a:lnTo>
                  <a:pt x="447" y="20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51840" y="3124080"/>
            <a:ext cx="102960" cy="81000"/>
          </a:xfrm>
          <a:custGeom>
            <a:avLst/>
            <a:gdLst/>
            <a:ahLst/>
            <a:rect l="l" t="t" r="r" b="b"/>
            <a:pathLst>
              <a:path w="5849" h="3501">
                <a:moveTo>
                  <a:pt x="3883" y="51"/>
                </a:moveTo>
                <a:lnTo>
                  <a:pt x="3881" y="44"/>
                </a:lnTo>
                <a:lnTo>
                  <a:pt x="3877" y="38"/>
                </a:lnTo>
                <a:lnTo>
                  <a:pt x="3872" y="32"/>
                </a:lnTo>
                <a:lnTo>
                  <a:pt x="3863" y="27"/>
                </a:lnTo>
                <a:lnTo>
                  <a:pt x="3855" y="23"/>
                </a:lnTo>
                <a:lnTo>
                  <a:pt x="3845" y="19"/>
                </a:lnTo>
                <a:lnTo>
                  <a:pt x="3832" y="16"/>
                </a:lnTo>
                <a:lnTo>
                  <a:pt x="3819" y="12"/>
                </a:lnTo>
                <a:lnTo>
                  <a:pt x="3789" y="7"/>
                </a:lnTo>
                <a:lnTo>
                  <a:pt x="3755" y="4"/>
                </a:lnTo>
                <a:lnTo>
                  <a:pt x="3719" y="2"/>
                </a:lnTo>
                <a:lnTo>
                  <a:pt x="3681" y="1"/>
                </a:lnTo>
                <a:lnTo>
                  <a:pt x="3602" y="1"/>
                </a:lnTo>
                <a:lnTo>
                  <a:pt x="3525" y="2"/>
                </a:lnTo>
                <a:lnTo>
                  <a:pt x="3489" y="2"/>
                </a:lnTo>
                <a:lnTo>
                  <a:pt x="3457" y="2"/>
                </a:lnTo>
                <a:lnTo>
                  <a:pt x="3428" y="1"/>
                </a:lnTo>
                <a:lnTo>
                  <a:pt x="3405" y="0"/>
                </a:lnTo>
                <a:lnTo>
                  <a:pt x="3370" y="10"/>
                </a:lnTo>
                <a:lnTo>
                  <a:pt x="3330" y="21"/>
                </a:lnTo>
                <a:lnTo>
                  <a:pt x="3285" y="32"/>
                </a:lnTo>
                <a:lnTo>
                  <a:pt x="3237" y="44"/>
                </a:lnTo>
                <a:lnTo>
                  <a:pt x="3128" y="67"/>
                </a:lnTo>
                <a:lnTo>
                  <a:pt x="3006" y="92"/>
                </a:lnTo>
                <a:lnTo>
                  <a:pt x="2872" y="118"/>
                </a:lnTo>
                <a:lnTo>
                  <a:pt x="2730" y="143"/>
                </a:lnTo>
                <a:lnTo>
                  <a:pt x="2583" y="168"/>
                </a:lnTo>
                <a:lnTo>
                  <a:pt x="2432" y="192"/>
                </a:lnTo>
                <a:lnTo>
                  <a:pt x="2278" y="217"/>
                </a:lnTo>
                <a:lnTo>
                  <a:pt x="2127" y="240"/>
                </a:lnTo>
                <a:lnTo>
                  <a:pt x="1977" y="262"/>
                </a:lnTo>
                <a:lnTo>
                  <a:pt x="1836" y="283"/>
                </a:lnTo>
                <a:lnTo>
                  <a:pt x="1701" y="301"/>
                </a:lnTo>
                <a:lnTo>
                  <a:pt x="1577" y="318"/>
                </a:lnTo>
                <a:lnTo>
                  <a:pt x="1466" y="331"/>
                </a:lnTo>
                <a:lnTo>
                  <a:pt x="1370" y="342"/>
                </a:lnTo>
                <a:lnTo>
                  <a:pt x="1328" y="347"/>
                </a:lnTo>
                <a:lnTo>
                  <a:pt x="1290" y="354"/>
                </a:lnTo>
                <a:lnTo>
                  <a:pt x="1254" y="361"/>
                </a:lnTo>
                <a:lnTo>
                  <a:pt x="1223" y="369"/>
                </a:lnTo>
                <a:lnTo>
                  <a:pt x="1195" y="378"/>
                </a:lnTo>
                <a:lnTo>
                  <a:pt x="1170" y="388"/>
                </a:lnTo>
                <a:lnTo>
                  <a:pt x="1148" y="399"/>
                </a:lnTo>
                <a:lnTo>
                  <a:pt x="1130" y="409"/>
                </a:lnTo>
                <a:lnTo>
                  <a:pt x="1114" y="421"/>
                </a:lnTo>
                <a:lnTo>
                  <a:pt x="1103" y="433"/>
                </a:lnTo>
                <a:lnTo>
                  <a:pt x="1093" y="445"/>
                </a:lnTo>
                <a:lnTo>
                  <a:pt x="1088" y="458"/>
                </a:lnTo>
                <a:lnTo>
                  <a:pt x="1085" y="469"/>
                </a:lnTo>
                <a:lnTo>
                  <a:pt x="1085" y="482"/>
                </a:lnTo>
                <a:lnTo>
                  <a:pt x="1088" y="494"/>
                </a:lnTo>
                <a:lnTo>
                  <a:pt x="1094" y="505"/>
                </a:lnTo>
                <a:lnTo>
                  <a:pt x="1103" y="517"/>
                </a:lnTo>
                <a:lnTo>
                  <a:pt x="1114" y="527"/>
                </a:lnTo>
                <a:lnTo>
                  <a:pt x="1129" y="537"/>
                </a:lnTo>
                <a:lnTo>
                  <a:pt x="1147" y="546"/>
                </a:lnTo>
                <a:lnTo>
                  <a:pt x="1166" y="555"/>
                </a:lnTo>
                <a:lnTo>
                  <a:pt x="1189" y="562"/>
                </a:lnTo>
                <a:lnTo>
                  <a:pt x="1214" y="567"/>
                </a:lnTo>
                <a:lnTo>
                  <a:pt x="1242" y="573"/>
                </a:lnTo>
                <a:lnTo>
                  <a:pt x="1272" y="577"/>
                </a:lnTo>
                <a:lnTo>
                  <a:pt x="1305" y="579"/>
                </a:lnTo>
                <a:lnTo>
                  <a:pt x="1339" y="580"/>
                </a:lnTo>
                <a:lnTo>
                  <a:pt x="1377" y="579"/>
                </a:lnTo>
                <a:lnTo>
                  <a:pt x="1417" y="576"/>
                </a:lnTo>
                <a:lnTo>
                  <a:pt x="1459" y="572"/>
                </a:lnTo>
                <a:lnTo>
                  <a:pt x="1504" y="565"/>
                </a:lnTo>
                <a:lnTo>
                  <a:pt x="1551" y="556"/>
                </a:lnTo>
                <a:lnTo>
                  <a:pt x="1630" y="543"/>
                </a:lnTo>
                <a:lnTo>
                  <a:pt x="1714" y="529"/>
                </a:lnTo>
                <a:lnTo>
                  <a:pt x="1803" y="516"/>
                </a:lnTo>
                <a:lnTo>
                  <a:pt x="1894" y="502"/>
                </a:lnTo>
                <a:lnTo>
                  <a:pt x="2086" y="474"/>
                </a:lnTo>
                <a:lnTo>
                  <a:pt x="2280" y="444"/>
                </a:lnTo>
                <a:lnTo>
                  <a:pt x="2377" y="428"/>
                </a:lnTo>
                <a:lnTo>
                  <a:pt x="2473" y="412"/>
                </a:lnTo>
                <a:lnTo>
                  <a:pt x="2565" y="395"/>
                </a:lnTo>
                <a:lnTo>
                  <a:pt x="2655" y="377"/>
                </a:lnTo>
                <a:lnTo>
                  <a:pt x="2741" y="358"/>
                </a:lnTo>
                <a:lnTo>
                  <a:pt x="2822" y="339"/>
                </a:lnTo>
                <a:lnTo>
                  <a:pt x="2861" y="328"/>
                </a:lnTo>
                <a:lnTo>
                  <a:pt x="2897" y="319"/>
                </a:lnTo>
                <a:lnTo>
                  <a:pt x="2932" y="308"/>
                </a:lnTo>
                <a:lnTo>
                  <a:pt x="2966" y="297"/>
                </a:lnTo>
                <a:lnTo>
                  <a:pt x="3026" y="305"/>
                </a:lnTo>
                <a:lnTo>
                  <a:pt x="3082" y="311"/>
                </a:lnTo>
                <a:lnTo>
                  <a:pt x="3138" y="317"/>
                </a:lnTo>
                <a:lnTo>
                  <a:pt x="3192" y="321"/>
                </a:lnTo>
                <a:lnTo>
                  <a:pt x="3295" y="327"/>
                </a:lnTo>
                <a:lnTo>
                  <a:pt x="3391" y="331"/>
                </a:lnTo>
                <a:lnTo>
                  <a:pt x="3482" y="335"/>
                </a:lnTo>
                <a:lnTo>
                  <a:pt x="3566" y="338"/>
                </a:lnTo>
                <a:lnTo>
                  <a:pt x="3606" y="340"/>
                </a:lnTo>
                <a:lnTo>
                  <a:pt x="3644" y="343"/>
                </a:lnTo>
                <a:lnTo>
                  <a:pt x="3681" y="347"/>
                </a:lnTo>
                <a:lnTo>
                  <a:pt x="3715" y="351"/>
                </a:lnTo>
                <a:lnTo>
                  <a:pt x="3750" y="357"/>
                </a:lnTo>
                <a:lnTo>
                  <a:pt x="3781" y="364"/>
                </a:lnTo>
                <a:lnTo>
                  <a:pt x="3813" y="371"/>
                </a:lnTo>
                <a:lnTo>
                  <a:pt x="3842" y="381"/>
                </a:lnTo>
                <a:lnTo>
                  <a:pt x="3871" y="393"/>
                </a:lnTo>
                <a:lnTo>
                  <a:pt x="3897" y="406"/>
                </a:lnTo>
                <a:lnTo>
                  <a:pt x="3923" y="421"/>
                </a:lnTo>
                <a:lnTo>
                  <a:pt x="3948" y="438"/>
                </a:lnTo>
                <a:lnTo>
                  <a:pt x="3971" y="458"/>
                </a:lnTo>
                <a:lnTo>
                  <a:pt x="3992" y="480"/>
                </a:lnTo>
                <a:lnTo>
                  <a:pt x="4013" y="504"/>
                </a:lnTo>
                <a:lnTo>
                  <a:pt x="4032" y="532"/>
                </a:lnTo>
                <a:lnTo>
                  <a:pt x="4050" y="562"/>
                </a:lnTo>
                <a:lnTo>
                  <a:pt x="4066" y="596"/>
                </a:lnTo>
                <a:lnTo>
                  <a:pt x="4082" y="633"/>
                </a:lnTo>
                <a:lnTo>
                  <a:pt x="4097" y="673"/>
                </a:lnTo>
                <a:lnTo>
                  <a:pt x="4114" y="718"/>
                </a:lnTo>
                <a:lnTo>
                  <a:pt x="4134" y="762"/>
                </a:lnTo>
                <a:lnTo>
                  <a:pt x="4158" y="807"/>
                </a:lnTo>
                <a:lnTo>
                  <a:pt x="4184" y="853"/>
                </a:lnTo>
                <a:lnTo>
                  <a:pt x="4214" y="898"/>
                </a:lnTo>
                <a:lnTo>
                  <a:pt x="4245" y="943"/>
                </a:lnTo>
                <a:lnTo>
                  <a:pt x="4279" y="989"/>
                </a:lnTo>
                <a:lnTo>
                  <a:pt x="4315" y="1034"/>
                </a:lnTo>
                <a:lnTo>
                  <a:pt x="4353" y="1079"/>
                </a:lnTo>
                <a:lnTo>
                  <a:pt x="4393" y="1126"/>
                </a:lnTo>
                <a:lnTo>
                  <a:pt x="4435" y="1171"/>
                </a:lnTo>
                <a:lnTo>
                  <a:pt x="4478" y="1216"/>
                </a:lnTo>
                <a:lnTo>
                  <a:pt x="4567" y="1308"/>
                </a:lnTo>
                <a:lnTo>
                  <a:pt x="4658" y="1399"/>
                </a:lnTo>
                <a:lnTo>
                  <a:pt x="4751" y="1491"/>
                </a:lnTo>
                <a:lnTo>
                  <a:pt x="4843" y="1583"/>
                </a:lnTo>
                <a:lnTo>
                  <a:pt x="4888" y="1629"/>
                </a:lnTo>
                <a:lnTo>
                  <a:pt x="4933" y="1675"/>
                </a:lnTo>
                <a:lnTo>
                  <a:pt x="4977" y="1721"/>
                </a:lnTo>
                <a:lnTo>
                  <a:pt x="5019" y="1767"/>
                </a:lnTo>
                <a:lnTo>
                  <a:pt x="5061" y="1813"/>
                </a:lnTo>
                <a:lnTo>
                  <a:pt x="5100" y="1860"/>
                </a:lnTo>
                <a:lnTo>
                  <a:pt x="5138" y="1905"/>
                </a:lnTo>
                <a:lnTo>
                  <a:pt x="5173" y="1951"/>
                </a:lnTo>
                <a:lnTo>
                  <a:pt x="5207" y="1998"/>
                </a:lnTo>
                <a:lnTo>
                  <a:pt x="5238" y="2044"/>
                </a:lnTo>
                <a:lnTo>
                  <a:pt x="5267" y="2089"/>
                </a:lnTo>
                <a:lnTo>
                  <a:pt x="5292" y="2135"/>
                </a:lnTo>
                <a:lnTo>
                  <a:pt x="5322" y="2190"/>
                </a:lnTo>
                <a:lnTo>
                  <a:pt x="5348" y="2241"/>
                </a:lnTo>
                <a:lnTo>
                  <a:pt x="5371" y="2289"/>
                </a:lnTo>
                <a:lnTo>
                  <a:pt x="5392" y="2334"/>
                </a:lnTo>
                <a:lnTo>
                  <a:pt x="5410" y="2377"/>
                </a:lnTo>
                <a:lnTo>
                  <a:pt x="5425" y="2417"/>
                </a:lnTo>
                <a:lnTo>
                  <a:pt x="5435" y="2454"/>
                </a:lnTo>
                <a:lnTo>
                  <a:pt x="5442" y="2488"/>
                </a:lnTo>
                <a:lnTo>
                  <a:pt x="5446" y="2521"/>
                </a:lnTo>
                <a:lnTo>
                  <a:pt x="5446" y="2551"/>
                </a:lnTo>
                <a:lnTo>
                  <a:pt x="5441" y="2580"/>
                </a:lnTo>
                <a:lnTo>
                  <a:pt x="5433" y="2606"/>
                </a:lnTo>
                <a:lnTo>
                  <a:pt x="5419" y="2630"/>
                </a:lnTo>
                <a:lnTo>
                  <a:pt x="5402" y="2653"/>
                </a:lnTo>
                <a:lnTo>
                  <a:pt x="5380" y="2675"/>
                </a:lnTo>
                <a:lnTo>
                  <a:pt x="5353" y="2694"/>
                </a:lnTo>
                <a:lnTo>
                  <a:pt x="5320" y="2713"/>
                </a:lnTo>
                <a:lnTo>
                  <a:pt x="5284" y="2729"/>
                </a:lnTo>
                <a:lnTo>
                  <a:pt x="5241" y="2746"/>
                </a:lnTo>
                <a:lnTo>
                  <a:pt x="5193" y="2761"/>
                </a:lnTo>
                <a:lnTo>
                  <a:pt x="5140" y="2776"/>
                </a:lnTo>
                <a:lnTo>
                  <a:pt x="5080" y="2789"/>
                </a:lnTo>
                <a:lnTo>
                  <a:pt x="5015" y="2802"/>
                </a:lnTo>
                <a:lnTo>
                  <a:pt x="4942" y="2815"/>
                </a:lnTo>
                <a:lnTo>
                  <a:pt x="4864" y="2827"/>
                </a:lnTo>
                <a:lnTo>
                  <a:pt x="4780" y="2839"/>
                </a:lnTo>
                <a:lnTo>
                  <a:pt x="4689" y="2851"/>
                </a:lnTo>
                <a:lnTo>
                  <a:pt x="4591" y="2863"/>
                </a:lnTo>
                <a:lnTo>
                  <a:pt x="4374" y="2887"/>
                </a:lnTo>
                <a:lnTo>
                  <a:pt x="4129" y="2913"/>
                </a:lnTo>
                <a:lnTo>
                  <a:pt x="4051" y="2921"/>
                </a:lnTo>
                <a:lnTo>
                  <a:pt x="3970" y="2927"/>
                </a:lnTo>
                <a:lnTo>
                  <a:pt x="3887" y="2934"/>
                </a:lnTo>
                <a:lnTo>
                  <a:pt x="3802" y="2939"/>
                </a:lnTo>
                <a:lnTo>
                  <a:pt x="3631" y="2950"/>
                </a:lnTo>
                <a:lnTo>
                  <a:pt x="3458" y="2958"/>
                </a:lnTo>
                <a:lnTo>
                  <a:pt x="3283" y="2966"/>
                </a:lnTo>
                <a:lnTo>
                  <a:pt x="3112" y="2976"/>
                </a:lnTo>
                <a:lnTo>
                  <a:pt x="3028" y="2982"/>
                </a:lnTo>
                <a:lnTo>
                  <a:pt x="2945" y="2988"/>
                </a:lnTo>
                <a:lnTo>
                  <a:pt x="2864" y="2995"/>
                </a:lnTo>
                <a:lnTo>
                  <a:pt x="2785" y="3003"/>
                </a:lnTo>
                <a:lnTo>
                  <a:pt x="2733" y="3036"/>
                </a:lnTo>
                <a:lnTo>
                  <a:pt x="2671" y="3041"/>
                </a:lnTo>
                <a:lnTo>
                  <a:pt x="2609" y="3047"/>
                </a:lnTo>
                <a:lnTo>
                  <a:pt x="2546" y="3056"/>
                </a:lnTo>
                <a:lnTo>
                  <a:pt x="2483" y="3065"/>
                </a:lnTo>
                <a:lnTo>
                  <a:pt x="2421" y="3076"/>
                </a:lnTo>
                <a:lnTo>
                  <a:pt x="2358" y="3087"/>
                </a:lnTo>
                <a:lnTo>
                  <a:pt x="2296" y="3099"/>
                </a:lnTo>
                <a:lnTo>
                  <a:pt x="2234" y="3112"/>
                </a:lnTo>
                <a:lnTo>
                  <a:pt x="2111" y="3137"/>
                </a:lnTo>
                <a:lnTo>
                  <a:pt x="1992" y="3161"/>
                </a:lnTo>
                <a:lnTo>
                  <a:pt x="1933" y="3172"/>
                </a:lnTo>
                <a:lnTo>
                  <a:pt x="1877" y="3182"/>
                </a:lnTo>
                <a:lnTo>
                  <a:pt x="1820" y="3192"/>
                </a:lnTo>
                <a:lnTo>
                  <a:pt x="1765" y="3200"/>
                </a:lnTo>
                <a:lnTo>
                  <a:pt x="1713" y="3206"/>
                </a:lnTo>
                <a:lnTo>
                  <a:pt x="1661" y="3212"/>
                </a:lnTo>
                <a:lnTo>
                  <a:pt x="1611" y="3215"/>
                </a:lnTo>
                <a:lnTo>
                  <a:pt x="1563" y="3216"/>
                </a:lnTo>
                <a:lnTo>
                  <a:pt x="1517" y="3215"/>
                </a:lnTo>
                <a:lnTo>
                  <a:pt x="1473" y="3211"/>
                </a:lnTo>
                <a:lnTo>
                  <a:pt x="1432" y="3204"/>
                </a:lnTo>
                <a:lnTo>
                  <a:pt x="1392" y="3195"/>
                </a:lnTo>
                <a:lnTo>
                  <a:pt x="1355" y="3182"/>
                </a:lnTo>
                <a:lnTo>
                  <a:pt x="1320" y="3166"/>
                </a:lnTo>
                <a:lnTo>
                  <a:pt x="1289" y="3148"/>
                </a:lnTo>
                <a:lnTo>
                  <a:pt x="1261" y="3124"/>
                </a:lnTo>
                <a:lnTo>
                  <a:pt x="1234" y="3097"/>
                </a:lnTo>
                <a:lnTo>
                  <a:pt x="1212" y="3066"/>
                </a:lnTo>
                <a:lnTo>
                  <a:pt x="1192" y="3031"/>
                </a:lnTo>
                <a:lnTo>
                  <a:pt x="1176" y="2991"/>
                </a:lnTo>
                <a:lnTo>
                  <a:pt x="1161" y="2940"/>
                </a:lnTo>
                <a:lnTo>
                  <a:pt x="1145" y="2891"/>
                </a:lnTo>
                <a:lnTo>
                  <a:pt x="1127" y="2841"/>
                </a:lnTo>
                <a:lnTo>
                  <a:pt x="1109" y="2791"/>
                </a:lnTo>
                <a:lnTo>
                  <a:pt x="1089" y="2741"/>
                </a:lnTo>
                <a:lnTo>
                  <a:pt x="1069" y="2692"/>
                </a:lnTo>
                <a:lnTo>
                  <a:pt x="1048" y="2642"/>
                </a:lnTo>
                <a:lnTo>
                  <a:pt x="1026" y="2591"/>
                </a:lnTo>
                <a:lnTo>
                  <a:pt x="981" y="2492"/>
                </a:lnTo>
                <a:lnTo>
                  <a:pt x="934" y="2392"/>
                </a:lnTo>
                <a:lnTo>
                  <a:pt x="885" y="2293"/>
                </a:lnTo>
                <a:lnTo>
                  <a:pt x="837" y="2194"/>
                </a:lnTo>
                <a:lnTo>
                  <a:pt x="787" y="2096"/>
                </a:lnTo>
                <a:lnTo>
                  <a:pt x="739" y="1999"/>
                </a:lnTo>
                <a:lnTo>
                  <a:pt x="692" y="1901"/>
                </a:lnTo>
                <a:lnTo>
                  <a:pt x="647" y="1804"/>
                </a:lnTo>
                <a:lnTo>
                  <a:pt x="626" y="1756"/>
                </a:lnTo>
                <a:lnTo>
                  <a:pt x="605" y="1708"/>
                </a:lnTo>
                <a:lnTo>
                  <a:pt x="585" y="1661"/>
                </a:lnTo>
                <a:lnTo>
                  <a:pt x="565" y="1612"/>
                </a:lnTo>
                <a:lnTo>
                  <a:pt x="547" y="1565"/>
                </a:lnTo>
                <a:lnTo>
                  <a:pt x="529" y="1517"/>
                </a:lnTo>
                <a:lnTo>
                  <a:pt x="512" y="1471"/>
                </a:lnTo>
                <a:lnTo>
                  <a:pt x="497" y="1424"/>
                </a:lnTo>
                <a:lnTo>
                  <a:pt x="495" y="1412"/>
                </a:lnTo>
                <a:lnTo>
                  <a:pt x="492" y="1397"/>
                </a:lnTo>
                <a:lnTo>
                  <a:pt x="487" y="1379"/>
                </a:lnTo>
                <a:lnTo>
                  <a:pt x="481" y="1358"/>
                </a:lnTo>
                <a:lnTo>
                  <a:pt x="464" y="1311"/>
                </a:lnTo>
                <a:lnTo>
                  <a:pt x="443" y="1255"/>
                </a:lnTo>
                <a:lnTo>
                  <a:pt x="416" y="1194"/>
                </a:lnTo>
                <a:lnTo>
                  <a:pt x="387" y="1129"/>
                </a:lnTo>
                <a:lnTo>
                  <a:pt x="371" y="1095"/>
                </a:lnTo>
                <a:lnTo>
                  <a:pt x="354" y="1061"/>
                </a:lnTo>
                <a:lnTo>
                  <a:pt x="336" y="1027"/>
                </a:lnTo>
                <a:lnTo>
                  <a:pt x="319" y="993"/>
                </a:lnTo>
                <a:lnTo>
                  <a:pt x="301" y="960"/>
                </a:lnTo>
                <a:lnTo>
                  <a:pt x="281" y="926"/>
                </a:lnTo>
                <a:lnTo>
                  <a:pt x="262" y="895"/>
                </a:lnTo>
                <a:lnTo>
                  <a:pt x="242" y="864"/>
                </a:lnTo>
                <a:lnTo>
                  <a:pt x="222" y="834"/>
                </a:lnTo>
                <a:lnTo>
                  <a:pt x="201" y="806"/>
                </a:lnTo>
                <a:lnTo>
                  <a:pt x="181" y="780"/>
                </a:lnTo>
                <a:lnTo>
                  <a:pt x="160" y="756"/>
                </a:lnTo>
                <a:lnTo>
                  <a:pt x="140" y="734"/>
                </a:lnTo>
                <a:lnTo>
                  <a:pt x="119" y="714"/>
                </a:lnTo>
                <a:lnTo>
                  <a:pt x="99" y="697"/>
                </a:lnTo>
                <a:lnTo>
                  <a:pt x="78" y="682"/>
                </a:lnTo>
                <a:lnTo>
                  <a:pt x="58" y="672"/>
                </a:lnTo>
                <a:lnTo>
                  <a:pt x="38" y="664"/>
                </a:lnTo>
                <a:lnTo>
                  <a:pt x="19" y="660"/>
                </a:lnTo>
                <a:lnTo>
                  <a:pt x="0" y="660"/>
                </a:lnTo>
                <a:lnTo>
                  <a:pt x="12" y="747"/>
                </a:lnTo>
                <a:lnTo>
                  <a:pt x="27" y="835"/>
                </a:lnTo>
                <a:lnTo>
                  <a:pt x="48" y="922"/>
                </a:lnTo>
                <a:lnTo>
                  <a:pt x="75" y="1010"/>
                </a:lnTo>
                <a:lnTo>
                  <a:pt x="103" y="1097"/>
                </a:lnTo>
                <a:lnTo>
                  <a:pt x="136" y="1184"/>
                </a:lnTo>
                <a:lnTo>
                  <a:pt x="173" y="1273"/>
                </a:lnTo>
                <a:lnTo>
                  <a:pt x="211" y="1360"/>
                </a:lnTo>
                <a:lnTo>
                  <a:pt x="252" y="1448"/>
                </a:lnTo>
                <a:lnTo>
                  <a:pt x="295" y="1536"/>
                </a:lnTo>
                <a:lnTo>
                  <a:pt x="342" y="1624"/>
                </a:lnTo>
                <a:lnTo>
                  <a:pt x="389" y="1712"/>
                </a:lnTo>
                <a:lnTo>
                  <a:pt x="437" y="1800"/>
                </a:lnTo>
                <a:lnTo>
                  <a:pt x="487" y="1888"/>
                </a:lnTo>
                <a:lnTo>
                  <a:pt x="537" y="1976"/>
                </a:lnTo>
                <a:lnTo>
                  <a:pt x="588" y="2065"/>
                </a:lnTo>
                <a:lnTo>
                  <a:pt x="638" y="2153"/>
                </a:lnTo>
                <a:lnTo>
                  <a:pt x="689" y="2242"/>
                </a:lnTo>
                <a:lnTo>
                  <a:pt x="738" y="2330"/>
                </a:lnTo>
                <a:lnTo>
                  <a:pt x="786" y="2419"/>
                </a:lnTo>
                <a:lnTo>
                  <a:pt x="834" y="2507"/>
                </a:lnTo>
                <a:lnTo>
                  <a:pt x="880" y="2596"/>
                </a:lnTo>
                <a:lnTo>
                  <a:pt x="923" y="2685"/>
                </a:lnTo>
                <a:lnTo>
                  <a:pt x="965" y="2774"/>
                </a:lnTo>
                <a:lnTo>
                  <a:pt x="1004" y="2863"/>
                </a:lnTo>
                <a:lnTo>
                  <a:pt x="1040" y="2952"/>
                </a:lnTo>
                <a:lnTo>
                  <a:pt x="1072" y="3041"/>
                </a:lnTo>
                <a:lnTo>
                  <a:pt x="1102" y="3131"/>
                </a:lnTo>
                <a:lnTo>
                  <a:pt x="1127" y="3220"/>
                </a:lnTo>
                <a:lnTo>
                  <a:pt x="1148" y="3310"/>
                </a:lnTo>
                <a:lnTo>
                  <a:pt x="1164" y="3399"/>
                </a:lnTo>
                <a:lnTo>
                  <a:pt x="1176" y="3489"/>
                </a:lnTo>
                <a:lnTo>
                  <a:pt x="1286" y="3501"/>
                </a:lnTo>
                <a:lnTo>
                  <a:pt x="1389" y="3489"/>
                </a:lnTo>
                <a:lnTo>
                  <a:pt x="1432" y="3475"/>
                </a:lnTo>
                <a:lnTo>
                  <a:pt x="1477" y="3462"/>
                </a:lnTo>
                <a:lnTo>
                  <a:pt x="1524" y="3451"/>
                </a:lnTo>
                <a:lnTo>
                  <a:pt x="1573" y="3440"/>
                </a:lnTo>
                <a:lnTo>
                  <a:pt x="1623" y="3430"/>
                </a:lnTo>
                <a:lnTo>
                  <a:pt x="1676" y="3420"/>
                </a:lnTo>
                <a:lnTo>
                  <a:pt x="1729" y="3411"/>
                </a:lnTo>
                <a:lnTo>
                  <a:pt x="1784" y="3402"/>
                </a:lnTo>
                <a:lnTo>
                  <a:pt x="1898" y="3387"/>
                </a:lnTo>
                <a:lnTo>
                  <a:pt x="2014" y="3373"/>
                </a:lnTo>
                <a:lnTo>
                  <a:pt x="2133" y="3359"/>
                </a:lnTo>
                <a:lnTo>
                  <a:pt x="2253" y="3347"/>
                </a:lnTo>
                <a:lnTo>
                  <a:pt x="2373" y="3334"/>
                </a:lnTo>
                <a:lnTo>
                  <a:pt x="2492" y="3320"/>
                </a:lnTo>
                <a:lnTo>
                  <a:pt x="2608" y="3305"/>
                </a:lnTo>
                <a:lnTo>
                  <a:pt x="2723" y="3291"/>
                </a:lnTo>
                <a:lnTo>
                  <a:pt x="2777" y="3282"/>
                </a:lnTo>
                <a:lnTo>
                  <a:pt x="2831" y="3273"/>
                </a:lnTo>
                <a:lnTo>
                  <a:pt x="2884" y="3263"/>
                </a:lnTo>
                <a:lnTo>
                  <a:pt x="2935" y="3253"/>
                </a:lnTo>
                <a:lnTo>
                  <a:pt x="2985" y="3242"/>
                </a:lnTo>
                <a:lnTo>
                  <a:pt x="3032" y="3230"/>
                </a:lnTo>
                <a:lnTo>
                  <a:pt x="3077" y="3217"/>
                </a:lnTo>
                <a:lnTo>
                  <a:pt x="3121" y="3204"/>
                </a:lnTo>
                <a:lnTo>
                  <a:pt x="3164" y="3209"/>
                </a:lnTo>
                <a:lnTo>
                  <a:pt x="3214" y="3212"/>
                </a:lnTo>
                <a:lnTo>
                  <a:pt x="3269" y="3214"/>
                </a:lnTo>
                <a:lnTo>
                  <a:pt x="3332" y="3214"/>
                </a:lnTo>
                <a:lnTo>
                  <a:pt x="3398" y="3214"/>
                </a:lnTo>
                <a:lnTo>
                  <a:pt x="3470" y="3212"/>
                </a:lnTo>
                <a:lnTo>
                  <a:pt x="3547" y="3209"/>
                </a:lnTo>
                <a:lnTo>
                  <a:pt x="3628" y="3204"/>
                </a:lnTo>
                <a:lnTo>
                  <a:pt x="3712" y="3199"/>
                </a:lnTo>
                <a:lnTo>
                  <a:pt x="3799" y="3193"/>
                </a:lnTo>
                <a:lnTo>
                  <a:pt x="3890" y="3185"/>
                </a:lnTo>
                <a:lnTo>
                  <a:pt x="3982" y="3178"/>
                </a:lnTo>
                <a:lnTo>
                  <a:pt x="4076" y="3170"/>
                </a:lnTo>
                <a:lnTo>
                  <a:pt x="4171" y="3160"/>
                </a:lnTo>
                <a:lnTo>
                  <a:pt x="4268" y="3150"/>
                </a:lnTo>
                <a:lnTo>
                  <a:pt x="4366" y="3139"/>
                </a:lnTo>
                <a:lnTo>
                  <a:pt x="4560" y="3116"/>
                </a:lnTo>
                <a:lnTo>
                  <a:pt x="4752" y="3092"/>
                </a:lnTo>
                <a:lnTo>
                  <a:pt x="4844" y="3079"/>
                </a:lnTo>
                <a:lnTo>
                  <a:pt x="4936" y="3066"/>
                </a:lnTo>
                <a:lnTo>
                  <a:pt x="5025" y="3053"/>
                </a:lnTo>
                <a:lnTo>
                  <a:pt x="5110" y="3040"/>
                </a:lnTo>
                <a:lnTo>
                  <a:pt x="5192" y="3026"/>
                </a:lnTo>
                <a:lnTo>
                  <a:pt x="5271" y="3014"/>
                </a:lnTo>
                <a:lnTo>
                  <a:pt x="5345" y="3001"/>
                </a:lnTo>
                <a:lnTo>
                  <a:pt x="5414" y="2987"/>
                </a:lnTo>
                <a:lnTo>
                  <a:pt x="5478" y="2975"/>
                </a:lnTo>
                <a:lnTo>
                  <a:pt x="5537" y="2962"/>
                </a:lnTo>
                <a:lnTo>
                  <a:pt x="5589" y="2951"/>
                </a:lnTo>
                <a:lnTo>
                  <a:pt x="5635" y="2939"/>
                </a:lnTo>
                <a:lnTo>
                  <a:pt x="5688" y="2921"/>
                </a:lnTo>
                <a:lnTo>
                  <a:pt x="5733" y="2899"/>
                </a:lnTo>
                <a:lnTo>
                  <a:pt x="5770" y="2873"/>
                </a:lnTo>
                <a:lnTo>
                  <a:pt x="5800" y="2844"/>
                </a:lnTo>
                <a:lnTo>
                  <a:pt x="5822" y="2812"/>
                </a:lnTo>
                <a:lnTo>
                  <a:pt x="5838" y="2776"/>
                </a:lnTo>
                <a:lnTo>
                  <a:pt x="5846" y="2738"/>
                </a:lnTo>
                <a:lnTo>
                  <a:pt x="5849" y="2697"/>
                </a:lnTo>
                <a:lnTo>
                  <a:pt x="5847" y="2655"/>
                </a:lnTo>
                <a:lnTo>
                  <a:pt x="5840" y="2609"/>
                </a:lnTo>
                <a:lnTo>
                  <a:pt x="5828" y="2563"/>
                </a:lnTo>
                <a:lnTo>
                  <a:pt x="5811" y="2516"/>
                </a:lnTo>
                <a:lnTo>
                  <a:pt x="5790" y="2466"/>
                </a:lnTo>
                <a:lnTo>
                  <a:pt x="5767" y="2417"/>
                </a:lnTo>
                <a:lnTo>
                  <a:pt x="5740" y="2366"/>
                </a:lnTo>
                <a:lnTo>
                  <a:pt x="5710" y="2314"/>
                </a:lnTo>
                <a:lnTo>
                  <a:pt x="5678" y="2264"/>
                </a:lnTo>
                <a:lnTo>
                  <a:pt x="5644" y="2212"/>
                </a:lnTo>
                <a:lnTo>
                  <a:pt x="5609" y="2162"/>
                </a:lnTo>
                <a:lnTo>
                  <a:pt x="5572" y="2111"/>
                </a:lnTo>
                <a:lnTo>
                  <a:pt x="5534" y="2063"/>
                </a:lnTo>
                <a:lnTo>
                  <a:pt x="5496" y="2014"/>
                </a:lnTo>
                <a:lnTo>
                  <a:pt x="5458" y="1968"/>
                </a:lnTo>
                <a:lnTo>
                  <a:pt x="5421" y="1924"/>
                </a:lnTo>
                <a:lnTo>
                  <a:pt x="5286" y="1766"/>
                </a:lnTo>
                <a:lnTo>
                  <a:pt x="5189" y="1656"/>
                </a:lnTo>
                <a:lnTo>
                  <a:pt x="5146" y="1608"/>
                </a:lnTo>
                <a:lnTo>
                  <a:pt x="5104" y="1557"/>
                </a:lnTo>
                <a:lnTo>
                  <a:pt x="5063" y="1508"/>
                </a:lnTo>
                <a:lnTo>
                  <a:pt x="5023" y="1457"/>
                </a:lnTo>
                <a:lnTo>
                  <a:pt x="4983" y="1407"/>
                </a:lnTo>
                <a:lnTo>
                  <a:pt x="4944" y="1355"/>
                </a:lnTo>
                <a:lnTo>
                  <a:pt x="4906" y="1305"/>
                </a:lnTo>
                <a:lnTo>
                  <a:pt x="4868" y="1253"/>
                </a:lnTo>
                <a:lnTo>
                  <a:pt x="4721" y="1047"/>
                </a:lnTo>
                <a:lnTo>
                  <a:pt x="4575" y="839"/>
                </a:lnTo>
                <a:lnTo>
                  <a:pt x="4500" y="737"/>
                </a:lnTo>
                <a:lnTo>
                  <a:pt x="4424" y="635"/>
                </a:lnTo>
                <a:lnTo>
                  <a:pt x="4385" y="583"/>
                </a:lnTo>
                <a:lnTo>
                  <a:pt x="4345" y="533"/>
                </a:lnTo>
                <a:lnTo>
                  <a:pt x="4304" y="483"/>
                </a:lnTo>
                <a:lnTo>
                  <a:pt x="4262" y="434"/>
                </a:lnTo>
                <a:lnTo>
                  <a:pt x="4219" y="384"/>
                </a:lnTo>
                <a:lnTo>
                  <a:pt x="4176" y="335"/>
                </a:lnTo>
                <a:lnTo>
                  <a:pt x="4130" y="286"/>
                </a:lnTo>
                <a:lnTo>
                  <a:pt x="4084" y="238"/>
                </a:lnTo>
                <a:lnTo>
                  <a:pt x="4036" y="190"/>
                </a:lnTo>
                <a:lnTo>
                  <a:pt x="3986" y="143"/>
                </a:lnTo>
                <a:lnTo>
                  <a:pt x="3936" y="97"/>
                </a:lnTo>
                <a:lnTo>
                  <a:pt x="3883" y="5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65880" y="3141720"/>
            <a:ext cx="15840" cy="11160"/>
          </a:xfrm>
          <a:custGeom>
            <a:avLst/>
            <a:gdLst/>
            <a:ahLst/>
            <a:rect l="l" t="t" r="r" b="b"/>
            <a:pathLst>
              <a:path w="913" h="519">
                <a:moveTo>
                  <a:pt x="607" y="14"/>
                </a:moveTo>
                <a:lnTo>
                  <a:pt x="606" y="11"/>
                </a:lnTo>
                <a:lnTo>
                  <a:pt x="604" y="9"/>
                </a:lnTo>
                <a:lnTo>
                  <a:pt x="601" y="5"/>
                </a:lnTo>
                <a:lnTo>
                  <a:pt x="598" y="4"/>
                </a:lnTo>
                <a:lnTo>
                  <a:pt x="589" y="1"/>
                </a:lnTo>
                <a:lnTo>
                  <a:pt x="577" y="0"/>
                </a:lnTo>
                <a:lnTo>
                  <a:pt x="564" y="0"/>
                </a:lnTo>
                <a:lnTo>
                  <a:pt x="553" y="0"/>
                </a:lnTo>
                <a:lnTo>
                  <a:pt x="543" y="1"/>
                </a:lnTo>
                <a:lnTo>
                  <a:pt x="536" y="1"/>
                </a:lnTo>
                <a:lnTo>
                  <a:pt x="509" y="9"/>
                </a:lnTo>
                <a:lnTo>
                  <a:pt x="470" y="18"/>
                </a:lnTo>
                <a:lnTo>
                  <a:pt x="426" y="27"/>
                </a:lnTo>
                <a:lnTo>
                  <a:pt x="377" y="35"/>
                </a:lnTo>
                <a:lnTo>
                  <a:pt x="328" y="42"/>
                </a:lnTo>
                <a:lnTo>
                  <a:pt x="283" y="48"/>
                </a:lnTo>
                <a:lnTo>
                  <a:pt x="243" y="52"/>
                </a:lnTo>
                <a:lnTo>
                  <a:pt x="213" y="53"/>
                </a:lnTo>
                <a:lnTo>
                  <a:pt x="207" y="53"/>
                </a:lnTo>
                <a:lnTo>
                  <a:pt x="202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3" y="68"/>
                </a:lnTo>
                <a:lnTo>
                  <a:pt x="181" y="74"/>
                </a:lnTo>
                <a:lnTo>
                  <a:pt x="180" y="81"/>
                </a:lnTo>
                <a:lnTo>
                  <a:pt x="182" y="90"/>
                </a:lnTo>
                <a:lnTo>
                  <a:pt x="185" y="98"/>
                </a:lnTo>
                <a:lnTo>
                  <a:pt x="189" y="107"/>
                </a:lnTo>
                <a:lnTo>
                  <a:pt x="195" y="115"/>
                </a:lnTo>
                <a:lnTo>
                  <a:pt x="203" y="122"/>
                </a:lnTo>
                <a:lnTo>
                  <a:pt x="212" y="130"/>
                </a:lnTo>
                <a:lnTo>
                  <a:pt x="222" y="135"/>
                </a:lnTo>
                <a:lnTo>
                  <a:pt x="233" y="140"/>
                </a:lnTo>
                <a:lnTo>
                  <a:pt x="245" y="142"/>
                </a:lnTo>
                <a:lnTo>
                  <a:pt x="258" y="143"/>
                </a:lnTo>
                <a:lnTo>
                  <a:pt x="279" y="140"/>
                </a:lnTo>
                <a:lnTo>
                  <a:pt x="305" y="136"/>
                </a:lnTo>
                <a:lnTo>
                  <a:pt x="333" y="130"/>
                </a:lnTo>
                <a:lnTo>
                  <a:pt x="361" y="122"/>
                </a:lnTo>
                <a:lnTo>
                  <a:pt x="391" y="115"/>
                </a:lnTo>
                <a:lnTo>
                  <a:pt x="418" y="108"/>
                </a:lnTo>
                <a:lnTo>
                  <a:pt x="443" y="99"/>
                </a:lnTo>
                <a:lnTo>
                  <a:pt x="464" y="92"/>
                </a:lnTo>
                <a:lnTo>
                  <a:pt x="498" y="95"/>
                </a:lnTo>
                <a:lnTo>
                  <a:pt x="525" y="97"/>
                </a:lnTo>
                <a:lnTo>
                  <a:pt x="546" y="98"/>
                </a:lnTo>
                <a:lnTo>
                  <a:pt x="562" y="98"/>
                </a:lnTo>
                <a:lnTo>
                  <a:pt x="570" y="99"/>
                </a:lnTo>
                <a:lnTo>
                  <a:pt x="575" y="100"/>
                </a:lnTo>
                <a:lnTo>
                  <a:pt x="579" y="102"/>
                </a:lnTo>
                <a:lnTo>
                  <a:pt x="582" y="104"/>
                </a:lnTo>
                <a:lnTo>
                  <a:pt x="584" y="108"/>
                </a:lnTo>
                <a:lnTo>
                  <a:pt x="586" y="112"/>
                </a:lnTo>
                <a:lnTo>
                  <a:pt x="587" y="118"/>
                </a:lnTo>
                <a:lnTo>
                  <a:pt x="587" y="124"/>
                </a:lnTo>
                <a:lnTo>
                  <a:pt x="589" y="135"/>
                </a:lnTo>
                <a:lnTo>
                  <a:pt x="593" y="147"/>
                </a:lnTo>
                <a:lnTo>
                  <a:pt x="597" y="159"/>
                </a:lnTo>
                <a:lnTo>
                  <a:pt x="604" y="172"/>
                </a:lnTo>
                <a:lnTo>
                  <a:pt x="621" y="200"/>
                </a:lnTo>
                <a:lnTo>
                  <a:pt x="641" y="230"/>
                </a:lnTo>
                <a:lnTo>
                  <a:pt x="661" y="258"/>
                </a:lnTo>
                <a:lnTo>
                  <a:pt x="680" y="285"/>
                </a:lnTo>
                <a:lnTo>
                  <a:pt x="688" y="296"/>
                </a:lnTo>
                <a:lnTo>
                  <a:pt x="696" y="308"/>
                </a:lnTo>
                <a:lnTo>
                  <a:pt x="701" y="317"/>
                </a:lnTo>
                <a:lnTo>
                  <a:pt x="704" y="325"/>
                </a:lnTo>
                <a:lnTo>
                  <a:pt x="708" y="336"/>
                </a:lnTo>
                <a:lnTo>
                  <a:pt x="714" y="347"/>
                </a:lnTo>
                <a:lnTo>
                  <a:pt x="720" y="355"/>
                </a:lnTo>
                <a:lnTo>
                  <a:pt x="726" y="362"/>
                </a:lnTo>
                <a:lnTo>
                  <a:pt x="732" y="369"/>
                </a:lnTo>
                <a:lnTo>
                  <a:pt x="737" y="374"/>
                </a:lnTo>
                <a:lnTo>
                  <a:pt x="740" y="378"/>
                </a:lnTo>
                <a:lnTo>
                  <a:pt x="740" y="381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4" y="387"/>
                </a:lnTo>
                <a:lnTo>
                  <a:pt x="725" y="388"/>
                </a:lnTo>
                <a:lnTo>
                  <a:pt x="713" y="389"/>
                </a:lnTo>
                <a:lnTo>
                  <a:pt x="672" y="390"/>
                </a:lnTo>
                <a:lnTo>
                  <a:pt x="607" y="390"/>
                </a:lnTo>
                <a:lnTo>
                  <a:pt x="587" y="390"/>
                </a:lnTo>
                <a:lnTo>
                  <a:pt x="562" y="390"/>
                </a:lnTo>
                <a:lnTo>
                  <a:pt x="534" y="391"/>
                </a:lnTo>
                <a:lnTo>
                  <a:pt x="503" y="392"/>
                </a:lnTo>
                <a:lnTo>
                  <a:pt x="472" y="394"/>
                </a:lnTo>
                <a:lnTo>
                  <a:pt x="442" y="398"/>
                </a:lnTo>
                <a:lnTo>
                  <a:pt x="429" y="400"/>
                </a:lnTo>
                <a:lnTo>
                  <a:pt x="416" y="402"/>
                </a:lnTo>
                <a:lnTo>
                  <a:pt x="405" y="406"/>
                </a:lnTo>
                <a:lnTo>
                  <a:pt x="394" y="409"/>
                </a:lnTo>
                <a:lnTo>
                  <a:pt x="357" y="412"/>
                </a:lnTo>
                <a:lnTo>
                  <a:pt x="326" y="416"/>
                </a:lnTo>
                <a:lnTo>
                  <a:pt x="299" y="420"/>
                </a:lnTo>
                <a:lnTo>
                  <a:pt x="277" y="422"/>
                </a:lnTo>
                <a:lnTo>
                  <a:pt x="269" y="422"/>
                </a:lnTo>
                <a:lnTo>
                  <a:pt x="261" y="421"/>
                </a:lnTo>
                <a:lnTo>
                  <a:pt x="254" y="420"/>
                </a:lnTo>
                <a:lnTo>
                  <a:pt x="249" y="418"/>
                </a:lnTo>
                <a:lnTo>
                  <a:pt x="244" y="415"/>
                </a:lnTo>
                <a:lnTo>
                  <a:pt x="242" y="410"/>
                </a:lnTo>
                <a:lnTo>
                  <a:pt x="240" y="404"/>
                </a:lnTo>
                <a:lnTo>
                  <a:pt x="238" y="396"/>
                </a:lnTo>
                <a:lnTo>
                  <a:pt x="237" y="385"/>
                </a:lnTo>
                <a:lnTo>
                  <a:pt x="234" y="371"/>
                </a:lnTo>
                <a:lnTo>
                  <a:pt x="229" y="355"/>
                </a:lnTo>
                <a:lnTo>
                  <a:pt x="223" y="337"/>
                </a:lnTo>
                <a:lnTo>
                  <a:pt x="206" y="296"/>
                </a:lnTo>
                <a:lnTo>
                  <a:pt x="186" y="251"/>
                </a:lnTo>
                <a:lnTo>
                  <a:pt x="167" y="206"/>
                </a:lnTo>
                <a:lnTo>
                  <a:pt x="149" y="162"/>
                </a:lnTo>
                <a:lnTo>
                  <a:pt x="142" y="142"/>
                </a:lnTo>
                <a:lnTo>
                  <a:pt x="135" y="123"/>
                </a:lnTo>
                <a:lnTo>
                  <a:pt x="131" y="107"/>
                </a:lnTo>
                <a:lnTo>
                  <a:pt x="129" y="92"/>
                </a:lnTo>
                <a:lnTo>
                  <a:pt x="125" y="92"/>
                </a:lnTo>
                <a:lnTo>
                  <a:pt x="113" y="93"/>
                </a:lnTo>
                <a:lnTo>
                  <a:pt x="97" y="94"/>
                </a:lnTo>
                <a:lnTo>
                  <a:pt x="77" y="95"/>
                </a:lnTo>
                <a:lnTo>
                  <a:pt x="55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1" y="111"/>
                </a:lnTo>
                <a:lnTo>
                  <a:pt x="4" y="124"/>
                </a:lnTo>
                <a:lnTo>
                  <a:pt x="7" y="137"/>
                </a:lnTo>
                <a:lnTo>
                  <a:pt x="10" y="150"/>
                </a:lnTo>
                <a:lnTo>
                  <a:pt x="20" y="175"/>
                </a:lnTo>
                <a:lnTo>
                  <a:pt x="31" y="201"/>
                </a:lnTo>
                <a:lnTo>
                  <a:pt x="45" y="228"/>
                </a:lnTo>
                <a:lnTo>
                  <a:pt x="59" y="254"/>
                </a:lnTo>
                <a:lnTo>
                  <a:pt x="74" y="280"/>
                </a:lnTo>
                <a:lnTo>
                  <a:pt x="90" y="307"/>
                </a:lnTo>
                <a:lnTo>
                  <a:pt x="106" y="333"/>
                </a:lnTo>
                <a:lnTo>
                  <a:pt x="121" y="359"/>
                </a:lnTo>
                <a:lnTo>
                  <a:pt x="135" y="386"/>
                </a:lnTo>
                <a:lnTo>
                  <a:pt x="149" y="412"/>
                </a:lnTo>
                <a:lnTo>
                  <a:pt x="161" y="439"/>
                </a:lnTo>
                <a:lnTo>
                  <a:pt x="170" y="466"/>
                </a:lnTo>
                <a:lnTo>
                  <a:pt x="173" y="479"/>
                </a:lnTo>
                <a:lnTo>
                  <a:pt x="176" y="492"/>
                </a:lnTo>
                <a:lnTo>
                  <a:pt x="179" y="506"/>
                </a:lnTo>
                <a:lnTo>
                  <a:pt x="181" y="519"/>
                </a:lnTo>
                <a:lnTo>
                  <a:pt x="200" y="519"/>
                </a:lnTo>
                <a:lnTo>
                  <a:pt x="220" y="519"/>
                </a:lnTo>
                <a:lnTo>
                  <a:pt x="249" y="513"/>
                </a:lnTo>
                <a:lnTo>
                  <a:pt x="282" y="508"/>
                </a:lnTo>
                <a:lnTo>
                  <a:pt x="317" y="504"/>
                </a:lnTo>
                <a:lnTo>
                  <a:pt x="354" y="499"/>
                </a:lnTo>
                <a:lnTo>
                  <a:pt x="391" y="494"/>
                </a:lnTo>
                <a:lnTo>
                  <a:pt x="426" y="489"/>
                </a:lnTo>
                <a:lnTo>
                  <a:pt x="442" y="486"/>
                </a:lnTo>
                <a:lnTo>
                  <a:pt x="457" y="483"/>
                </a:lnTo>
                <a:lnTo>
                  <a:pt x="472" y="478"/>
                </a:lnTo>
                <a:lnTo>
                  <a:pt x="484" y="474"/>
                </a:lnTo>
                <a:lnTo>
                  <a:pt x="499" y="476"/>
                </a:lnTo>
                <a:lnTo>
                  <a:pt x="519" y="477"/>
                </a:lnTo>
                <a:lnTo>
                  <a:pt x="541" y="477"/>
                </a:lnTo>
                <a:lnTo>
                  <a:pt x="566" y="476"/>
                </a:lnTo>
                <a:lnTo>
                  <a:pt x="621" y="472"/>
                </a:lnTo>
                <a:lnTo>
                  <a:pt x="681" y="467"/>
                </a:lnTo>
                <a:lnTo>
                  <a:pt x="741" y="459"/>
                </a:lnTo>
                <a:lnTo>
                  <a:pt x="797" y="451"/>
                </a:lnTo>
                <a:lnTo>
                  <a:pt x="844" y="443"/>
                </a:lnTo>
                <a:lnTo>
                  <a:pt x="879" y="435"/>
                </a:lnTo>
                <a:lnTo>
                  <a:pt x="887" y="432"/>
                </a:lnTo>
                <a:lnTo>
                  <a:pt x="894" y="429"/>
                </a:lnTo>
                <a:lnTo>
                  <a:pt x="900" y="426"/>
                </a:lnTo>
                <a:lnTo>
                  <a:pt x="905" y="420"/>
                </a:lnTo>
                <a:lnTo>
                  <a:pt x="908" y="416"/>
                </a:lnTo>
                <a:lnTo>
                  <a:pt x="911" y="411"/>
                </a:lnTo>
                <a:lnTo>
                  <a:pt x="912" y="406"/>
                </a:lnTo>
                <a:lnTo>
                  <a:pt x="913" y="399"/>
                </a:lnTo>
                <a:lnTo>
                  <a:pt x="912" y="393"/>
                </a:lnTo>
                <a:lnTo>
                  <a:pt x="911" y="387"/>
                </a:lnTo>
                <a:lnTo>
                  <a:pt x="910" y="379"/>
                </a:lnTo>
                <a:lnTo>
                  <a:pt x="907" y="373"/>
                </a:lnTo>
                <a:lnTo>
                  <a:pt x="901" y="358"/>
                </a:lnTo>
                <a:lnTo>
                  <a:pt x="892" y="344"/>
                </a:lnTo>
                <a:lnTo>
                  <a:pt x="882" y="329"/>
                </a:lnTo>
                <a:lnTo>
                  <a:pt x="871" y="314"/>
                </a:lnTo>
                <a:lnTo>
                  <a:pt x="860" y="300"/>
                </a:lnTo>
                <a:lnTo>
                  <a:pt x="848" y="287"/>
                </a:lnTo>
                <a:lnTo>
                  <a:pt x="828" y="263"/>
                </a:lnTo>
                <a:lnTo>
                  <a:pt x="814" y="248"/>
                </a:lnTo>
                <a:lnTo>
                  <a:pt x="800" y="233"/>
                </a:lnTo>
                <a:lnTo>
                  <a:pt x="786" y="218"/>
                </a:lnTo>
                <a:lnTo>
                  <a:pt x="774" y="203"/>
                </a:lnTo>
                <a:lnTo>
                  <a:pt x="762" y="188"/>
                </a:lnTo>
                <a:lnTo>
                  <a:pt x="738" y="158"/>
                </a:lnTo>
                <a:lnTo>
                  <a:pt x="716" y="129"/>
                </a:lnTo>
                <a:lnTo>
                  <a:pt x="692" y="99"/>
                </a:lnTo>
                <a:lnTo>
                  <a:pt x="666" y="70"/>
                </a:lnTo>
                <a:lnTo>
                  <a:pt x="653" y="56"/>
                </a:lnTo>
                <a:lnTo>
                  <a:pt x="639" y="41"/>
                </a:lnTo>
                <a:lnTo>
                  <a:pt x="623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83520" y="3138480"/>
            <a:ext cx="15840" cy="11160"/>
          </a:xfrm>
          <a:custGeom>
            <a:avLst/>
            <a:gdLst/>
            <a:ahLst/>
            <a:rect l="l" t="t" r="r" b="b"/>
            <a:pathLst>
              <a:path w="906" h="517">
                <a:moveTo>
                  <a:pt x="595" y="6"/>
                </a:moveTo>
                <a:lnTo>
                  <a:pt x="593" y="4"/>
                </a:lnTo>
                <a:lnTo>
                  <a:pt x="586" y="3"/>
                </a:lnTo>
                <a:lnTo>
                  <a:pt x="576" y="3"/>
                </a:lnTo>
                <a:lnTo>
                  <a:pt x="565" y="3"/>
                </a:lnTo>
                <a:lnTo>
                  <a:pt x="552" y="3"/>
                </a:lnTo>
                <a:lnTo>
                  <a:pt x="540" y="2"/>
                </a:lnTo>
                <a:lnTo>
                  <a:pt x="531" y="1"/>
                </a:lnTo>
                <a:lnTo>
                  <a:pt x="524" y="0"/>
                </a:lnTo>
                <a:lnTo>
                  <a:pt x="496" y="7"/>
                </a:lnTo>
                <a:lnTo>
                  <a:pt x="459" y="16"/>
                </a:lnTo>
                <a:lnTo>
                  <a:pt x="417" y="24"/>
                </a:lnTo>
                <a:lnTo>
                  <a:pt x="370" y="32"/>
                </a:lnTo>
                <a:lnTo>
                  <a:pt x="324" y="40"/>
                </a:lnTo>
                <a:lnTo>
                  <a:pt x="279" y="46"/>
                </a:lnTo>
                <a:lnTo>
                  <a:pt x="239" y="49"/>
                </a:lnTo>
                <a:lnTo>
                  <a:pt x="207" y="51"/>
                </a:lnTo>
                <a:lnTo>
                  <a:pt x="202" y="51"/>
                </a:lnTo>
                <a:lnTo>
                  <a:pt x="197" y="52"/>
                </a:lnTo>
                <a:lnTo>
                  <a:pt x="191" y="53"/>
                </a:lnTo>
                <a:lnTo>
                  <a:pt x="188" y="56"/>
                </a:lnTo>
                <a:lnTo>
                  <a:pt x="184" y="58"/>
                </a:lnTo>
                <a:lnTo>
                  <a:pt x="181" y="60"/>
                </a:lnTo>
                <a:lnTo>
                  <a:pt x="179" y="63"/>
                </a:lnTo>
                <a:lnTo>
                  <a:pt x="177" y="66"/>
                </a:lnTo>
                <a:lnTo>
                  <a:pt x="176" y="70"/>
                </a:lnTo>
                <a:lnTo>
                  <a:pt x="175" y="73"/>
                </a:lnTo>
                <a:lnTo>
                  <a:pt x="175" y="78"/>
                </a:lnTo>
                <a:lnTo>
                  <a:pt x="175" y="82"/>
                </a:lnTo>
                <a:lnTo>
                  <a:pt x="177" y="90"/>
                </a:lnTo>
                <a:lnTo>
                  <a:pt x="180" y="99"/>
                </a:lnTo>
                <a:lnTo>
                  <a:pt x="185" y="107"/>
                </a:lnTo>
                <a:lnTo>
                  <a:pt x="191" y="116"/>
                </a:lnTo>
                <a:lnTo>
                  <a:pt x="200" y="124"/>
                </a:lnTo>
                <a:lnTo>
                  <a:pt x="209" y="130"/>
                </a:lnTo>
                <a:lnTo>
                  <a:pt x="220" y="136"/>
                </a:lnTo>
                <a:lnTo>
                  <a:pt x="231" y="140"/>
                </a:lnTo>
                <a:lnTo>
                  <a:pt x="239" y="141"/>
                </a:lnTo>
                <a:lnTo>
                  <a:pt x="245" y="142"/>
                </a:lnTo>
                <a:lnTo>
                  <a:pt x="251" y="142"/>
                </a:lnTo>
                <a:lnTo>
                  <a:pt x="259" y="142"/>
                </a:lnTo>
                <a:lnTo>
                  <a:pt x="281" y="139"/>
                </a:lnTo>
                <a:lnTo>
                  <a:pt x="305" y="133"/>
                </a:lnTo>
                <a:lnTo>
                  <a:pt x="331" y="128"/>
                </a:lnTo>
                <a:lnTo>
                  <a:pt x="358" y="121"/>
                </a:lnTo>
                <a:lnTo>
                  <a:pt x="385" y="113"/>
                </a:lnTo>
                <a:lnTo>
                  <a:pt x="411" y="105"/>
                </a:lnTo>
                <a:lnTo>
                  <a:pt x="433" y="98"/>
                </a:lnTo>
                <a:lnTo>
                  <a:pt x="453" y="90"/>
                </a:lnTo>
                <a:lnTo>
                  <a:pt x="488" y="93"/>
                </a:lnTo>
                <a:lnTo>
                  <a:pt x="515" y="96"/>
                </a:lnTo>
                <a:lnTo>
                  <a:pt x="537" y="96"/>
                </a:lnTo>
                <a:lnTo>
                  <a:pt x="553" y="97"/>
                </a:lnTo>
                <a:lnTo>
                  <a:pt x="559" y="98"/>
                </a:lnTo>
                <a:lnTo>
                  <a:pt x="563" y="99"/>
                </a:lnTo>
                <a:lnTo>
                  <a:pt x="568" y="101"/>
                </a:lnTo>
                <a:lnTo>
                  <a:pt x="571" y="103"/>
                </a:lnTo>
                <a:lnTo>
                  <a:pt x="573" y="106"/>
                </a:lnTo>
                <a:lnTo>
                  <a:pt x="575" y="110"/>
                </a:lnTo>
                <a:lnTo>
                  <a:pt x="575" y="116"/>
                </a:lnTo>
                <a:lnTo>
                  <a:pt x="576" y="122"/>
                </a:lnTo>
                <a:lnTo>
                  <a:pt x="577" y="132"/>
                </a:lnTo>
                <a:lnTo>
                  <a:pt x="580" y="144"/>
                </a:lnTo>
                <a:lnTo>
                  <a:pt x="586" y="157"/>
                </a:lnTo>
                <a:lnTo>
                  <a:pt x="592" y="170"/>
                </a:lnTo>
                <a:lnTo>
                  <a:pt x="610" y="199"/>
                </a:lnTo>
                <a:lnTo>
                  <a:pt x="630" y="228"/>
                </a:lnTo>
                <a:lnTo>
                  <a:pt x="651" y="258"/>
                </a:lnTo>
                <a:lnTo>
                  <a:pt x="671" y="285"/>
                </a:lnTo>
                <a:lnTo>
                  <a:pt x="680" y="298"/>
                </a:lnTo>
                <a:lnTo>
                  <a:pt x="688" y="309"/>
                </a:lnTo>
                <a:lnTo>
                  <a:pt x="694" y="320"/>
                </a:lnTo>
                <a:lnTo>
                  <a:pt x="698" y="329"/>
                </a:lnTo>
                <a:lnTo>
                  <a:pt x="701" y="340"/>
                </a:lnTo>
                <a:lnTo>
                  <a:pt x="706" y="348"/>
                </a:lnTo>
                <a:lnTo>
                  <a:pt x="712" y="357"/>
                </a:lnTo>
                <a:lnTo>
                  <a:pt x="717" y="363"/>
                </a:lnTo>
                <a:lnTo>
                  <a:pt x="722" y="369"/>
                </a:lnTo>
                <a:lnTo>
                  <a:pt x="725" y="374"/>
                </a:lnTo>
                <a:lnTo>
                  <a:pt x="729" y="378"/>
                </a:lnTo>
                <a:lnTo>
                  <a:pt x="729" y="381"/>
                </a:lnTo>
                <a:lnTo>
                  <a:pt x="729" y="382"/>
                </a:lnTo>
                <a:lnTo>
                  <a:pt x="727" y="383"/>
                </a:lnTo>
                <a:lnTo>
                  <a:pt x="725" y="384"/>
                </a:lnTo>
                <a:lnTo>
                  <a:pt x="722" y="385"/>
                </a:lnTo>
                <a:lnTo>
                  <a:pt x="713" y="386"/>
                </a:lnTo>
                <a:lnTo>
                  <a:pt x="700" y="387"/>
                </a:lnTo>
                <a:lnTo>
                  <a:pt x="659" y="387"/>
                </a:lnTo>
                <a:lnTo>
                  <a:pt x="595" y="387"/>
                </a:lnTo>
                <a:lnTo>
                  <a:pt x="575" y="388"/>
                </a:lnTo>
                <a:lnTo>
                  <a:pt x="550" y="388"/>
                </a:lnTo>
                <a:lnTo>
                  <a:pt x="521" y="388"/>
                </a:lnTo>
                <a:lnTo>
                  <a:pt x="492" y="390"/>
                </a:lnTo>
                <a:lnTo>
                  <a:pt x="462" y="393"/>
                </a:lnTo>
                <a:lnTo>
                  <a:pt x="433" y="396"/>
                </a:lnTo>
                <a:lnTo>
                  <a:pt x="421" y="398"/>
                </a:lnTo>
                <a:lnTo>
                  <a:pt x="408" y="401"/>
                </a:lnTo>
                <a:lnTo>
                  <a:pt x="397" y="404"/>
                </a:lnTo>
                <a:lnTo>
                  <a:pt x="388" y="407"/>
                </a:lnTo>
                <a:lnTo>
                  <a:pt x="354" y="410"/>
                </a:lnTo>
                <a:lnTo>
                  <a:pt x="324" y="415"/>
                </a:lnTo>
                <a:lnTo>
                  <a:pt x="299" y="418"/>
                </a:lnTo>
                <a:lnTo>
                  <a:pt x="278" y="420"/>
                </a:lnTo>
                <a:lnTo>
                  <a:pt x="269" y="421"/>
                </a:lnTo>
                <a:lnTo>
                  <a:pt x="261" y="420"/>
                </a:lnTo>
                <a:lnTo>
                  <a:pt x="254" y="419"/>
                </a:lnTo>
                <a:lnTo>
                  <a:pt x="249" y="417"/>
                </a:lnTo>
                <a:lnTo>
                  <a:pt x="245" y="413"/>
                </a:lnTo>
                <a:lnTo>
                  <a:pt x="242" y="408"/>
                </a:lnTo>
                <a:lnTo>
                  <a:pt x="240" y="402"/>
                </a:lnTo>
                <a:lnTo>
                  <a:pt x="240" y="395"/>
                </a:lnTo>
                <a:lnTo>
                  <a:pt x="239" y="383"/>
                </a:lnTo>
                <a:lnTo>
                  <a:pt x="234" y="369"/>
                </a:lnTo>
                <a:lnTo>
                  <a:pt x="229" y="354"/>
                </a:lnTo>
                <a:lnTo>
                  <a:pt x="222" y="336"/>
                </a:lnTo>
                <a:lnTo>
                  <a:pt x="204" y="296"/>
                </a:lnTo>
                <a:lnTo>
                  <a:pt x="184" y="253"/>
                </a:lnTo>
                <a:lnTo>
                  <a:pt x="163" y="208"/>
                </a:lnTo>
                <a:lnTo>
                  <a:pt x="144" y="166"/>
                </a:lnTo>
                <a:lnTo>
                  <a:pt x="137" y="146"/>
                </a:lnTo>
                <a:lnTo>
                  <a:pt x="130" y="127"/>
                </a:lnTo>
                <a:lnTo>
                  <a:pt x="125" y="111"/>
                </a:lnTo>
                <a:lnTo>
                  <a:pt x="123" y="97"/>
                </a:lnTo>
                <a:lnTo>
                  <a:pt x="119" y="97"/>
                </a:lnTo>
                <a:lnTo>
                  <a:pt x="108" y="97"/>
                </a:lnTo>
                <a:lnTo>
                  <a:pt x="93" y="97"/>
                </a:lnTo>
                <a:lnTo>
                  <a:pt x="74" y="97"/>
                </a:lnTo>
                <a:lnTo>
                  <a:pt x="54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0"/>
                </a:lnTo>
                <a:lnTo>
                  <a:pt x="4" y="123"/>
                </a:lnTo>
                <a:lnTo>
                  <a:pt x="7" y="137"/>
                </a:lnTo>
                <a:lnTo>
                  <a:pt x="12" y="149"/>
                </a:lnTo>
                <a:lnTo>
                  <a:pt x="21" y="176"/>
                </a:lnTo>
                <a:lnTo>
                  <a:pt x="33" y="202"/>
                </a:lnTo>
                <a:lnTo>
                  <a:pt x="45" y="228"/>
                </a:lnTo>
                <a:lnTo>
                  <a:pt x="60" y="255"/>
                </a:lnTo>
                <a:lnTo>
                  <a:pt x="75" y="281"/>
                </a:lnTo>
                <a:lnTo>
                  <a:pt x="90" y="307"/>
                </a:lnTo>
                <a:lnTo>
                  <a:pt x="105" y="333"/>
                </a:lnTo>
                <a:lnTo>
                  <a:pt x="120" y="359"/>
                </a:lnTo>
                <a:lnTo>
                  <a:pt x="135" y="385"/>
                </a:lnTo>
                <a:lnTo>
                  <a:pt x="147" y="412"/>
                </a:lnTo>
                <a:lnTo>
                  <a:pt x="158" y="438"/>
                </a:lnTo>
                <a:lnTo>
                  <a:pt x="166" y="464"/>
                </a:lnTo>
                <a:lnTo>
                  <a:pt x="169" y="478"/>
                </a:lnTo>
                <a:lnTo>
                  <a:pt x="172" y="491"/>
                </a:lnTo>
                <a:lnTo>
                  <a:pt x="173" y="504"/>
                </a:lnTo>
                <a:lnTo>
                  <a:pt x="175" y="517"/>
                </a:lnTo>
                <a:lnTo>
                  <a:pt x="194" y="517"/>
                </a:lnTo>
                <a:lnTo>
                  <a:pt x="213" y="517"/>
                </a:lnTo>
                <a:lnTo>
                  <a:pt x="243" y="511"/>
                </a:lnTo>
                <a:lnTo>
                  <a:pt x="276" y="505"/>
                </a:lnTo>
                <a:lnTo>
                  <a:pt x="311" y="501"/>
                </a:lnTo>
                <a:lnTo>
                  <a:pt x="349" y="497"/>
                </a:lnTo>
                <a:lnTo>
                  <a:pt x="385" y="493"/>
                </a:lnTo>
                <a:lnTo>
                  <a:pt x="419" y="487"/>
                </a:lnTo>
                <a:lnTo>
                  <a:pt x="436" y="484"/>
                </a:lnTo>
                <a:lnTo>
                  <a:pt x="452" y="481"/>
                </a:lnTo>
                <a:lnTo>
                  <a:pt x="466" y="477"/>
                </a:lnTo>
                <a:lnTo>
                  <a:pt x="478" y="472"/>
                </a:lnTo>
                <a:lnTo>
                  <a:pt x="493" y="474"/>
                </a:lnTo>
                <a:lnTo>
                  <a:pt x="511" y="475"/>
                </a:lnTo>
                <a:lnTo>
                  <a:pt x="533" y="475"/>
                </a:lnTo>
                <a:lnTo>
                  <a:pt x="557" y="474"/>
                </a:lnTo>
                <a:lnTo>
                  <a:pt x="613" y="470"/>
                </a:lnTo>
                <a:lnTo>
                  <a:pt x="673" y="464"/>
                </a:lnTo>
                <a:lnTo>
                  <a:pt x="734" y="458"/>
                </a:lnTo>
                <a:lnTo>
                  <a:pt x="791" y="449"/>
                </a:lnTo>
                <a:lnTo>
                  <a:pt x="838" y="441"/>
                </a:lnTo>
                <a:lnTo>
                  <a:pt x="873" y="434"/>
                </a:lnTo>
                <a:lnTo>
                  <a:pt x="881" y="432"/>
                </a:lnTo>
                <a:lnTo>
                  <a:pt x="888" y="428"/>
                </a:lnTo>
                <a:lnTo>
                  <a:pt x="894" y="425"/>
                </a:lnTo>
                <a:lnTo>
                  <a:pt x="899" y="421"/>
                </a:lnTo>
                <a:lnTo>
                  <a:pt x="902" y="417"/>
                </a:lnTo>
                <a:lnTo>
                  <a:pt x="904" y="412"/>
                </a:lnTo>
                <a:lnTo>
                  <a:pt x="906" y="406"/>
                </a:lnTo>
                <a:lnTo>
                  <a:pt x="906" y="400"/>
                </a:lnTo>
                <a:lnTo>
                  <a:pt x="906" y="394"/>
                </a:lnTo>
                <a:lnTo>
                  <a:pt x="904" y="387"/>
                </a:lnTo>
                <a:lnTo>
                  <a:pt x="902" y="381"/>
                </a:lnTo>
                <a:lnTo>
                  <a:pt x="900" y="374"/>
                </a:lnTo>
                <a:lnTo>
                  <a:pt x="893" y="359"/>
                </a:lnTo>
                <a:lnTo>
                  <a:pt x="883" y="344"/>
                </a:lnTo>
                <a:lnTo>
                  <a:pt x="873" y="329"/>
                </a:lnTo>
                <a:lnTo>
                  <a:pt x="861" y="314"/>
                </a:lnTo>
                <a:lnTo>
                  <a:pt x="849" y="300"/>
                </a:lnTo>
                <a:lnTo>
                  <a:pt x="838" y="286"/>
                </a:lnTo>
                <a:lnTo>
                  <a:pt x="816" y="262"/>
                </a:lnTo>
                <a:lnTo>
                  <a:pt x="802" y="245"/>
                </a:lnTo>
                <a:lnTo>
                  <a:pt x="776" y="216"/>
                </a:lnTo>
                <a:lnTo>
                  <a:pt x="752" y="185"/>
                </a:lnTo>
                <a:lnTo>
                  <a:pt x="729" y="155"/>
                </a:lnTo>
                <a:lnTo>
                  <a:pt x="705" y="123"/>
                </a:lnTo>
                <a:lnTo>
                  <a:pt x="681" y="92"/>
                </a:lnTo>
                <a:lnTo>
                  <a:pt x="655" y="62"/>
                </a:lnTo>
                <a:lnTo>
                  <a:pt x="641" y="48"/>
                </a:lnTo>
                <a:lnTo>
                  <a:pt x="627" y="33"/>
                </a:lnTo>
                <a:lnTo>
                  <a:pt x="612" y="20"/>
                </a:lnTo>
                <a:lnTo>
                  <a:pt x="59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302600" y="3133800"/>
            <a:ext cx="14040" cy="12600"/>
          </a:xfrm>
          <a:custGeom>
            <a:avLst/>
            <a:gdLst/>
            <a:ahLst/>
            <a:rect l="l" t="t" r="r" b="b"/>
            <a:pathLst>
              <a:path w="917" h="520">
                <a:moveTo>
                  <a:pt x="608" y="9"/>
                </a:moveTo>
                <a:lnTo>
                  <a:pt x="608" y="6"/>
                </a:lnTo>
                <a:lnTo>
                  <a:pt x="606" y="5"/>
                </a:lnTo>
                <a:lnTo>
                  <a:pt x="603" y="3"/>
                </a:lnTo>
                <a:lnTo>
                  <a:pt x="599" y="2"/>
                </a:lnTo>
                <a:lnTo>
                  <a:pt x="589" y="0"/>
                </a:lnTo>
                <a:lnTo>
                  <a:pt x="578" y="0"/>
                </a:lnTo>
                <a:lnTo>
                  <a:pt x="565" y="0"/>
                </a:lnTo>
                <a:lnTo>
                  <a:pt x="553" y="2"/>
                </a:lnTo>
                <a:lnTo>
                  <a:pt x="544" y="2"/>
                </a:lnTo>
                <a:lnTo>
                  <a:pt x="538" y="2"/>
                </a:lnTo>
                <a:lnTo>
                  <a:pt x="509" y="8"/>
                </a:lnTo>
                <a:lnTo>
                  <a:pt x="471" y="14"/>
                </a:lnTo>
                <a:lnTo>
                  <a:pt x="426" y="22"/>
                </a:lnTo>
                <a:lnTo>
                  <a:pt x="378" y="30"/>
                </a:lnTo>
                <a:lnTo>
                  <a:pt x="329" y="36"/>
                </a:lnTo>
                <a:lnTo>
                  <a:pt x="283" y="42"/>
                </a:lnTo>
                <a:lnTo>
                  <a:pt x="244" y="46"/>
                </a:lnTo>
                <a:lnTo>
                  <a:pt x="214" y="47"/>
                </a:lnTo>
                <a:lnTo>
                  <a:pt x="209" y="48"/>
                </a:lnTo>
                <a:lnTo>
                  <a:pt x="203" y="48"/>
                </a:lnTo>
                <a:lnTo>
                  <a:pt x="198" y="50"/>
                </a:lnTo>
                <a:lnTo>
                  <a:pt x="195" y="51"/>
                </a:lnTo>
                <a:lnTo>
                  <a:pt x="191" y="54"/>
                </a:lnTo>
                <a:lnTo>
                  <a:pt x="189" y="56"/>
                </a:lnTo>
                <a:lnTo>
                  <a:pt x="185" y="59"/>
                </a:lnTo>
                <a:lnTo>
                  <a:pt x="184" y="63"/>
                </a:lnTo>
                <a:lnTo>
                  <a:pt x="182" y="66"/>
                </a:lnTo>
                <a:lnTo>
                  <a:pt x="182" y="70"/>
                </a:lnTo>
                <a:lnTo>
                  <a:pt x="181" y="73"/>
                </a:lnTo>
                <a:lnTo>
                  <a:pt x="181" y="77"/>
                </a:lnTo>
                <a:lnTo>
                  <a:pt x="183" y="86"/>
                </a:lnTo>
                <a:lnTo>
                  <a:pt x="186" y="95"/>
                </a:lnTo>
                <a:lnTo>
                  <a:pt x="192" y="104"/>
                </a:lnTo>
                <a:lnTo>
                  <a:pt x="198" y="112"/>
                </a:lnTo>
                <a:lnTo>
                  <a:pt x="206" y="119"/>
                </a:lnTo>
                <a:lnTo>
                  <a:pt x="216" y="127"/>
                </a:lnTo>
                <a:lnTo>
                  <a:pt x="226" y="132"/>
                </a:lnTo>
                <a:lnTo>
                  <a:pt x="239" y="136"/>
                </a:lnTo>
                <a:lnTo>
                  <a:pt x="245" y="137"/>
                </a:lnTo>
                <a:lnTo>
                  <a:pt x="252" y="138"/>
                </a:lnTo>
                <a:lnTo>
                  <a:pt x="259" y="138"/>
                </a:lnTo>
                <a:lnTo>
                  <a:pt x="265" y="137"/>
                </a:lnTo>
                <a:lnTo>
                  <a:pt x="287" y="134"/>
                </a:lnTo>
                <a:lnTo>
                  <a:pt x="312" y="130"/>
                </a:lnTo>
                <a:lnTo>
                  <a:pt x="338" y="124"/>
                </a:lnTo>
                <a:lnTo>
                  <a:pt x="366" y="117"/>
                </a:lnTo>
                <a:lnTo>
                  <a:pt x="394" y="111"/>
                </a:lnTo>
                <a:lnTo>
                  <a:pt x="420" y="105"/>
                </a:lnTo>
                <a:lnTo>
                  <a:pt x="445" y="98"/>
                </a:lnTo>
                <a:lnTo>
                  <a:pt x="466" y="92"/>
                </a:lnTo>
                <a:lnTo>
                  <a:pt x="499" y="94"/>
                </a:lnTo>
                <a:lnTo>
                  <a:pt x="526" y="94"/>
                </a:lnTo>
                <a:lnTo>
                  <a:pt x="547" y="94"/>
                </a:lnTo>
                <a:lnTo>
                  <a:pt x="564" y="94"/>
                </a:lnTo>
                <a:lnTo>
                  <a:pt x="570" y="95"/>
                </a:lnTo>
                <a:lnTo>
                  <a:pt x="575" y="96"/>
                </a:lnTo>
                <a:lnTo>
                  <a:pt x="580" y="98"/>
                </a:lnTo>
                <a:lnTo>
                  <a:pt x="583" y="102"/>
                </a:lnTo>
                <a:lnTo>
                  <a:pt x="586" y="106"/>
                </a:lnTo>
                <a:lnTo>
                  <a:pt x="588" y="111"/>
                </a:lnTo>
                <a:lnTo>
                  <a:pt x="588" y="117"/>
                </a:lnTo>
                <a:lnTo>
                  <a:pt x="589" y="125"/>
                </a:lnTo>
                <a:lnTo>
                  <a:pt x="590" y="134"/>
                </a:lnTo>
                <a:lnTo>
                  <a:pt x="593" y="145"/>
                </a:lnTo>
                <a:lnTo>
                  <a:pt x="599" y="156"/>
                </a:lnTo>
                <a:lnTo>
                  <a:pt x="605" y="169"/>
                </a:lnTo>
                <a:lnTo>
                  <a:pt x="623" y="196"/>
                </a:lnTo>
                <a:lnTo>
                  <a:pt x="642" y="225"/>
                </a:lnTo>
                <a:lnTo>
                  <a:pt x="663" y="254"/>
                </a:lnTo>
                <a:lnTo>
                  <a:pt x="682" y="282"/>
                </a:lnTo>
                <a:lnTo>
                  <a:pt x="690" y="294"/>
                </a:lnTo>
                <a:lnTo>
                  <a:pt x="696" y="306"/>
                </a:lnTo>
                <a:lnTo>
                  <a:pt x="702" y="316"/>
                </a:lnTo>
                <a:lnTo>
                  <a:pt x="705" y="326"/>
                </a:lnTo>
                <a:lnTo>
                  <a:pt x="710" y="336"/>
                </a:lnTo>
                <a:lnTo>
                  <a:pt x="715" y="345"/>
                </a:lnTo>
                <a:lnTo>
                  <a:pt x="722" y="352"/>
                </a:lnTo>
                <a:lnTo>
                  <a:pt x="727" y="360"/>
                </a:lnTo>
                <a:lnTo>
                  <a:pt x="733" y="365"/>
                </a:lnTo>
                <a:lnTo>
                  <a:pt x="737" y="370"/>
                </a:lnTo>
                <a:lnTo>
                  <a:pt x="740" y="373"/>
                </a:lnTo>
                <a:lnTo>
                  <a:pt x="741" y="376"/>
                </a:lnTo>
                <a:lnTo>
                  <a:pt x="740" y="377"/>
                </a:lnTo>
                <a:lnTo>
                  <a:pt x="739" y="380"/>
                </a:lnTo>
                <a:lnTo>
                  <a:pt x="737" y="380"/>
                </a:lnTo>
                <a:lnTo>
                  <a:pt x="735" y="381"/>
                </a:lnTo>
                <a:lnTo>
                  <a:pt x="726" y="382"/>
                </a:lnTo>
                <a:lnTo>
                  <a:pt x="713" y="383"/>
                </a:lnTo>
                <a:lnTo>
                  <a:pt x="672" y="384"/>
                </a:lnTo>
                <a:lnTo>
                  <a:pt x="608" y="384"/>
                </a:lnTo>
                <a:lnTo>
                  <a:pt x="588" y="384"/>
                </a:lnTo>
                <a:lnTo>
                  <a:pt x="563" y="384"/>
                </a:lnTo>
                <a:lnTo>
                  <a:pt x="534" y="385"/>
                </a:lnTo>
                <a:lnTo>
                  <a:pt x="504" y="386"/>
                </a:lnTo>
                <a:lnTo>
                  <a:pt x="473" y="389"/>
                </a:lnTo>
                <a:lnTo>
                  <a:pt x="444" y="392"/>
                </a:lnTo>
                <a:lnTo>
                  <a:pt x="430" y="394"/>
                </a:lnTo>
                <a:lnTo>
                  <a:pt x="417" y="396"/>
                </a:lnTo>
                <a:lnTo>
                  <a:pt x="405" y="400"/>
                </a:lnTo>
                <a:lnTo>
                  <a:pt x="395" y="404"/>
                </a:lnTo>
                <a:lnTo>
                  <a:pt x="359" y="407"/>
                </a:lnTo>
                <a:lnTo>
                  <a:pt x="328" y="410"/>
                </a:lnTo>
                <a:lnTo>
                  <a:pt x="302" y="414"/>
                </a:lnTo>
                <a:lnTo>
                  <a:pt x="282" y="418"/>
                </a:lnTo>
                <a:lnTo>
                  <a:pt x="274" y="418"/>
                </a:lnTo>
                <a:lnTo>
                  <a:pt x="266" y="418"/>
                </a:lnTo>
                <a:lnTo>
                  <a:pt x="260" y="416"/>
                </a:lnTo>
                <a:lnTo>
                  <a:pt x="255" y="415"/>
                </a:lnTo>
                <a:lnTo>
                  <a:pt x="252" y="412"/>
                </a:lnTo>
                <a:lnTo>
                  <a:pt x="248" y="409"/>
                </a:lnTo>
                <a:lnTo>
                  <a:pt x="246" y="404"/>
                </a:lnTo>
                <a:lnTo>
                  <a:pt x="246" y="396"/>
                </a:lnTo>
                <a:lnTo>
                  <a:pt x="245" y="385"/>
                </a:lnTo>
                <a:lnTo>
                  <a:pt x="241" y="370"/>
                </a:lnTo>
                <a:lnTo>
                  <a:pt x="236" y="353"/>
                </a:lnTo>
                <a:lnTo>
                  <a:pt x="230" y="334"/>
                </a:lnTo>
                <a:lnTo>
                  <a:pt x="212" y="294"/>
                </a:lnTo>
                <a:lnTo>
                  <a:pt x="191" y="250"/>
                </a:lnTo>
                <a:lnTo>
                  <a:pt x="170" y="205"/>
                </a:lnTo>
                <a:lnTo>
                  <a:pt x="151" y="162"/>
                </a:lnTo>
                <a:lnTo>
                  <a:pt x="143" y="143"/>
                </a:lnTo>
                <a:lnTo>
                  <a:pt x="137" y="124"/>
                </a:lnTo>
                <a:lnTo>
                  <a:pt x="133" y="107"/>
                </a:lnTo>
                <a:lnTo>
                  <a:pt x="130" y="92"/>
                </a:lnTo>
                <a:lnTo>
                  <a:pt x="125" y="92"/>
                </a:lnTo>
                <a:lnTo>
                  <a:pt x="114" y="92"/>
                </a:lnTo>
                <a:lnTo>
                  <a:pt x="98" y="92"/>
                </a:lnTo>
                <a:lnTo>
                  <a:pt x="77" y="92"/>
                </a:lnTo>
                <a:lnTo>
                  <a:pt x="56" y="92"/>
                </a:lnTo>
                <a:lnTo>
                  <a:pt x="35" y="92"/>
                </a:lnTo>
                <a:lnTo>
                  <a:pt x="15" y="92"/>
                </a:lnTo>
                <a:lnTo>
                  <a:pt x="0" y="92"/>
                </a:lnTo>
                <a:lnTo>
                  <a:pt x="2" y="106"/>
                </a:lnTo>
                <a:lnTo>
                  <a:pt x="5" y="119"/>
                </a:lnTo>
                <a:lnTo>
                  <a:pt x="8" y="132"/>
                </a:lnTo>
                <a:lnTo>
                  <a:pt x="12" y="146"/>
                </a:lnTo>
                <a:lnTo>
                  <a:pt x="21" y="172"/>
                </a:lnTo>
                <a:lnTo>
                  <a:pt x="33" y="198"/>
                </a:lnTo>
                <a:lnTo>
                  <a:pt x="46" y="225"/>
                </a:lnTo>
                <a:lnTo>
                  <a:pt x="60" y="251"/>
                </a:lnTo>
                <a:lnTo>
                  <a:pt x="75" y="277"/>
                </a:lnTo>
                <a:lnTo>
                  <a:pt x="91" y="303"/>
                </a:lnTo>
                <a:lnTo>
                  <a:pt x="107" y="329"/>
                </a:lnTo>
                <a:lnTo>
                  <a:pt x="122" y="355"/>
                </a:lnTo>
                <a:lnTo>
                  <a:pt x="137" y="382"/>
                </a:lnTo>
                <a:lnTo>
                  <a:pt x="150" y="408"/>
                </a:lnTo>
                <a:lnTo>
                  <a:pt x="161" y="434"/>
                </a:lnTo>
                <a:lnTo>
                  <a:pt x="171" y="461"/>
                </a:lnTo>
                <a:lnTo>
                  <a:pt x="175" y="473"/>
                </a:lnTo>
                <a:lnTo>
                  <a:pt x="178" y="487"/>
                </a:lnTo>
                <a:lnTo>
                  <a:pt x="180" y="500"/>
                </a:lnTo>
                <a:lnTo>
                  <a:pt x="182" y="513"/>
                </a:lnTo>
                <a:lnTo>
                  <a:pt x="201" y="520"/>
                </a:lnTo>
                <a:lnTo>
                  <a:pt x="220" y="513"/>
                </a:lnTo>
                <a:lnTo>
                  <a:pt x="250" y="507"/>
                </a:lnTo>
                <a:lnTo>
                  <a:pt x="283" y="502"/>
                </a:lnTo>
                <a:lnTo>
                  <a:pt x="319" y="498"/>
                </a:lnTo>
                <a:lnTo>
                  <a:pt x="356" y="493"/>
                </a:lnTo>
                <a:lnTo>
                  <a:pt x="394" y="489"/>
                </a:lnTo>
                <a:lnTo>
                  <a:pt x="429" y="484"/>
                </a:lnTo>
                <a:lnTo>
                  <a:pt x="446" y="481"/>
                </a:lnTo>
                <a:lnTo>
                  <a:pt x="463" y="476"/>
                </a:lnTo>
                <a:lnTo>
                  <a:pt x="478" y="472"/>
                </a:lnTo>
                <a:lnTo>
                  <a:pt x="492" y="468"/>
                </a:lnTo>
                <a:lnTo>
                  <a:pt x="506" y="470"/>
                </a:lnTo>
                <a:lnTo>
                  <a:pt x="525" y="471"/>
                </a:lnTo>
                <a:lnTo>
                  <a:pt x="546" y="471"/>
                </a:lnTo>
                <a:lnTo>
                  <a:pt x="571" y="470"/>
                </a:lnTo>
                <a:lnTo>
                  <a:pt x="626" y="467"/>
                </a:lnTo>
                <a:lnTo>
                  <a:pt x="687" y="461"/>
                </a:lnTo>
                <a:lnTo>
                  <a:pt x="747" y="453"/>
                </a:lnTo>
                <a:lnTo>
                  <a:pt x="804" y="445"/>
                </a:lnTo>
                <a:lnTo>
                  <a:pt x="852" y="438"/>
                </a:lnTo>
                <a:lnTo>
                  <a:pt x="887" y="429"/>
                </a:lnTo>
                <a:lnTo>
                  <a:pt x="894" y="427"/>
                </a:lnTo>
                <a:lnTo>
                  <a:pt x="900" y="424"/>
                </a:lnTo>
                <a:lnTo>
                  <a:pt x="905" y="421"/>
                </a:lnTo>
                <a:lnTo>
                  <a:pt x="910" y="416"/>
                </a:lnTo>
                <a:lnTo>
                  <a:pt x="913" y="412"/>
                </a:lnTo>
                <a:lnTo>
                  <a:pt x="915" y="408"/>
                </a:lnTo>
                <a:lnTo>
                  <a:pt x="916" y="402"/>
                </a:lnTo>
                <a:lnTo>
                  <a:pt x="917" y="396"/>
                </a:lnTo>
                <a:lnTo>
                  <a:pt x="916" y="390"/>
                </a:lnTo>
                <a:lnTo>
                  <a:pt x="915" y="384"/>
                </a:lnTo>
                <a:lnTo>
                  <a:pt x="913" y="376"/>
                </a:lnTo>
                <a:lnTo>
                  <a:pt x="910" y="370"/>
                </a:lnTo>
                <a:lnTo>
                  <a:pt x="903" y="355"/>
                </a:lnTo>
                <a:lnTo>
                  <a:pt x="894" y="341"/>
                </a:lnTo>
                <a:lnTo>
                  <a:pt x="883" y="325"/>
                </a:lnTo>
                <a:lnTo>
                  <a:pt x="873" y="310"/>
                </a:lnTo>
                <a:lnTo>
                  <a:pt x="861" y="295"/>
                </a:lnTo>
                <a:lnTo>
                  <a:pt x="850" y="282"/>
                </a:lnTo>
                <a:lnTo>
                  <a:pt x="829" y="258"/>
                </a:lnTo>
                <a:lnTo>
                  <a:pt x="815" y="242"/>
                </a:lnTo>
                <a:lnTo>
                  <a:pt x="790" y="212"/>
                </a:lnTo>
                <a:lnTo>
                  <a:pt x="766" y="183"/>
                </a:lnTo>
                <a:lnTo>
                  <a:pt x="743" y="152"/>
                </a:lnTo>
                <a:lnTo>
                  <a:pt x="718" y="123"/>
                </a:lnTo>
                <a:lnTo>
                  <a:pt x="694" y="93"/>
                </a:lnTo>
                <a:lnTo>
                  <a:pt x="669" y="64"/>
                </a:lnTo>
                <a:lnTo>
                  <a:pt x="654" y="50"/>
                </a:lnTo>
                <a:lnTo>
                  <a:pt x="641" y="35"/>
                </a:lnTo>
                <a:lnTo>
                  <a:pt x="625" y="22"/>
                </a:lnTo>
                <a:lnTo>
                  <a:pt x="608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72360" y="3154320"/>
            <a:ext cx="15840" cy="11160"/>
          </a:xfrm>
          <a:custGeom>
            <a:avLst/>
            <a:gdLst/>
            <a:ahLst/>
            <a:rect l="l" t="t" r="r" b="b"/>
            <a:pathLst>
              <a:path w="914" h="519">
                <a:moveTo>
                  <a:pt x="608" y="8"/>
                </a:moveTo>
                <a:lnTo>
                  <a:pt x="607" y="6"/>
                </a:lnTo>
                <a:lnTo>
                  <a:pt x="606" y="4"/>
                </a:lnTo>
                <a:lnTo>
                  <a:pt x="603" y="3"/>
                </a:lnTo>
                <a:lnTo>
                  <a:pt x="599" y="2"/>
                </a:lnTo>
                <a:lnTo>
                  <a:pt x="590" y="0"/>
                </a:lnTo>
                <a:lnTo>
                  <a:pt x="579" y="0"/>
                </a:lnTo>
                <a:lnTo>
                  <a:pt x="568" y="0"/>
                </a:lnTo>
                <a:lnTo>
                  <a:pt x="556" y="1"/>
                </a:lnTo>
                <a:lnTo>
                  <a:pt x="545" y="1"/>
                </a:lnTo>
                <a:lnTo>
                  <a:pt x="536" y="2"/>
                </a:lnTo>
                <a:lnTo>
                  <a:pt x="511" y="9"/>
                </a:lnTo>
                <a:lnTo>
                  <a:pt x="474" y="18"/>
                </a:lnTo>
                <a:lnTo>
                  <a:pt x="430" y="26"/>
                </a:lnTo>
                <a:lnTo>
                  <a:pt x="382" y="35"/>
                </a:lnTo>
                <a:lnTo>
                  <a:pt x="333" y="42"/>
                </a:lnTo>
                <a:lnTo>
                  <a:pt x="286" y="48"/>
                </a:lnTo>
                <a:lnTo>
                  <a:pt x="245" y="52"/>
                </a:lnTo>
                <a:lnTo>
                  <a:pt x="214" y="54"/>
                </a:lnTo>
                <a:lnTo>
                  <a:pt x="207" y="54"/>
                </a:lnTo>
                <a:lnTo>
                  <a:pt x="202" y="55"/>
                </a:lnTo>
                <a:lnTo>
                  <a:pt x="198" y="56"/>
                </a:lnTo>
                <a:lnTo>
                  <a:pt x="194" y="57"/>
                </a:lnTo>
                <a:lnTo>
                  <a:pt x="190" y="59"/>
                </a:lnTo>
                <a:lnTo>
                  <a:pt x="187" y="62"/>
                </a:lnTo>
                <a:lnTo>
                  <a:pt x="185" y="64"/>
                </a:lnTo>
                <a:lnTo>
                  <a:pt x="183" y="67"/>
                </a:lnTo>
                <a:lnTo>
                  <a:pt x="182" y="70"/>
                </a:lnTo>
                <a:lnTo>
                  <a:pt x="181" y="75"/>
                </a:lnTo>
                <a:lnTo>
                  <a:pt x="181" y="78"/>
                </a:lnTo>
                <a:lnTo>
                  <a:pt x="181" y="82"/>
                </a:lnTo>
                <a:lnTo>
                  <a:pt x="182" y="89"/>
                </a:lnTo>
                <a:lnTo>
                  <a:pt x="186" y="98"/>
                </a:lnTo>
                <a:lnTo>
                  <a:pt x="190" y="106"/>
                </a:lnTo>
                <a:lnTo>
                  <a:pt x="198" y="114"/>
                </a:lnTo>
                <a:lnTo>
                  <a:pt x="206" y="121"/>
                </a:lnTo>
                <a:lnTo>
                  <a:pt x="216" y="127"/>
                </a:lnTo>
                <a:lnTo>
                  <a:pt x="226" y="133"/>
                </a:lnTo>
                <a:lnTo>
                  <a:pt x="238" y="136"/>
                </a:lnTo>
                <a:lnTo>
                  <a:pt x="251" y="138"/>
                </a:lnTo>
                <a:lnTo>
                  <a:pt x="265" y="138"/>
                </a:lnTo>
                <a:lnTo>
                  <a:pt x="286" y="135"/>
                </a:lnTo>
                <a:lnTo>
                  <a:pt x="311" y="131"/>
                </a:lnTo>
                <a:lnTo>
                  <a:pt x="338" y="125"/>
                </a:lnTo>
                <a:lnTo>
                  <a:pt x="365" y="120"/>
                </a:lnTo>
                <a:lnTo>
                  <a:pt x="393" y="114"/>
                </a:lnTo>
                <a:lnTo>
                  <a:pt x="420" y="106"/>
                </a:lnTo>
                <a:lnTo>
                  <a:pt x="444" y="100"/>
                </a:lnTo>
                <a:lnTo>
                  <a:pt x="466" y="93"/>
                </a:lnTo>
                <a:lnTo>
                  <a:pt x="501" y="96"/>
                </a:lnTo>
                <a:lnTo>
                  <a:pt x="528" y="97"/>
                </a:lnTo>
                <a:lnTo>
                  <a:pt x="550" y="96"/>
                </a:lnTo>
                <a:lnTo>
                  <a:pt x="566" y="96"/>
                </a:lnTo>
                <a:lnTo>
                  <a:pt x="572" y="97"/>
                </a:lnTo>
                <a:lnTo>
                  <a:pt x="576" y="98"/>
                </a:lnTo>
                <a:lnTo>
                  <a:pt x="580" y="100"/>
                </a:lnTo>
                <a:lnTo>
                  <a:pt x="584" y="102"/>
                </a:lnTo>
                <a:lnTo>
                  <a:pt x="586" y="106"/>
                </a:lnTo>
                <a:lnTo>
                  <a:pt x="587" y="110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4"/>
                </a:lnTo>
                <a:lnTo>
                  <a:pt x="597" y="157"/>
                </a:lnTo>
                <a:lnTo>
                  <a:pt x="605" y="169"/>
                </a:lnTo>
                <a:lnTo>
                  <a:pt x="621" y="198"/>
                </a:lnTo>
                <a:lnTo>
                  <a:pt x="641" y="227"/>
                </a:lnTo>
                <a:lnTo>
                  <a:pt x="662" y="257"/>
                </a:lnTo>
                <a:lnTo>
                  <a:pt x="681" y="284"/>
                </a:lnTo>
                <a:lnTo>
                  <a:pt x="689" y="296"/>
                </a:lnTo>
                <a:lnTo>
                  <a:pt x="696" y="307"/>
                </a:lnTo>
                <a:lnTo>
                  <a:pt x="701" y="317"/>
                </a:lnTo>
                <a:lnTo>
                  <a:pt x="705" y="325"/>
                </a:lnTo>
                <a:lnTo>
                  <a:pt x="709" y="337"/>
                </a:lnTo>
                <a:lnTo>
                  <a:pt x="714" y="346"/>
                </a:lnTo>
                <a:lnTo>
                  <a:pt x="720" y="355"/>
                </a:lnTo>
                <a:lnTo>
                  <a:pt x="727" y="362"/>
                </a:lnTo>
                <a:lnTo>
                  <a:pt x="733" y="369"/>
                </a:lnTo>
                <a:lnTo>
                  <a:pt x="737" y="374"/>
                </a:lnTo>
                <a:lnTo>
                  <a:pt x="740" y="378"/>
                </a:lnTo>
                <a:lnTo>
                  <a:pt x="741" y="382"/>
                </a:lnTo>
                <a:lnTo>
                  <a:pt x="741" y="383"/>
                </a:lnTo>
                <a:lnTo>
                  <a:pt x="740" y="384"/>
                </a:lnTo>
                <a:lnTo>
                  <a:pt x="738" y="385"/>
                </a:lnTo>
                <a:lnTo>
                  <a:pt x="736" y="386"/>
                </a:lnTo>
                <a:lnTo>
                  <a:pt x="728" y="389"/>
                </a:lnTo>
                <a:lnTo>
                  <a:pt x="715" y="389"/>
                </a:lnTo>
                <a:lnTo>
                  <a:pt x="676" y="390"/>
                </a:lnTo>
                <a:lnTo>
                  <a:pt x="614" y="390"/>
                </a:lnTo>
                <a:lnTo>
                  <a:pt x="592" y="390"/>
                </a:lnTo>
                <a:lnTo>
                  <a:pt x="566" y="391"/>
                </a:lnTo>
                <a:lnTo>
                  <a:pt x="535" y="391"/>
                </a:lnTo>
                <a:lnTo>
                  <a:pt x="505" y="393"/>
                </a:lnTo>
                <a:lnTo>
                  <a:pt x="474" y="395"/>
                </a:lnTo>
                <a:lnTo>
                  <a:pt x="446" y="398"/>
                </a:lnTo>
                <a:lnTo>
                  <a:pt x="433" y="400"/>
                </a:lnTo>
                <a:lnTo>
                  <a:pt x="421" y="403"/>
                </a:lnTo>
                <a:lnTo>
                  <a:pt x="410" y="406"/>
                </a:lnTo>
                <a:lnTo>
                  <a:pt x="401" y="410"/>
                </a:lnTo>
                <a:lnTo>
                  <a:pt x="365" y="413"/>
                </a:lnTo>
                <a:lnTo>
                  <a:pt x="333" y="417"/>
                </a:lnTo>
                <a:lnTo>
                  <a:pt x="306" y="420"/>
                </a:lnTo>
                <a:lnTo>
                  <a:pt x="284" y="422"/>
                </a:lnTo>
                <a:lnTo>
                  <a:pt x="276" y="422"/>
                </a:lnTo>
                <a:lnTo>
                  <a:pt x="267" y="422"/>
                </a:lnTo>
                <a:lnTo>
                  <a:pt x="261" y="421"/>
                </a:lnTo>
                <a:lnTo>
                  <a:pt x="256" y="418"/>
                </a:lnTo>
                <a:lnTo>
                  <a:pt x="251" y="415"/>
                </a:lnTo>
                <a:lnTo>
                  <a:pt x="248" y="411"/>
                </a:lnTo>
                <a:lnTo>
                  <a:pt x="246" y="404"/>
                </a:lnTo>
                <a:lnTo>
                  <a:pt x="246" y="397"/>
                </a:lnTo>
                <a:lnTo>
                  <a:pt x="244" y="384"/>
                </a:lnTo>
                <a:lnTo>
                  <a:pt x="241" y="370"/>
                </a:lnTo>
                <a:lnTo>
                  <a:pt x="236" y="353"/>
                </a:lnTo>
                <a:lnTo>
                  <a:pt x="228" y="335"/>
                </a:lnTo>
                <a:lnTo>
                  <a:pt x="210" y="294"/>
                </a:lnTo>
                <a:lnTo>
                  <a:pt x="190" y="250"/>
                </a:lnTo>
                <a:lnTo>
                  <a:pt x="169" y="204"/>
                </a:lnTo>
                <a:lnTo>
                  <a:pt x="150" y="162"/>
                </a:lnTo>
                <a:lnTo>
                  <a:pt x="142" y="142"/>
                </a:lnTo>
                <a:lnTo>
                  <a:pt x="136" y="123"/>
                </a:lnTo>
                <a:lnTo>
                  <a:pt x="132" y="106"/>
                </a:lnTo>
                <a:lnTo>
                  <a:pt x="129" y="93"/>
                </a:lnTo>
                <a:lnTo>
                  <a:pt x="125" y="93"/>
                </a:lnTo>
                <a:lnTo>
                  <a:pt x="114" y="93"/>
                </a:lnTo>
                <a:lnTo>
                  <a:pt x="97" y="93"/>
                </a:lnTo>
                <a:lnTo>
                  <a:pt x="77" y="93"/>
                </a:lnTo>
                <a:lnTo>
                  <a:pt x="55" y="94"/>
                </a:lnTo>
                <a:lnTo>
                  <a:pt x="34" y="95"/>
                </a:lnTo>
                <a:lnTo>
                  <a:pt x="15" y="97"/>
                </a:lnTo>
                <a:lnTo>
                  <a:pt x="0" y="99"/>
                </a:lnTo>
                <a:lnTo>
                  <a:pt x="2" y="112"/>
                </a:lnTo>
                <a:lnTo>
                  <a:pt x="5" y="124"/>
                </a:lnTo>
                <a:lnTo>
                  <a:pt x="9" y="137"/>
                </a:lnTo>
                <a:lnTo>
                  <a:pt x="13" y="149"/>
                </a:lnTo>
                <a:lnTo>
                  <a:pt x="23" y="176"/>
                </a:lnTo>
                <a:lnTo>
                  <a:pt x="35" y="202"/>
                </a:lnTo>
                <a:lnTo>
                  <a:pt x="49" y="227"/>
                </a:lnTo>
                <a:lnTo>
                  <a:pt x="63" y="254"/>
                </a:lnTo>
                <a:lnTo>
                  <a:pt x="78" y="280"/>
                </a:lnTo>
                <a:lnTo>
                  <a:pt x="94" y="306"/>
                </a:lnTo>
                <a:lnTo>
                  <a:pt x="109" y="333"/>
                </a:lnTo>
                <a:lnTo>
                  <a:pt x="125" y="360"/>
                </a:lnTo>
                <a:lnTo>
                  <a:pt x="139" y="386"/>
                </a:lnTo>
                <a:lnTo>
                  <a:pt x="153" y="413"/>
                </a:lnTo>
                <a:lnTo>
                  <a:pt x="164" y="439"/>
                </a:lnTo>
                <a:lnTo>
                  <a:pt x="175" y="466"/>
                </a:lnTo>
                <a:lnTo>
                  <a:pt x="179" y="479"/>
                </a:lnTo>
                <a:lnTo>
                  <a:pt x="182" y="493"/>
                </a:lnTo>
                <a:lnTo>
                  <a:pt x="185" y="506"/>
                </a:lnTo>
                <a:lnTo>
                  <a:pt x="187" y="519"/>
                </a:lnTo>
                <a:lnTo>
                  <a:pt x="201" y="519"/>
                </a:lnTo>
                <a:lnTo>
                  <a:pt x="220" y="519"/>
                </a:lnTo>
                <a:lnTo>
                  <a:pt x="234" y="515"/>
                </a:lnTo>
                <a:lnTo>
                  <a:pt x="249" y="511"/>
                </a:lnTo>
                <a:lnTo>
                  <a:pt x="265" y="508"/>
                </a:lnTo>
                <a:lnTo>
                  <a:pt x="282" y="504"/>
                </a:lnTo>
                <a:lnTo>
                  <a:pt x="319" y="499"/>
                </a:lnTo>
                <a:lnTo>
                  <a:pt x="355" y="495"/>
                </a:lnTo>
                <a:lnTo>
                  <a:pt x="393" y="491"/>
                </a:lnTo>
                <a:lnTo>
                  <a:pt x="429" y="485"/>
                </a:lnTo>
                <a:lnTo>
                  <a:pt x="462" y="480"/>
                </a:lnTo>
                <a:lnTo>
                  <a:pt x="491" y="474"/>
                </a:lnTo>
                <a:lnTo>
                  <a:pt x="506" y="475"/>
                </a:lnTo>
                <a:lnTo>
                  <a:pt x="524" y="475"/>
                </a:lnTo>
                <a:lnTo>
                  <a:pt x="545" y="475"/>
                </a:lnTo>
                <a:lnTo>
                  <a:pt x="569" y="474"/>
                </a:lnTo>
                <a:lnTo>
                  <a:pt x="624" y="470"/>
                </a:lnTo>
                <a:lnTo>
                  <a:pt x="682" y="464"/>
                </a:lnTo>
                <a:lnTo>
                  <a:pt x="742" y="458"/>
                </a:lnTo>
                <a:lnTo>
                  <a:pt x="797" y="451"/>
                </a:lnTo>
                <a:lnTo>
                  <a:pt x="822" y="446"/>
                </a:lnTo>
                <a:lnTo>
                  <a:pt x="844" y="443"/>
                </a:lnTo>
                <a:lnTo>
                  <a:pt x="863" y="439"/>
                </a:lnTo>
                <a:lnTo>
                  <a:pt x="879" y="435"/>
                </a:lnTo>
                <a:lnTo>
                  <a:pt x="887" y="433"/>
                </a:lnTo>
                <a:lnTo>
                  <a:pt x="895" y="430"/>
                </a:lnTo>
                <a:lnTo>
                  <a:pt x="900" y="425"/>
                </a:lnTo>
                <a:lnTo>
                  <a:pt x="905" y="421"/>
                </a:lnTo>
                <a:lnTo>
                  <a:pt x="908" y="416"/>
                </a:lnTo>
                <a:lnTo>
                  <a:pt x="912" y="412"/>
                </a:lnTo>
                <a:lnTo>
                  <a:pt x="913" y="405"/>
                </a:lnTo>
                <a:lnTo>
                  <a:pt x="914" y="400"/>
                </a:lnTo>
                <a:lnTo>
                  <a:pt x="913" y="394"/>
                </a:lnTo>
                <a:lnTo>
                  <a:pt x="913" y="386"/>
                </a:lnTo>
                <a:lnTo>
                  <a:pt x="911" y="380"/>
                </a:lnTo>
                <a:lnTo>
                  <a:pt x="908" y="373"/>
                </a:lnTo>
                <a:lnTo>
                  <a:pt x="901" y="359"/>
                </a:lnTo>
                <a:lnTo>
                  <a:pt x="893" y="344"/>
                </a:lnTo>
                <a:lnTo>
                  <a:pt x="882" y="330"/>
                </a:lnTo>
                <a:lnTo>
                  <a:pt x="872" y="315"/>
                </a:lnTo>
                <a:lnTo>
                  <a:pt x="860" y="300"/>
                </a:lnTo>
                <a:lnTo>
                  <a:pt x="849" y="287"/>
                </a:lnTo>
                <a:lnTo>
                  <a:pt x="829" y="264"/>
                </a:lnTo>
                <a:lnTo>
                  <a:pt x="815" y="247"/>
                </a:lnTo>
                <a:lnTo>
                  <a:pt x="786" y="216"/>
                </a:lnTo>
                <a:lnTo>
                  <a:pt x="762" y="184"/>
                </a:lnTo>
                <a:lnTo>
                  <a:pt x="739" y="154"/>
                </a:lnTo>
                <a:lnTo>
                  <a:pt x="716" y="123"/>
                </a:lnTo>
                <a:lnTo>
                  <a:pt x="692" y="93"/>
                </a:lnTo>
                <a:lnTo>
                  <a:pt x="667" y="64"/>
                </a:lnTo>
                <a:lnTo>
                  <a:pt x="654" y="49"/>
                </a:lnTo>
                <a:lnTo>
                  <a:pt x="639" y="36"/>
                </a:lnTo>
                <a:lnTo>
                  <a:pt x="624" y="22"/>
                </a:lnTo>
                <a:lnTo>
                  <a:pt x="608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89640" y="3151080"/>
            <a:ext cx="16200" cy="11160"/>
          </a:xfrm>
          <a:custGeom>
            <a:avLst/>
            <a:gdLst/>
            <a:ahLst/>
            <a:rect l="l" t="t" r="r" b="b"/>
            <a:pathLst>
              <a:path w="908" h="520">
                <a:moveTo>
                  <a:pt x="595" y="8"/>
                </a:moveTo>
                <a:lnTo>
                  <a:pt x="594" y="6"/>
                </a:lnTo>
                <a:lnTo>
                  <a:pt x="593" y="5"/>
                </a:lnTo>
                <a:lnTo>
                  <a:pt x="590" y="3"/>
                </a:lnTo>
                <a:lnTo>
                  <a:pt x="587" y="1"/>
                </a:lnTo>
                <a:lnTo>
                  <a:pt x="577" y="0"/>
                </a:lnTo>
                <a:lnTo>
                  <a:pt x="567" y="0"/>
                </a:lnTo>
                <a:lnTo>
                  <a:pt x="555" y="0"/>
                </a:lnTo>
                <a:lnTo>
                  <a:pt x="544" y="0"/>
                </a:lnTo>
                <a:lnTo>
                  <a:pt x="533" y="1"/>
                </a:lnTo>
                <a:lnTo>
                  <a:pt x="524" y="1"/>
                </a:lnTo>
                <a:lnTo>
                  <a:pt x="513" y="6"/>
                </a:lnTo>
                <a:lnTo>
                  <a:pt x="499" y="9"/>
                </a:lnTo>
                <a:lnTo>
                  <a:pt x="482" y="13"/>
                </a:lnTo>
                <a:lnTo>
                  <a:pt x="462" y="17"/>
                </a:lnTo>
                <a:lnTo>
                  <a:pt x="419" y="25"/>
                </a:lnTo>
                <a:lnTo>
                  <a:pt x="370" y="32"/>
                </a:lnTo>
                <a:lnTo>
                  <a:pt x="323" y="37"/>
                </a:lnTo>
                <a:lnTo>
                  <a:pt x="277" y="43"/>
                </a:lnTo>
                <a:lnTo>
                  <a:pt x="238" y="46"/>
                </a:lnTo>
                <a:lnTo>
                  <a:pt x="207" y="47"/>
                </a:lnTo>
                <a:lnTo>
                  <a:pt x="202" y="48"/>
                </a:lnTo>
                <a:lnTo>
                  <a:pt x="197" y="49"/>
                </a:lnTo>
                <a:lnTo>
                  <a:pt x="192" y="51"/>
                </a:lnTo>
                <a:lnTo>
                  <a:pt x="189" y="53"/>
                </a:lnTo>
                <a:lnTo>
                  <a:pt x="184" y="55"/>
                </a:lnTo>
                <a:lnTo>
                  <a:pt x="182" y="58"/>
                </a:lnTo>
                <a:lnTo>
                  <a:pt x="179" y="62"/>
                </a:lnTo>
                <a:lnTo>
                  <a:pt x="177" y="65"/>
                </a:lnTo>
                <a:lnTo>
                  <a:pt x="175" y="72"/>
                </a:lnTo>
                <a:lnTo>
                  <a:pt x="175" y="80"/>
                </a:lnTo>
                <a:lnTo>
                  <a:pt x="176" y="89"/>
                </a:lnTo>
                <a:lnTo>
                  <a:pt x="179" y="97"/>
                </a:lnTo>
                <a:lnTo>
                  <a:pt x="184" y="106"/>
                </a:lnTo>
                <a:lnTo>
                  <a:pt x="191" y="113"/>
                </a:lnTo>
                <a:lnTo>
                  <a:pt x="198" y="120"/>
                </a:lnTo>
                <a:lnTo>
                  <a:pt x="206" y="127"/>
                </a:lnTo>
                <a:lnTo>
                  <a:pt x="217" y="132"/>
                </a:lnTo>
                <a:lnTo>
                  <a:pt x="227" y="136"/>
                </a:lnTo>
                <a:lnTo>
                  <a:pt x="234" y="137"/>
                </a:lnTo>
                <a:lnTo>
                  <a:pt x="240" y="137"/>
                </a:lnTo>
                <a:lnTo>
                  <a:pt x="246" y="138"/>
                </a:lnTo>
                <a:lnTo>
                  <a:pt x="253" y="137"/>
                </a:lnTo>
                <a:lnTo>
                  <a:pt x="275" y="136"/>
                </a:lnTo>
                <a:lnTo>
                  <a:pt x="299" y="133"/>
                </a:lnTo>
                <a:lnTo>
                  <a:pt x="325" y="129"/>
                </a:lnTo>
                <a:lnTo>
                  <a:pt x="354" y="123"/>
                </a:lnTo>
                <a:lnTo>
                  <a:pt x="382" y="115"/>
                </a:lnTo>
                <a:lnTo>
                  <a:pt x="410" y="108"/>
                </a:lnTo>
                <a:lnTo>
                  <a:pt x="437" y="99"/>
                </a:lnTo>
                <a:lnTo>
                  <a:pt x="460" y="92"/>
                </a:lnTo>
                <a:lnTo>
                  <a:pt x="492" y="95"/>
                </a:lnTo>
                <a:lnTo>
                  <a:pt x="519" y="96"/>
                </a:lnTo>
                <a:lnTo>
                  <a:pt x="539" y="96"/>
                </a:lnTo>
                <a:lnTo>
                  <a:pt x="554" y="96"/>
                </a:lnTo>
                <a:lnTo>
                  <a:pt x="560" y="97"/>
                </a:lnTo>
                <a:lnTo>
                  <a:pt x="565" y="98"/>
                </a:lnTo>
                <a:lnTo>
                  <a:pt x="568" y="99"/>
                </a:lnTo>
                <a:lnTo>
                  <a:pt x="571" y="103"/>
                </a:lnTo>
                <a:lnTo>
                  <a:pt x="573" y="106"/>
                </a:lnTo>
                <a:lnTo>
                  <a:pt x="575" y="111"/>
                </a:lnTo>
                <a:lnTo>
                  <a:pt x="575" y="117"/>
                </a:lnTo>
                <a:lnTo>
                  <a:pt x="576" y="125"/>
                </a:lnTo>
                <a:lnTo>
                  <a:pt x="577" y="134"/>
                </a:lnTo>
                <a:lnTo>
                  <a:pt x="581" y="145"/>
                </a:lnTo>
                <a:lnTo>
                  <a:pt x="586" y="156"/>
                </a:lnTo>
                <a:lnTo>
                  <a:pt x="593" y="170"/>
                </a:lnTo>
                <a:lnTo>
                  <a:pt x="611" y="198"/>
                </a:lnTo>
                <a:lnTo>
                  <a:pt x="632" y="228"/>
                </a:lnTo>
                <a:lnTo>
                  <a:pt x="654" y="258"/>
                </a:lnTo>
                <a:lnTo>
                  <a:pt x="674" y="287"/>
                </a:lnTo>
                <a:lnTo>
                  <a:pt x="683" y="300"/>
                </a:lnTo>
                <a:lnTo>
                  <a:pt x="690" y="312"/>
                </a:lnTo>
                <a:lnTo>
                  <a:pt x="695" y="323"/>
                </a:lnTo>
                <a:lnTo>
                  <a:pt x="698" y="332"/>
                </a:lnTo>
                <a:lnTo>
                  <a:pt x="704" y="342"/>
                </a:lnTo>
                <a:lnTo>
                  <a:pt x="709" y="351"/>
                </a:lnTo>
                <a:lnTo>
                  <a:pt x="715" y="358"/>
                </a:lnTo>
                <a:lnTo>
                  <a:pt x="720" y="366"/>
                </a:lnTo>
                <a:lnTo>
                  <a:pt x="727" y="371"/>
                </a:lnTo>
                <a:lnTo>
                  <a:pt x="731" y="375"/>
                </a:lnTo>
                <a:lnTo>
                  <a:pt x="734" y="380"/>
                </a:lnTo>
                <a:lnTo>
                  <a:pt x="735" y="382"/>
                </a:lnTo>
                <a:lnTo>
                  <a:pt x="733" y="384"/>
                </a:lnTo>
                <a:lnTo>
                  <a:pt x="729" y="386"/>
                </a:lnTo>
                <a:lnTo>
                  <a:pt x="719" y="386"/>
                </a:lnTo>
                <a:lnTo>
                  <a:pt x="707" y="387"/>
                </a:lnTo>
                <a:lnTo>
                  <a:pt x="666" y="386"/>
                </a:lnTo>
                <a:lnTo>
                  <a:pt x="602" y="384"/>
                </a:lnTo>
                <a:lnTo>
                  <a:pt x="582" y="386"/>
                </a:lnTo>
                <a:lnTo>
                  <a:pt x="555" y="387"/>
                </a:lnTo>
                <a:lnTo>
                  <a:pt x="526" y="388"/>
                </a:lnTo>
                <a:lnTo>
                  <a:pt x="495" y="389"/>
                </a:lnTo>
                <a:lnTo>
                  <a:pt x="464" y="392"/>
                </a:lnTo>
                <a:lnTo>
                  <a:pt x="435" y="395"/>
                </a:lnTo>
                <a:lnTo>
                  <a:pt x="421" y="399"/>
                </a:lnTo>
                <a:lnTo>
                  <a:pt x="409" y="402"/>
                </a:lnTo>
                <a:lnTo>
                  <a:pt x="398" y="405"/>
                </a:lnTo>
                <a:lnTo>
                  <a:pt x="388" y="409"/>
                </a:lnTo>
                <a:lnTo>
                  <a:pt x="353" y="412"/>
                </a:lnTo>
                <a:lnTo>
                  <a:pt x="321" y="416"/>
                </a:lnTo>
                <a:lnTo>
                  <a:pt x="294" y="421"/>
                </a:lnTo>
                <a:lnTo>
                  <a:pt x="273" y="423"/>
                </a:lnTo>
                <a:lnTo>
                  <a:pt x="263" y="423"/>
                </a:lnTo>
                <a:lnTo>
                  <a:pt x="256" y="423"/>
                </a:lnTo>
                <a:lnTo>
                  <a:pt x="248" y="421"/>
                </a:lnTo>
                <a:lnTo>
                  <a:pt x="243" y="419"/>
                </a:lnTo>
                <a:lnTo>
                  <a:pt x="239" y="415"/>
                </a:lnTo>
                <a:lnTo>
                  <a:pt x="236" y="410"/>
                </a:lnTo>
                <a:lnTo>
                  <a:pt x="234" y="404"/>
                </a:lnTo>
                <a:lnTo>
                  <a:pt x="234" y="396"/>
                </a:lnTo>
                <a:lnTo>
                  <a:pt x="233" y="386"/>
                </a:lnTo>
                <a:lnTo>
                  <a:pt x="230" y="371"/>
                </a:lnTo>
                <a:lnTo>
                  <a:pt x="224" y="355"/>
                </a:lnTo>
                <a:lnTo>
                  <a:pt x="217" y="337"/>
                </a:lnTo>
                <a:lnTo>
                  <a:pt x="200" y="296"/>
                </a:lnTo>
                <a:lnTo>
                  <a:pt x="180" y="252"/>
                </a:lnTo>
                <a:lnTo>
                  <a:pt x="160" y="206"/>
                </a:lnTo>
                <a:lnTo>
                  <a:pt x="141" y="163"/>
                </a:lnTo>
                <a:lnTo>
                  <a:pt x="133" y="143"/>
                </a:lnTo>
                <a:lnTo>
                  <a:pt x="125" y="124"/>
                </a:lnTo>
                <a:lnTo>
                  <a:pt x="120" y="107"/>
                </a:lnTo>
                <a:lnTo>
                  <a:pt x="117" y="92"/>
                </a:lnTo>
                <a:lnTo>
                  <a:pt x="114" y="92"/>
                </a:lnTo>
                <a:lnTo>
                  <a:pt x="103" y="93"/>
                </a:lnTo>
                <a:lnTo>
                  <a:pt x="89" y="94"/>
                </a:lnTo>
                <a:lnTo>
                  <a:pt x="71" y="95"/>
                </a:lnTo>
                <a:lnTo>
                  <a:pt x="52" y="96"/>
                </a:lnTo>
                <a:lnTo>
                  <a:pt x="33" y="97"/>
                </a:lnTo>
                <a:lnTo>
                  <a:pt x="15" y="98"/>
                </a:lnTo>
                <a:lnTo>
                  <a:pt x="0" y="98"/>
                </a:lnTo>
                <a:lnTo>
                  <a:pt x="2" y="112"/>
                </a:lnTo>
                <a:lnTo>
                  <a:pt x="5" y="125"/>
                </a:lnTo>
                <a:lnTo>
                  <a:pt x="8" y="137"/>
                </a:lnTo>
                <a:lnTo>
                  <a:pt x="12" y="150"/>
                </a:lnTo>
                <a:lnTo>
                  <a:pt x="20" y="176"/>
                </a:lnTo>
                <a:lnTo>
                  <a:pt x="32" y="202"/>
                </a:lnTo>
                <a:lnTo>
                  <a:pt x="44" y="228"/>
                </a:lnTo>
                <a:lnTo>
                  <a:pt x="58" y="254"/>
                </a:lnTo>
                <a:lnTo>
                  <a:pt x="73" y="281"/>
                </a:lnTo>
                <a:lnTo>
                  <a:pt x="88" y="307"/>
                </a:lnTo>
                <a:lnTo>
                  <a:pt x="103" y="333"/>
                </a:lnTo>
                <a:lnTo>
                  <a:pt x="118" y="360"/>
                </a:lnTo>
                <a:lnTo>
                  <a:pt x="132" y="386"/>
                </a:lnTo>
                <a:lnTo>
                  <a:pt x="144" y="413"/>
                </a:lnTo>
                <a:lnTo>
                  <a:pt x="156" y="440"/>
                </a:lnTo>
                <a:lnTo>
                  <a:pt x="164" y="466"/>
                </a:lnTo>
                <a:lnTo>
                  <a:pt x="169" y="480"/>
                </a:lnTo>
                <a:lnTo>
                  <a:pt x="172" y="493"/>
                </a:lnTo>
                <a:lnTo>
                  <a:pt x="174" y="506"/>
                </a:lnTo>
                <a:lnTo>
                  <a:pt x="175" y="520"/>
                </a:lnTo>
                <a:lnTo>
                  <a:pt x="195" y="520"/>
                </a:lnTo>
                <a:lnTo>
                  <a:pt x="207" y="520"/>
                </a:lnTo>
                <a:lnTo>
                  <a:pt x="222" y="515"/>
                </a:lnTo>
                <a:lnTo>
                  <a:pt x="237" y="511"/>
                </a:lnTo>
                <a:lnTo>
                  <a:pt x="254" y="507"/>
                </a:lnTo>
                <a:lnTo>
                  <a:pt x="271" y="504"/>
                </a:lnTo>
                <a:lnTo>
                  <a:pt x="307" y="499"/>
                </a:lnTo>
                <a:lnTo>
                  <a:pt x="346" y="494"/>
                </a:lnTo>
                <a:lnTo>
                  <a:pt x="383" y="490"/>
                </a:lnTo>
                <a:lnTo>
                  <a:pt x="420" y="486"/>
                </a:lnTo>
                <a:lnTo>
                  <a:pt x="436" y="484"/>
                </a:lnTo>
                <a:lnTo>
                  <a:pt x="451" y="481"/>
                </a:lnTo>
                <a:lnTo>
                  <a:pt x="466" y="477"/>
                </a:lnTo>
                <a:lnTo>
                  <a:pt x="479" y="474"/>
                </a:lnTo>
                <a:lnTo>
                  <a:pt x="493" y="476"/>
                </a:lnTo>
                <a:lnTo>
                  <a:pt x="511" y="477"/>
                </a:lnTo>
                <a:lnTo>
                  <a:pt x="533" y="477"/>
                </a:lnTo>
                <a:lnTo>
                  <a:pt x="558" y="476"/>
                </a:lnTo>
                <a:lnTo>
                  <a:pt x="613" y="473"/>
                </a:lnTo>
                <a:lnTo>
                  <a:pt x="674" y="467"/>
                </a:lnTo>
                <a:lnTo>
                  <a:pt x="734" y="460"/>
                </a:lnTo>
                <a:lnTo>
                  <a:pt x="791" y="451"/>
                </a:lnTo>
                <a:lnTo>
                  <a:pt x="838" y="443"/>
                </a:lnTo>
                <a:lnTo>
                  <a:pt x="873" y="435"/>
                </a:lnTo>
                <a:lnTo>
                  <a:pt x="881" y="432"/>
                </a:lnTo>
                <a:lnTo>
                  <a:pt x="889" y="429"/>
                </a:lnTo>
                <a:lnTo>
                  <a:pt x="895" y="426"/>
                </a:lnTo>
                <a:lnTo>
                  <a:pt x="899" y="422"/>
                </a:lnTo>
                <a:lnTo>
                  <a:pt x="903" y="416"/>
                </a:lnTo>
                <a:lnTo>
                  <a:pt x="905" y="411"/>
                </a:lnTo>
                <a:lnTo>
                  <a:pt x="907" y="406"/>
                </a:lnTo>
                <a:lnTo>
                  <a:pt x="908" y="400"/>
                </a:lnTo>
                <a:lnTo>
                  <a:pt x="908" y="393"/>
                </a:lnTo>
                <a:lnTo>
                  <a:pt x="907" y="387"/>
                </a:lnTo>
                <a:lnTo>
                  <a:pt x="904" y="381"/>
                </a:lnTo>
                <a:lnTo>
                  <a:pt x="902" y="373"/>
                </a:lnTo>
                <a:lnTo>
                  <a:pt x="895" y="358"/>
                </a:lnTo>
                <a:lnTo>
                  <a:pt x="887" y="344"/>
                </a:lnTo>
                <a:lnTo>
                  <a:pt x="876" y="329"/>
                </a:lnTo>
                <a:lnTo>
                  <a:pt x="864" y="314"/>
                </a:lnTo>
                <a:lnTo>
                  <a:pt x="853" y="301"/>
                </a:lnTo>
                <a:lnTo>
                  <a:pt x="840" y="287"/>
                </a:lnTo>
                <a:lnTo>
                  <a:pt x="818" y="264"/>
                </a:lnTo>
                <a:lnTo>
                  <a:pt x="802" y="248"/>
                </a:lnTo>
                <a:lnTo>
                  <a:pt x="776" y="218"/>
                </a:lnTo>
                <a:lnTo>
                  <a:pt x="753" y="188"/>
                </a:lnTo>
                <a:lnTo>
                  <a:pt x="729" y="156"/>
                </a:lnTo>
                <a:lnTo>
                  <a:pt x="706" y="126"/>
                </a:lnTo>
                <a:lnTo>
                  <a:pt x="682" y="95"/>
                </a:lnTo>
                <a:lnTo>
                  <a:pt x="656" y="65"/>
                </a:lnTo>
                <a:lnTo>
                  <a:pt x="642" y="50"/>
                </a:lnTo>
                <a:lnTo>
                  <a:pt x="627" y="35"/>
                </a:lnTo>
                <a:lnTo>
                  <a:pt x="612" y="21"/>
                </a:lnTo>
                <a:lnTo>
                  <a:pt x="595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07280" y="3146400"/>
            <a:ext cx="15840" cy="12600"/>
          </a:xfrm>
          <a:custGeom>
            <a:avLst/>
            <a:gdLst/>
            <a:ahLst/>
            <a:rect l="l" t="t" r="r" b="b"/>
            <a:pathLst>
              <a:path w="920" h="519">
                <a:moveTo>
                  <a:pt x="607" y="14"/>
                </a:moveTo>
                <a:lnTo>
                  <a:pt x="607" y="10"/>
                </a:lnTo>
                <a:lnTo>
                  <a:pt x="605" y="7"/>
                </a:lnTo>
                <a:lnTo>
                  <a:pt x="603" y="5"/>
                </a:lnTo>
                <a:lnTo>
                  <a:pt x="599" y="3"/>
                </a:lnTo>
                <a:lnTo>
                  <a:pt x="590" y="1"/>
                </a:lnTo>
                <a:lnTo>
                  <a:pt x="579" y="0"/>
                </a:lnTo>
                <a:lnTo>
                  <a:pt x="567" y="0"/>
                </a:lnTo>
                <a:lnTo>
                  <a:pt x="556" y="0"/>
                </a:lnTo>
                <a:lnTo>
                  <a:pt x="545" y="1"/>
                </a:lnTo>
                <a:lnTo>
                  <a:pt x="537" y="1"/>
                </a:lnTo>
                <a:lnTo>
                  <a:pt x="511" y="8"/>
                </a:lnTo>
                <a:lnTo>
                  <a:pt x="474" y="17"/>
                </a:lnTo>
                <a:lnTo>
                  <a:pt x="431" y="25"/>
                </a:lnTo>
                <a:lnTo>
                  <a:pt x="382" y="34"/>
                </a:lnTo>
                <a:lnTo>
                  <a:pt x="333" y="41"/>
                </a:lnTo>
                <a:lnTo>
                  <a:pt x="287" y="47"/>
                </a:lnTo>
                <a:lnTo>
                  <a:pt x="246" y="52"/>
                </a:lnTo>
                <a:lnTo>
                  <a:pt x="213" y="53"/>
                </a:lnTo>
                <a:lnTo>
                  <a:pt x="208" y="53"/>
                </a:lnTo>
                <a:lnTo>
                  <a:pt x="203" y="54"/>
                </a:lnTo>
                <a:lnTo>
                  <a:pt x="198" y="55"/>
                </a:lnTo>
                <a:lnTo>
                  <a:pt x="194" y="57"/>
                </a:lnTo>
                <a:lnTo>
                  <a:pt x="191" y="59"/>
                </a:lnTo>
                <a:lnTo>
                  <a:pt x="188" y="61"/>
                </a:lnTo>
                <a:lnTo>
                  <a:pt x="186" y="64"/>
                </a:lnTo>
                <a:lnTo>
                  <a:pt x="185" y="66"/>
                </a:lnTo>
                <a:lnTo>
                  <a:pt x="183" y="70"/>
                </a:lnTo>
                <a:lnTo>
                  <a:pt x="183" y="74"/>
                </a:lnTo>
                <a:lnTo>
                  <a:pt x="183" y="78"/>
                </a:lnTo>
                <a:lnTo>
                  <a:pt x="183" y="81"/>
                </a:lnTo>
                <a:lnTo>
                  <a:pt x="185" y="89"/>
                </a:lnTo>
                <a:lnTo>
                  <a:pt x="189" y="98"/>
                </a:lnTo>
                <a:lnTo>
                  <a:pt x="194" y="106"/>
                </a:lnTo>
                <a:lnTo>
                  <a:pt x="200" y="115"/>
                </a:lnTo>
                <a:lnTo>
                  <a:pt x="209" y="122"/>
                </a:lnTo>
                <a:lnTo>
                  <a:pt x="218" y="129"/>
                </a:lnTo>
                <a:lnTo>
                  <a:pt x="229" y="135"/>
                </a:lnTo>
                <a:lnTo>
                  <a:pt x="239" y="139"/>
                </a:lnTo>
                <a:lnTo>
                  <a:pt x="252" y="142"/>
                </a:lnTo>
                <a:lnTo>
                  <a:pt x="266" y="143"/>
                </a:lnTo>
                <a:lnTo>
                  <a:pt x="287" y="140"/>
                </a:lnTo>
                <a:lnTo>
                  <a:pt x="311" y="135"/>
                </a:lnTo>
                <a:lnTo>
                  <a:pt x="337" y="129"/>
                </a:lnTo>
                <a:lnTo>
                  <a:pt x="366" y="122"/>
                </a:lnTo>
                <a:lnTo>
                  <a:pt x="393" y="115"/>
                </a:lnTo>
                <a:lnTo>
                  <a:pt x="419" y="106"/>
                </a:lnTo>
                <a:lnTo>
                  <a:pt x="444" y="99"/>
                </a:lnTo>
                <a:lnTo>
                  <a:pt x="465" y="92"/>
                </a:lnTo>
                <a:lnTo>
                  <a:pt x="500" y="95"/>
                </a:lnTo>
                <a:lnTo>
                  <a:pt x="528" y="97"/>
                </a:lnTo>
                <a:lnTo>
                  <a:pt x="549" y="97"/>
                </a:lnTo>
                <a:lnTo>
                  <a:pt x="565" y="98"/>
                </a:lnTo>
                <a:lnTo>
                  <a:pt x="572" y="99"/>
                </a:lnTo>
                <a:lnTo>
                  <a:pt x="577" y="100"/>
                </a:lnTo>
                <a:lnTo>
                  <a:pt x="581" y="102"/>
                </a:lnTo>
                <a:lnTo>
                  <a:pt x="583" y="104"/>
                </a:lnTo>
                <a:lnTo>
                  <a:pt x="585" y="107"/>
                </a:lnTo>
                <a:lnTo>
                  <a:pt x="587" y="112"/>
                </a:lnTo>
                <a:lnTo>
                  <a:pt x="588" y="117"/>
                </a:lnTo>
                <a:lnTo>
                  <a:pt x="588" y="124"/>
                </a:lnTo>
                <a:lnTo>
                  <a:pt x="589" y="134"/>
                </a:lnTo>
                <a:lnTo>
                  <a:pt x="593" y="145"/>
                </a:lnTo>
                <a:lnTo>
                  <a:pt x="599" y="158"/>
                </a:lnTo>
                <a:lnTo>
                  <a:pt x="605" y="172"/>
                </a:lnTo>
                <a:lnTo>
                  <a:pt x="624" y="200"/>
                </a:lnTo>
                <a:lnTo>
                  <a:pt x="645" y="230"/>
                </a:lnTo>
                <a:lnTo>
                  <a:pt x="666" y="259"/>
                </a:lnTo>
                <a:lnTo>
                  <a:pt x="686" y="286"/>
                </a:lnTo>
                <a:lnTo>
                  <a:pt x="695" y="299"/>
                </a:lnTo>
                <a:lnTo>
                  <a:pt x="702" y="312"/>
                </a:lnTo>
                <a:lnTo>
                  <a:pt x="707" y="322"/>
                </a:lnTo>
                <a:lnTo>
                  <a:pt x="711" y="331"/>
                </a:lnTo>
                <a:lnTo>
                  <a:pt x="716" y="341"/>
                </a:lnTo>
                <a:lnTo>
                  <a:pt x="721" y="351"/>
                </a:lnTo>
                <a:lnTo>
                  <a:pt x="727" y="358"/>
                </a:lnTo>
                <a:lnTo>
                  <a:pt x="733" y="364"/>
                </a:lnTo>
                <a:lnTo>
                  <a:pt x="739" y="371"/>
                </a:lnTo>
                <a:lnTo>
                  <a:pt x="743" y="375"/>
                </a:lnTo>
                <a:lnTo>
                  <a:pt x="746" y="379"/>
                </a:lnTo>
                <a:lnTo>
                  <a:pt x="747" y="382"/>
                </a:lnTo>
                <a:lnTo>
                  <a:pt x="747" y="383"/>
                </a:lnTo>
                <a:lnTo>
                  <a:pt x="746" y="384"/>
                </a:lnTo>
                <a:lnTo>
                  <a:pt x="744" y="385"/>
                </a:lnTo>
                <a:lnTo>
                  <a:pt x="741" y="386"/>
                </a:lnTo>
                <a:lnTo>
                  <a:pt x="732" y="387"/>
                </a:lnTo>
                <a:lnTo>
                  <a:pt x="719" y="389"/>
                </a:lnTo>
                <a:lnTo>
                  <a:pt x="679" y="390"/>
                </a:lnTo>
                <a:lnTo>
                  <a:pt x="614" y="390"/>
                </a:lnTo>
                <a:lnTo>
                  <a:pt x="592" y="390"/>
                </a:lnTo>
                <a:lnTo>
                  <a:pt x="565" y="390"/>
                </a:lnTo>
                <a:lnTo>
                  <a:pt x="536" y="391"/>
                </a:lnTo>
                <a:lnTo>
                  <a:pt x="505" y="392"/>
                </a:lnTo>
                <a:lnTo>
                  <a:pt x="475" y="394"/>
                </a:lnTo>
                <a:lnTo>
                  <a:pt x="446" y="397"/>
                </a:lnTo>
                <a:lnTo>
                  <a:pt x="433" y="400"/>
                </a:lnTo>
                <a:lnTo>
                  <a:pt x="421" y="402"/>
                </a:lnTo>
                <a:lnTo>
                  <a:pt x="410" y="405"/>
                </a:lnTo>
                <a:lnTo>
                  <a:pt x="401" y="409"/>
                </a:lnTo>
                <a:lnTo>
                  <a:pt x="364" y="412"/>
                </a:lnTo>
                <a:lnTo>
                  <a:pt x="333" y="416"/>
                </a:lnTo>
                <a:lnTo>
                  <a:pt x="307" y="420"/>
                </a:lnTo>
                <a:lnTo>
                  <a:pt x="285" y="422"/>
                </a:lnTo>
                <a:lnTo>
                  <a:pt x="275" y="423"/>
                </a:lnTo>
                <a:lnTo>
                  <a:pt x="268" y="423"/>
                </a:lnTo>
                <a:lnTo>
                  <a:pt x="260" y="422"/>
                </a:lnTo>
                <a:lnTo>
                  <a:pt x="255" y="420"/>
                </a:lnTo>
                <a:lnTo>
                  <a:pt x="251" y="418"/>
                </a:lnTo>
                <a:lnTo>
                  <a:pt x="248" y="414"/>
                </a:lnTo>
                <a:lnTo>
                  <a:pt x="247" y="409"/>
                </a:lnTo>
                <a:lnTo>
                  <a:pt x="246" y="402"/>
                </a:lnTo>
                <a:lnTo>
                  <a:pt x="245" y="390"/>
                </a:lnTo>
                <a:lnTo>
                  <a:pt x="241" y="375"/>
                </a:lnTo>
                <a:lnTo>
                  <a:pt x="236" y="359"/>
                </a:lnTo>
                <a:lnTo>
                  <a:pt x="230" y="340"/>
                </a:lnTo>
                <a:lnTo>
                  <a:pt x="212" y="299"/>
                </a:lnTo>
                <a:lnTo>
                  <a:pt x="192" y="255"/>
                </a:lnTo>
                <a:lnTo>
                  <a:pt x="172" y="211"/>
                </a:lnTo>
                <a:lnTo>
                  <a:pt x="153" y="167"/>
                </a:lnTo>
                <a:lnTo>
                  <a:pt x="145" y="147"/>
                </a:lnTo>
                <a:lnTo>
                  <a:pt x="138" y="129"/>
                </a:lnTo>
                <a:lnTo>
                  <a:pt x="133" y="113"/>
                </a:lnTo>
                <a:lnTo>
                  <a:pt x="129" y="98"/>
                </a:lnTo>
                <a:lnTo>
                  <a:pt x="126" y="98"/>
                </a:lnTo>
                <a:lnTo>
                  <a:pt x="114" y="98"/>
                </a:lnTo>
                <a:lnTo>
                  <a:pt x="99" y="98"/>
                </a:lnTo>
                <a:lnTo>
                  <a:pt x="80" y="98"/>
                </a:lnTo>
                <a:lnTo>
                  <a:pt x="59" y="98"/>
                </a:lnTo>
                <a:lnTo>
                  <a:pt x="36" y="98"/>
                </a:lnTo>
                <a:lnTo>
                  <a:pt x="17" y="98"/>
                </a:lnTo>
                <a:lnTo>
                  <a:pt x="0" y="98"/>
                </a:lnTo>
                <a:lnTo>
                  <a:pt x="3" y="112"/>
                </a:lnTo>
                <a:lnTo>
                  <a:pt x="5" y="124"/>
                </a:lnTo>
                <a:lnTo>
                  <a:pt x="9" y="138"/>
                </a:lnTo>
                <a:lnTo>
                  <a:pt x="13" y="151"/>
                </a:lnTo>
                <a:lnTo>
                  <a:pt x="24" y="178"/>
                </a:lnTo>
                <a:lnTo>
                  <a:pt x="35" y="203"/>
                </a:lnTo>
                <a:lnTo>
                  <a:pt x="49" y="230"/>
                </a:lnTo>
                <a:lnTo>
                  <a:pt x="65" y="256"/>
                </a:lnTo>
                <a:lnTo>
                  <a:pt x="81" y="282"/>
                </a:lnTo>
                <a:lnTo>
                  <a:pt x="96" y="309"/>
                </a:lnTo>
                <a:lnTo>
                  <a:pt x="112" y="335"/>
                </a:lnTo>
                <a:lnTo>
                  <a:pt x="128" y="360"/>
                </a:lnTo>
                <a:lnTo>
                  <a:pt x="143" y="386"/>
                </a:lnTo>
                <a:lnTo>
                  <a:pt x="155" y="413"/>
                </a:lnTo>
                <a:lnTo>
                  <a:pt x="167" y="439"/>
                </a:lnTo>
                <a:lnTo>
                  <a:pt x="176" y="465"/>
                </a:lnTo>
                <a:lnTo>
                  <a:pt x="181" y="479"/>
                </a:lnTo>
                <a:lnTo>
                  <a:pt x="184" y="492"/>
                </a:lnTo>
                <a:lnTo>
                  <a:pt x="186" y="505"/>
                </a:lnTo>
                <a:lnTo>
                  <a:pt x="188" y="519"/>
                </a:lnTo>
                <a:lnTo>
                  <a:pt x="207" y="519"/>
                </a:lnTo>
                <a:lnTo>
                  <a:pt x="219" y="519"/>
                </a:lnTo>
                <a:lnTo>
                  <a:pt x="234" y="514"/>
                </a:lnTo>
                <a:lnTo>
                  <a:pt x="249" y="510"/>
                </a:lnTo>
                <a:lnTo>
                  <a:pt x="266" y="506"/>
                </a:lnTo>
                <a:lnTo>
                  <a:pt x="284" y="503"/>
                </a:lnTo>
                <a:lnTo>
                  <a:pt x="320" y="498"/>
                </a:lnTo>
                <a:lnTo>
                  <a:pt x="358" y="494"/>
                </a:lnTo>
                <a:lnTo>
                  <a:pt x="396" y="490"/>
                </a:lnTo>
                <a:lnTo>
                  <a:pt x="432" y="485"/>
                </a:lnTo>
                <a:lnTo>
                  <a:pt x="449" y="482"/>
                </a:lnTo>
                <a:lnTo>
                  <a:pt x="464" y="480"/>
                </a:lnTo>
                <a:lnTo>
                  <a:pt x="478" y="477"/>
                </a:lnTo>
                <a:lnTo>
                  <a:pt x="492" y="474"/>
                </a:lnTo>
                <a:lnTo>
                  <a:pt x="505" y="475"/>
                </a:lnTo>
                <a:lnTo>
                  <a:pt x="524" y="476"/>
                </a:lnTo>
                <a:lnTo>
                  <a:pt x="545" y="476"/>
                </a:lnTo>
                <a:lnTo>
                  <a:pt x="571" y="476"/>
                </a:lnTo>
                <a:lnTo>
                  <a:pt x="625" y="472"/>
                </a:lnTo>
                <a:lnTo>
                  <a:pt x="686" y="466"/>
                </a:lnTo>
                <a:lnTo>
                  <a:pt x="746" y="459"/>
                </a:lnTo>
                <a:lnTo>
                  <a:pt x="803" y="451"/>
                </a:lnTo>
                <a:lnTo>
                  <a:pt x="851" y="442"/>
                </a:lnTo>
                <a:lnTo>
                  <a:pt x="886" y="435"/>
                </a:lnTo>
                <a:lnTo>
                  <a:pt x="894" y="432"/>
                </a:lnTo>
                <a:lnTo>
                  <a:pt x="901" y="429"/>
                </a:lnTo>
                <a:lnTo>
                  <a:pt x="907" y="424"/>
                </a:lnTo>
                <a:lnTo>
                  <a:pt x="911" y="420"/>
                </a:lnTo>
                <a:lnTo>
                  <a:pt x="915" y="416"/>
                </a:lnTo>
                <a:lnTo>
                  <a:pt x="917" y="411"/>
                </a:lnTo>
                <a:lnTo>
                  <a:pt x="920" y="404"/>
                </a:lnTo>
                <a:lnTo>
                  <a:pt x="920" y="399"/>
                </a:lnTo>
                <a:lnTo>
                  <a:pt x="920" y="393"/>
                </a:lnTo>
                <a:lnTo>
                  <a:pt x="918" y="386"/>
                </a:lnTo>
                <a:lnTo>
                  <a:pt x="916" y="379"/>
                </a:lnTo>
                <a:lnTo>
                  <a:pt x="914" y="373"/>
                </a:lnTo>
                <a:lnTo>
                  <a:pt x="907" y="358"/>
                </a:lnTo>
                <a:lnTo>
                  <a:pt x="899" y="343"/>
                </a:lnTo>
                <a:lnTo>
                  <a:pt x="888" y="329"/>
                </a:lnTo>
                <a:lnTo>
                  <a:pt x="876" y="314"/>
                </a:lnTo>
                <a:lnTo>
                  <a:pt x="865" y="299"/>
                </a:lnTo>
                <a:lnTo>
                  <a:pt x="852" y="286"/>
                </a:lnTo>
                <a:lnTo>
                  <a:pt x="830" y="263"/>
                </a:lnTo>
                <a:lnTo>
                  <a:pt x="814" y="246"/>
                </a:lnTo>
                <a:lnTo>
                  <a:pt x="789" y="217"/>
                </a:lnTo>
                <a:lnTo>
                  <a:pt x="765" y="187"/>
                </a:lnTo>
                <a:lnTo>
                  <a:pt x="742" y="158"/>
                </a:lnTo>
                <a:lnTo>
                  <a:pt x="719" y="127"/>
                </a:lnTo>
                <a:lnTo>
                  <a:pt x="695" y="98"/>
                </a:lnTo>
                <a:lnTo>
                  <a:pt x="668" y="69"/>
                </a:lnTo>
                <a:lnTo>
                  <a:pt x="655" y="55"/>
                </a:lnTo>
                <a:lnTo>
                  <a:pt x="640" y="41"/>
                </a:lnTo>
                <a:lnTo>
                  <a:pt x="624" y="27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77040" y="3166920"/>
            <a:ext cx="15840" cy="12960"/>
          </a:xfrm>
          <a:custGeom>
            <a:avLst/>
            <a:gdLst/>
            <a:ahLst/>
            <a:rect l="l" t="t" r="r" b="b"/>
            <a:pathLst>
              <a:path w="904" h="518">
                <a:moveTo>
                  <a:pt x="601" y="7"/>
                </a:moveTo>
                <a:lnTo>
                  <a:pt x="599" y="6"/>
                </a:lnTo>
                <a:lnTo>
                  <a:pt x="592" y="5"/>
                </a:lnTo>
                <a:lnTo>
                  <a:pt x="582" y="4"/>
                </a:lnTo>
                <a:lnTo>
                  <a:pt x="571" y="4"/>
                </a:lnTo>
                <a:lnTo>
                  <a:pt x="558" y="4"/>
                </a:lnTo>
                <a:lnTo>
                  <a:pt x="547" y="4"/>
                </a:lnTo>
                <a:lnTo>
                  <a:pt x="537" y="2"/>
                </a:lnTo>
                <a:lnTo>
                  <a:pt x="531" y="0"/>
                </a:lnTo>
                <a:lnTo>
                  <a:pt x="502" y="9"/>
                </a:lnTo>
                <a:lnTo>
                  <a:pt x="466" y="17"/>
                </a:lnTo>
                <a:lnTo>
                  <a:pt x="422" y="26"/>
                </a:lnTo>
                <a:lnTo>
                  <a:pt x="374" y="34"/>
                </a:lnTo>
                <a:lnTo>
                  <a:pt x="327" y="41"/>
                </a:lnTo>
                <a:lnTo>
                  <a:pt x="283" y="47"/>
                </a:lnTo>
                <a:lnTo>
                  <a:pt x="244" y="51"/>
                </a:lnTo>
                <a:lnTo>
                  <a:pt x="213" y="52"/>
                </a:lnTo>
                <a:lnTo>
                  <a:pt x="208" y="53"/>
                </a:lnTo>
                <a:lnTo>
                  <a:pt x="203" y="53"/>
                </a:lnTo>
                <a:lnTo>
                  <a:pt x="199" y="55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5" y="65"/>
                </a:lnTo>
                <a:lnTo>
                  <a:pt x="184" y="68"/>
                </a:lnTo>
                <a:lnTo>
                  <a:pt x="181" y="75"/>
                </a:lnTo>
                <a:lnTo>
                  <a:pt x="181" y="83"/>
                </a:lnTo>
                <a:lnTo>
                  <a:pt x="182" y="91"/>
                </a:lnTo>
                <a:lnTo>
                  <a:pt x="185" y="100"/>
                </a:lnTo>
                <a:lnTo>
                  <a:pt x="190" y="109"/>
                </a:lnTo>
                <a:lnTo>
                  <a:pt x="197" y="117"/>
                </a:lnTo>
                <a:lnTo>
                  <a:pt x="204" y="125"/>
                </a:lnTo>
                <a:lnTo>
                  <a:pt x="212" y="132"/>
                </a:lnTo>
                <a:lnTo>
                  <a:pt x="223" y="137"/>
                </a:lnTo>
                <a:lnTo>
                  <a:pt x="234" y="141"/>
                </a:lnTo>
                <a:lnTo>
                  <a:pt x="240" y="143"/>
                </a:lnTo>
                <a:lnTo>
                  <a:pt x="246" y="144"/>
                </a:lnTo>
                <a:lnTo>
                  <a:pt x="252" y="144"/>
                </a:lnTo>
                <a:lnTo>
                  <a:pt x="259" y="143"/>
                </a:lnTo>
                <a:lnTo>
                  <a:pt x="281" y="139"/>
                </a:lnTo>
                <a:lnTo>
                  <a:pt x="305" y="135"/>
                </a:lnTo>
                <a:lnTo>
                  <a:pt x="331" y="129"/>
                </a:lnTo>
                <a:lnTo>
                  <a:pt x="360" y="123"/>
                </a:lnTo>
                <a:lnTo>
                  <a:pt x="387" y="114"/>
                </a:lnTo>
                <a:lnTo>
                  <a:pt x="413" y="107"/>
                </a:lnTo>
                <a:lnTo>
                  <a:pt x="438" y="99"/>
                </a:lnTo>
                <a:lnTo>
                  <a:pt x="459" y="91"/>
                </a:lnTo>
                <a:lnTo>
                  <a:pt x="492" y="94"/>
                </a:lnTo>
                <a:lnTo>
                  <a:pt x="519" y="95"/>
                </a:lnTo>
                <a:lnTo>
                  <a:pt x="540" y="95"/>
                </a:lnTo>
                <a:lnTo>
                  <a:pt x="557" y="95"/>
                </a:lnTo>
                <a:lnTo>
                  <a:pt x="563" y="96"/>
                </a:lnTo>
                <a:lnTo>
                  <a:pt x="569" y="97"/>
                </a:lnTo>
                <a:lnTo>
                  <a:pt x="573" y="98"/>
                </a:lnTo>
                <a:lnTo>
                  <a:pt x="576" y="101"/>
                </a:lnTo>
                <a:lnTo>
                  <a:pt x="579" y="105"/>
                </a:lnTo>
                <a:lnTo>
                  <a:pt x="580" y="110"/>
                </a:lnTo>
                <a:lnTo>
                  <a:pt x="581" y="116"/>
                </a:lnTo>
                <a:lnTo>
                  <a:pt x="582" y="124"/>
                </a:lnTo>
                <a:lnTo>
                  <a:pt x="583" y="134"/>
                </a:lnTo>
                <a:lnTo>
                  <a:pt x="587" y="146"/>
                </a:lnTo>
                <a:lnTo>
                  <a:pt x="592" y="158"/>
                </a:lnTo>
                <a:lnTo>
                  <a:pt x="598" y="171"/>
                </a:lnTo>
                <a:lnTo>
                  <a:pt x="615" y="200"/>
                </a:lnTo>
                <a:lnTo>
                  <a:pt x="635" y="230"/>
                </a:lnTo>
                <a:lnTo>
                  <a:pt x="656" y="259"/>
                </a:lnTo>
                <a:lnTo>
                  <a:pt x="675" y="287"/>
                </a:lnTo>
                <a:lnTo>
                  <a:pt x="683" y="299"/>
                </a:lnTo>
                <a:lnTo>
                  <a:pt x="690" y="311"/>
                </a:lnTo>
                <a:lnTo>
                  <a:pt x="695" y="322"/>
                </a:lnTo>
                <a:lnTo>
                  <a:pt x="698" y="331"/>
                </a:lnTo>
                <a:lnTo>
                  <a:pt x="702" y="342"/>
                </a:lnTo>
                <a:lnTo>
                  <a:pt x="707" y="350"/>
                </a:lnTo>
                <a:lnTo>
                  <a:pt x="714" y="357"/>
                </a:lnTo>
                <a:lnTo>
                  <a:pt x="720" y="365"/>
                </a:lnTo>
                <a:lnTo>
                  <a:pt x="725" y="370"/>
                </a:lnTo>
                <a:lnTo>
                  <a:pt x="730" y="375"/>
                </a:lnTo>
                <a:lnTo>
                  <a:pt x="733" y="378"/>
                </a:lnTo>
                <a:lnTo>
                  <a:pt x="733" y="382"/>
                </a:lnTo>
                <a:lnTo>
                  <a:pt x="733" y="383"/>
                </a:lnTo>
                <a:lnTo>
                  <a:pt x="732" y="385"/>
                </a:lnTo>
                <a:lnTo>
                  <a:pt x="730" y="385"/>
                </a:lnTo>
                <a:lnTo>
                  <a:pt x="726" y="386"/>
                </a:lnTo>
                <a:lnTo>
                  <a:pt x="719" y="387"/>
                </a:lnTo>
                <a:lnTo>
                  <a:pt x="706" y="388"/>
                </a:lnTo>
                <a:lnTo>
                  <a:pt x="669" y="389"/>
                </a:lnTo>
                <a:lnTo>
                  <a:pt x="608" y="389"/>
                </a:lnTo>
                <a:lnTo>
                  <a:pt x="586" y="389"/>
                </a:lnTo>
                <a:lnTo>
                  <a:pt x="559" y="389"/>
                </a:lnTo>
                <a:lnTo>
                  <a:pt x="530" y="390"/>
                </a:lnTo>
                <a:lnTo>
                  <a:pt x="499" y="391"/>
                </a:lnTo>
                <a:lnTo>
                  <a:pt x="469" y="394"/>
                </a:lnTo>
                <a:lnTo>
                  <a:pt x="439" y="397"/>
                </a:lnTo>
                <a:lnTo>
                  <a:pt x="427" y="399"/>
                </a:lnTo>
                <a:lnTo>
                  <a:pt x="414" y="402"/>
                </a:lnTo>
                <a:lnTo>
                  <a:pt x="404" y="405"/>
                </a:lnTo>
                <a:lnTo>
                  <a:pt x="394" y="409"/>
                </a:lnTo>
                <a:lnTo>
                  <a:pt x="358" y="412"/>
                </a:lnTo>
                <a:lnTo>
                  <a:pt x="327" y="415"/>
                </a:lnTo>
                <a:lnTo>
                  <a:pt x="301" y="419"/>
                </a:lnTo>
                <a:lnTo>
                  <a:pt x="279" y="422"/>
                </a:lnTo>
                <a:lnTo>
                  <a:pt x="269" y="422"/>
                </a:lnTo>
                <a:lnTo>
                  <a:pt x="262" y="422"/>
                </a:lnTo>
                <a:lnTo>
                  <a:pt x="254" y="419"/>
                </a:lnTo>
                <a:lnTo>
                  <a:pt x="249" y="417"/>
                </a:lnTo>
                <a:lnTo>
                  <a:pt x="245" y="414"/>
                </a:lnTo>
                <a:lnTo>
                  <a:pt x="242" y="409"/>
                </a:lnTo>
                <a:lnTo>
                  <a:pt x="240" y="404"/>
                </a:lnTo>
                <a:lnTo>
                  <a:pt x="240" y="395"/>
                </a:lnTo>
                <a:lnTo>
                  <a:pt x="239" y="385"/>
                </a:lnTo>
                <a:lnTo>
                  <a:pt x="234" y="371"/>
                </a:lnTo>
                <a:lnTo>
                  <a:pt x="229" y="355"/>
                </a:lnTo>
                <a:lnTo>
                  <a:pt x="222" y="337"/>
                </a:lnTo>
                <a:lnTo>
                  <a:pt x="204" y="297"/>
                </a:lnTo>
                <a:lnTo>
                  <a:pt x="184" y="254"/>
                </a:lnTo>
                <a:lnTo>
                  <a:pt x="163" y="210"/>
                </a:lnTo>
                <a:lnTo>
                  <a:pt x="144" y="167"/>
                </a:lnTo>
                <a:lnTo>
                  <a:pt x="137" y="147"/>
                </a:lnTo>
                <a:lnTo>
                  <a:pt x="130" y="129"/>
                </a:lnTo>
                <a:lnTo>
                  <a:pt x="125" y="112"/>
                </a:lnTo>
                <a:lnTo>
                  <a:pt x="123" y="97"/>
                </a:lnTo>
                <a:lnTo>
                  <a:pt x="119" y="97"/>
                </a:lnTo>
                <a:lnTo>
                  <a:pt x="107" y="97"/>
                </a:lnTo>
                <a:lnTo>
                  <a:pt x="91" y="97"/>
                </a:lnTo>
                <a:lnTo>
                  <a:pt x="71" y="97"/>
                </a:lnTo>
                <a:lnTo>
                  <a:pt x="50" y="97"/>
                </a:lnTo>
                <a:lnTo>
                  <a:pt x="30" y="97"/>
                </a:lnTo>
                <a:lnTo>
                  <a:pt x="14" y="97"/>
                </a:lnTo>
                <a:lnTo>
                  <a:pt x="0" y="97"/>
                </a:lnTo>
                <a:lnTo>
                  <a:pt x="2" y="111"/>
                </a:lnTo>
                <a:lnTo>
                  <a:pt x="4" y="125"/>
                </a:lnTo>
                <a:lnTo>
                  <a:pt x="7" y="137"/>
                </a:lnTo>
                <a:lnTo>
                  <a:pt x="12" y="151"/>
                </a:lnTo>
                <a:lnTo>
                  <a:pt x="21" y="177"/>
                </a:lnTo>
                <a:lnTo>
                  <a:pt x="33" y="204"/>
                </a:lnTo>
                <a:lnTo>
                  <a:pt x="45" y="230"/>
                </a:lnTo>
                <a:lnTo>
                  <a:pt x="60" y="256"/>
                </a:lnTo>
                <a:lnTo>
                  <a:pt x="76" y="283"/>
                </a:lnTo>
                <a:lnTo>
                  <a:pt x="91" y="308"/>
                </a:lnTo>
                <a:lnTo>
                  <a:pt x="106" y="334"/>
                </a:lnTo>
                <a:lnTo>
                  <a:pt x="122" y="361"/>
                </a:lnTo>
                <a:lnTo>
                  <a:pt x="137" y="387"/>
                </a:lnTo>
                <a:lnTo>
                  <a:pt x="149" y="413"/>
                </a:lnTo>
                <a:lnTo>
                  <a:pt x="161" y="440"/>
                </a:lnTo>
                <a:lnTo>
                  <a:pt x="170" y="466"/>
                </a:lnTo>
                <a:lnTo>
                  <a:pt x="175" y="478"/>
                </a:lnTo>
                <a:lnTo>
                  <a:pt x="178" y="492"/>
                </a:lnTo>
                <a:lnTo>
                  <a:pt x="180" y="505"/>
                </a:lnTo>
                <a:lnTo>
                  <a:pt x="182" y="518"/>
                </a:lnTo>
                <a:lnTo>
                  <a:pt x="201" y="518"/>
                </a:lnTo>
                <a:lnTo>
                  <a:pt x="213" y="518"/>
                </a:lnTo>
                <a:lnTo>
                  <a:pt x="243" y="512"/>
                </a:lnTo>
                <a:lnTo>
                  <a:pt x="276" y="507"/>
                </a:lnTo>
                <a:lnTo>
                  <a:pt x="312" y="503"/>
                </a:lnTo>
                <a:lnTo>
                  <a:pt x="349" y="498"/>
                </a:lnTo>
                <a:lnTo>
                  <a:pt x="387" y="494"/>
                </a:lnTo>
                <a:lnTo>
                  <a:pt x="423" y="489"/>
                </a:lnTo>
                <a:lnTo>
                  <a:pt x="439" y="486"/>
                </a:lnTo>
                <a:lnTo>
                  <a:pt x="456" y="482"/>
                </a:lnTo>
                <a:lnTo>
                  <a:pt x="471" y="477"/>
                </a:lnTo>
                <a:lnTo>
                  <a:pt x="485" y="473"/>
                </a:lnTo>
                <a:lnTo>
                  <a:pt x="499" y="475"/>
                </a:lnTo>
                <a:lnTo>
                  <a:pt x="517" y="476"/>
                </a:lnTo>
                <a:lnTo>
                  <a:pt x="539" y="476"/>
                </a:lnTo>
                <a:lnTo>
                  <a:pt x="563" y="475"/>
                </a:lnTo>
                <a:lnTo>
                  <a:pt x="617" y="472"/>
                </a:lnTo>
                <a:lnTo>
                  <a:pt x="677" y="466"/>
                </a:lnTo>
                <a:lnTo>
                  <a:pt x="736" y="458"/>
                </a:lnTo>
                <a:lnTo>
                  <a:pt x="792" y="450"/>
                </a:lnTo>
                <a:lnTo>
                  <a:pt x="839" y="443"/>
                </a:lnTo>
                <a:lnTo>
                  <a:pt x="873" y="434"/>
                </a:lnTo>
                <a:lnTo>
                  <a:pt x="881" y="432"/>
                </a:lnTo>
                <a:lnTo>
                  <a:pt x="887" y="429"/>
                </a:lnTo>
                <a:lnTo>
                  <a:pt x="893" y="426"/>
                </a:lnTo>
                <a:lnTo>
                  <a:pt x="897" y="422"/>
                </a:lnTo>
                <a:lnTo>
                  <a:pt x="900" y="417"/>
                </a:lnTo>
                <a:lnTo>
                  <a:pt x="902" y="412"/>
                </a:lnTo>
                <a:lnTo>
                  <a:pt x="903" y="407"/>
                </a:lnTo>
                <a:lnTo>
                  <a:pt x="904" y="402"/>
                </a:lnTo>
                <a:lnTo>
                  <a:pt x="903" y="395"/>
                </a:lnTo>
                <a:lnTo>
                  <a:pt x="902" y="389"/>
                </a:lnTo>
                <a:lnTo>
                  <a:pt x="900" y="382"/>
                </a:lnTo>
                <a:lnTo>
                  <a:pt x="897" y="375"/>
                </a:lnTo>
                <a:lnTo>
                  <a:pt x="889" y="361"/>
                </a:lnTo>
                <a:lnTo>
                  <a:pt x="881" y="346"/>
                </a:lnTo>
                <a:lnTo>
                  <a:pt x="870" y="330"/>
                </a:lnTo>
                <a:lnTo>
                  <a:pt x="860" y="315"/>
                </a:lnTo>
                <a:lnTo>
                  <a:pt x="848" y="300"/>
                </a:lnTo>
                <a:lnTo>
                  <a:pt x="837" y="287"/>
                </a:lnTo>
                <a:lnTo>
                  <a:pt x="816" y="264"/>
                </a:lnTo>
                <a:lnTo>
                  <a:pt x="802" y="247"/>
                </a:lnTo>
                <a:lnTo>
                  <a:pt x="778" y="217"/>
                </a:lnTo>
                <a:lnTo>
                  <a:pt x="756" y="187"/>
                </a:lnTo>
                <a:lnTo>
                  <a:pt x="734" y="155"/>
                </a:lnTo>
                <a:lnTo>
                  <a:pt x="712" y="125"/>
                </a:lnTo>
                <a:lnTo>
                  <a:pt x="688" y="94"/>
                </a:lnTo>
                <a:lnTo>
                  <a:pt x="662" y="64"/>
                </a:lnTo>
                <a:lnTo>
                  <a:pt x="648" y="49"/>
                </a:lnTo>
                <a:lnTo>
                  <a:pt x="633" y="35"/>
                </a:lnTo>
                <a:lnTo>
                  <a:pt x="618" y="20"/>
                </a:lnTo>
                <a:lnTo>
                  <a:pt x="60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94680" y="3165480"/>
            <a:ext cx="15840" cy="11160"/>
          </a:xfrm>
          <a:custGeom>
            <a:avLst/>
            <a:gdLst/>
            <a:ahLst/>
            <a:rect l="l" t="t" r="r" b="b"/>
            <a:pathLst>
              <a:path w="912" h="520">
                <a:moveTo>
                  <a:pt x="607" y="9"/>
                </a:moveTo>
                <a:lnTo>
                  <a:pt x="606" y="6"/>
                </a:lnTo>
                <a:lnTo>
                  <a:pt x="604" y="4"/>
                </a:lnTo>
                <a:lnTo>
                  <a:pt x="601" y="3"/>
                </a:lnTo>
                <a:lnTo>
                  <a:pt x="598" y="2"/>
                </a:lnTo>
                <a:lnTo>
                  <a:pt x="587" y="1"/>
                </a:lnTo>
                <a:lnTo>
                  <a:pt x="576" y="0"/>
                </a:lnTo>
                <a:lnTo>
                  <a:pt x="564" y="1"/>
                </a:lnTo>
                <a:lnTo>
                  <a:pt x="553" y="1"/>
                </a:lnTo>
                <a:lnTo>
                  <a:pt x="542" y="2"/>
                </a:lnTo>
                <a:lnTo>
                  <a:pt x="536" y="2"/>
                </a:lnTo>
                <a:lnTo>
                  <a:pt x="507" y="7"/>
                </a:lnTo>
                <a:lnTo>
                  <a:pt x="470" y="15"/>
                </a:lnTo>
                <a:lnTo>
                  <a:pt x="425" y="22"/>
                </a:lnTo>
                <a:lnTo>
                  <a:pt x="377" y="30"/>
                </a:lnTo>
                <a:lnTo>
                  <a:pt x="328" y="37"/>
                </a:lnTo>
                <a:lnTo>
                  <a:pt x="282" y="42"/>
                </a:lnTo>
                <a:lnTo>
                  <a:pt x="242" y="46"/>
                </a:lnTo>
                <a:lnTo>
                  <a:pt x="213" y="47"/>
                </a:lnTo>
                <a:lnTo>
                  <a:pt x="207" y="47"/>
                </a:lnTo>
                <a:lnTo>
                  <a:pt x="201" y="49"/>
                </a:lnTo>
                <a:lnTo>
                  <a:pt x="197" y="50"/>
                </a:lnTo>
                <a:lnTo>
                  <a:pt x="193" y="52"/>
                </a:lnTo>
                <a:lnTo>
                  <a:pt x="190" y="54"/>
                </a:lnTo>
                <a:lnTo>
                  <a:pt x="187" y="57"/>
                </a:lnTo>
                <a:lnTo>
                  <a:pt x="185" y="59"/>
                </a:lnTo>
                <a:lnTo>
                  <a:pt x="183" y="62"/>
                </a:lnTo>
                <a:lnTo>
                  <a:pt x="180" y="70"/>
                </a:lnTo>
                <a:lnTo>
                  <a:pt x="179" y="78"/>
                </a:lnTo>
                <a:lnTo>
                  <a:pt x="181" y="86"/>
                </a:lnTo>
                <a:lnTo>
                  <a:pt x="185" y="95"/>
                </a:lnTo>
                <a:lnTo>
                  <a:pt x="189" y="104"/>
                </a:lnTo>
                <a:lnTo>
                  <a:pt x="195" y="113"/>
                </a:lnTo>
                <a:lnTo>
                  <a:pt x="203" y="120"/>
                </a:lnTo>
                <a:lnTo>
                  <a:pt x="212" y="126"/>
                </a:lnTo>
                <a:lnTo>
                  <a:pt x="221" y="132"/>
                </a:lnTo>
                <a:lnTo>
                  <a:pt x="233" y="136"/>
                </a:lnTo>
                <a:lnTo>
                  <a:pt x="238" y="137"/>
                </a:lnTo>
                <a:lnTo>
                  <a:pt x="245" y="138"/>
                </a:lnTo>
                <a:lnTo>
                  <a:pt x="251" y="138"/>
                </a:lnTo>
                <a:lnTo>
                  <a:pt x="258" y="138"/>
                </a:lnTo>
                <a:lnTo>
                  <a:pt x="281" y="135"/>
                </a:lnTo>
                <a:lnTo>
                  <a:pt x="307" y="131"/>
                </a:lnTo>
                <a:lnTo>
                  <a:pt x="333" y="124"/>
                </a:lnTo>
                <a:lnTo>
                  <a:pt x="361" y="118"/>
                </a:lnTo>
                <a:lnTo>
                  <a:pt x="389" y="111"/>
                </a:lnTo>
                <a:lnTo>
                  <a:pt x="416" y="104"/>
                </a:lnTo>
                <a:lnTo>
                  <a:pt x="441" y="98"/>
                </a:lnTo>
                <a:lnTo>
                  <a:pt x="464" y="93"/>
                </a:lnTo>
                <a:lnTo>
                  <a:pt x="498" y="94"/>
                </a:lnTo>
                <a:lnTo>
                  <a:pt x="524" y="94"/>
                </a:lnTo>
                <a:lnTo>
                  <a:pt x="546" y="94"/>
                </a:lnTo>
                <a:lnTo>
                  <a:pt x="562" y="95"/>
                </a:lnTo>
                <a:lnTo>
                  <a:pt x="568" y="95"/>
                </a:lnTo>
                <a:lnTo>
                  <a:pt x="574" y="97"/>
                </a:lnTo>
                <a:lnTo>
                  <a:pt x="579" y="99"/>
                </a:lnTo>
                <a:lnTo>
                  <a:pt x="582" y="102"/>
                </a:lnTo>
                <a:lnTo>
                  <a:pt x="584" y="106"/>
                </a:lnTo>
                <a:lnTo>
                  <a:pt x="586" y="111"/>
                </a:lnTo>
                <a:lnTo>
                  <a:pt x="587" y="117"/>
                </a:lnTo>
                <a:lnTo>
                  <a:pt x="587" y="125"/>
                </a:lnTo>
                <a:lnTo>
                  <a:pt x="588" y="135"/>
                </a:lnTo>
                <a:lnTo>
                  <a:pt x="591" y="145"/>
                </a:lnTo>
                <a:lnTo>
                  <a:pt x="597" y="157"/>
                </a:lnTo>
                <a:lnTo>
                  <a:pt x="604" y="170"/>
                </a:lnTo>
                <a:lnTo>
                  <a:pt x="621" y="197"/>
                </a:lnTo>
                <a:lnTo>
                  <a:pt x="641" y="225"/>
                </a:lnTo>
                <a:lnTo>
                  <a:pt x="661" y="255"/>
                </a:lnTo>
                <a:lnTo>
                  <a:pt x="680" y="281"/>
                </a:lnTo>
                <a:lnTo>
                  <a:pt x="688" y="295"/>
                </a:lnTo>
                <a:lnTo>
                  <a:pt x="694" y="307"/>
                </a:lnTo>
                <a:lnTo>
                  <a:pt x="700" y="317"/>
                </a:lnTo>
                <a:lnTo>
                  <a:pt x="704" y="325"/>
                </a:lnTo>
                <a:lnTo>
                  <a:pt x="708" y="336"/>
                </a:lnTo>
                <a:lnTo>
                  <a:pt x="713" y="346"/>
                </a:lnTo>
                <a:lnTo>
                  <a:pt x="720" y="353"/>
                </a:lnTo>
                <a:lnTo>
                  <a:pt x="726" y="359"/>
                </a:lnTo>
                <a:lnTo>
                  <a:pt x="731" y="366"/>
                </a:lnTo>
                <a:lnTo>
                  <a:pt x="735" y="370"/>
                </a:lnTo>
                <a:lnTo>
                  <a:pt x="739" y="374"/>
                </a:lnTo>
                <a:lnTo>
                  <a:pt x="740" y="377"/>
                </a:lnTo>
                <a:lnTo>
                  <a:pt x="740" y="378"/>
                </a:lnTo>
                <a:lnTo>
                  <a:pt x="739" y="379"/>
                </a:lnTo>
                <a:lnTo>
                  <a:pt x="737" y="380"/>
                </a:lnTo>
                <a:lnTo>
                  <a:pt x="733" y="381"/>
                </a:lnTo>
                <a:lnTo>
                  <a:pt x="725" y="382"/>
                </a:lnTo>
                <a:lnTo>
                  <a:pt x="711" y="383"/>
                </a:lnTo>
                <a:lnTo>
                  <a:pt x="671" y="384"/>
                </a:lnTo>
                <a:lnTo>
                  <a:pt x="607" y="384"/>
                </a:lnTo>
                <a:lnTo>
                  <a:pt x="586" y="384"/>
                </a:lnTo>
                <a:lnTo>
                  <a:pt x="562" y="384"/>
                </a:lnTo>
                <a:lnTo>
                  <a:pt x="533" y="386"/>
                </a:lnTo>
                <a:lnTo>
                  <a:pt x="502" y="388"/>
                </a:lnTo>
                <a:lnTo>
                  <a:pt x="472" y="391"/>
                </a:lnTo>
                <a:lnTo>
                  <a:pt x="442" y="395"/>
                </a:lnTo>
                <a:lnTo>
                  <a:pt x="429" y="398"/>
                </a:lnTo>
                <a:lnTo>
                  <a:pt x="416" y="401"/>
                </a:lnTo>
                <a:lnTo>
                  <a:pt x="404" y="406"/>
                </a:lnTo>
                <a:lnTo>
                  <a:pt x="394" y="410"/>
                </a:lnTo>
                <a:lnTo>
                  <a:pt x="357" y="411"/>
                </a:lnTo>
                <a:lnTo>
                  <a:pt x="327" y="414"/>
                </a:lnTo>
                <a:lnTo>
                  <a:pt x="301" y="416"/>
                </a:lnTo>
                <a:lnTo>
                  <a:pt x="280" y="418"/>
                </a:lnTo>
                <a:lnTo>
                  <a:pt x="272" y="418"/>
                </a:lnTo>
                <a:lnTo>
                  <a:pt x="265" y="418"/>
                </a:lnTo>
                <a:lnTo>
                  <a:pt x="258" y="417"/>
                </a:lnTo>
                <a:lnTo>
                  <a:pt x="254" y="415"/>
                </a:lnTo>
                <a:lnTo>
                  <a:pt x="250" y="413"/>
                </a:lnTo>
                <a:lnTo>
                  <a:pt x="247" y="409"/>
                </a:lnTo>
                <a:lnTo>
                  <a:pt x="246" y="403"/>
                </a:lnTo>
                <a:lnTo>
                  <a:pt x="245" y="397"/>
                </a:lnTo>
                <a:lnTo>
                  <a:pt x="244" y="384"/>
                </a:lnTo>
                <a:lnTo>
                  <a:pt x="240" y="370"/>
                </a:lnTo>
                <a:lnTo>
                  <a:pt x="235" y="354"/>
                </a:lnTo>
                <a:lnTo>
                  <a:pt x="228" y="335"/>
                </a:lnTo>
                <a:lnTo>
                  <a:pt x="210" y="294"/>
                </a:lnTo>
                <a:lnTo>
                  <a:pt x="188" y="250"/>
                </a:lnTo>
                <a:lnTo>
                  <a:pt x="167" y="205"/>
                </a:lnTo>
                <a:lnTo>
                  <a:pt x="147" y="162"/>
                </a:lnTo>
                <a:lnTo>
                  <a:pt x="138" y="142"/>
                </a:lnTo>
                <a:lnTo>
                  <a:pt x="131" y="124"/>
                </a:lnTo>
                <a:lnTo>
                  <a:pt x="126" y="107"/>
                </a:lnTo>
                <a:lnTo>
                  <a:pt x="122" y="93"/>
                </a:lnTo>
                <a:lnTo>
                  <a:pt x="118" y="93"/>
                </a:lnTo>
                <a:lnTo>
                  <a:pt x="108" y="93"/>
                </a:lnTo>
                <a:lnTo>
                  <a:pt x="92" y="93"/>
                </a:lnTo>
                <a:lnTo>
                  <a:pt x="73" y="93"/>
                </a:lnTo>
                <a:lnTo>
                  <a:pt x="52" y="93"/>
                </a:lnTo>
                <a:lnTo>
                  <a:pt x="32" y="93"/>
                </a:lnTo>
                <a:lnTo>
                  <a:pt x="13" y="93"/>
                </a:lnTo>
                <a:lnTo>
                  <a:pt x="0" y="93"/>
                </a:lnTo>
                <a:lnTo>
                  <a:pt x="1" y="106"/>
                </a:lnTo>
                <a:lnTo>
                  <a:pt x="3" y="119"/>
                </a:lnTo>
                <a:lnTo>
                  <a:pt x="6" y="133"/>
                </a:lnTo>
                <a:lnTo>
                  <a:pt x="10" y="146"/>
                </a:lnTo>
                <a:lnTo>
                  <a:pt x="20" y="173"/>
                </a:lnTo>
                <a:lnTo>
                  <a:pt x="31" y="199"/>
                </a:lnTo>
                <a:lnTo>
                  <a:pt x="45" y="225"/>
                </a:lnTo>
                <a:lnTo>
                  <a:pt x="58" y="251"/>
                </a:lnTo>
                <a:lnTo>
                  <a:pt x="74" y="277"/>
                </a:lnTo>
                <a:lnTo>
                  <a:pt x="90" y="303"/>
                </a:lnTo>
                <a:lnTo>
                  <a:pt x="106" y="330"/>
                </a:lnTo>
                <a:lnTo>
                  <a:pt x="121" y="355"/>
                </a:lnTo>
                <a:lnTo>
                  <a:pt x="135" y="381"/>
                </a:lnTo>
                <a:lnTo>
                  <a:pt x="148" y="408"/>
                </a:lnTo>
                <a:lnTo>
                  <a:pt x="159" y="434"/>
                </a:lnTo>
                <a:lnTo>
                  <a:pt x="169" y="460"/>
                </a:lnTo>
                <a:lnTo>
                  <a:pt x="173" y="474"/>
                </a:lnTo>
                <a:lnTo>
                  <a:pt x="176" y="487"/>
                </a:lnTo>
                <a:lnTo>
                  <a:pt x="178" y="500"/>
                </a:lnTo>
                <a:lnTo>
                  <a:pt x="180" y="514"/>
                </a:lnTo>
                <a:lnTo>
                  <a:pt x="199" y="520"/>
                </a:lnTo>
                <a:lnTo>
                  <a:pt x="213" y="514"/>
                </a:lnTo>
                <a:lnTo>
                  <a:pt x="241" y="508"/>
                </a:lnTo>
                <a:lnTo>
                  <a:pt x="276" y="502"/>
                </a:lnTo>
                <a:lnTo>
                  <a:pt x="313" y="497"/>
                </a:lnTo>
                <a:lnTo>
                  <a:pt x="351" y="493"/>
                </a:lnTo>
                <a:lnTo>
                  <a:pt x="389" y="489"/>
                </a:lnTo>
                <a:lnTo>
                  <a:pt x="424" y="483"/>
                </a:lnTo>
                <a:lnTo>
                  <a:pt x="441" y="480"/>
                </a:lnTo>
                <a:lnTo>
                  <a:pt x="457" y="477"/>
                </a:lnTo>
                <a:lnTo>
                  <a:pt x="471" y="473"/>
                </a:lnTo>
                <a:lnTo>
                  <a:pt x="484" y="469"/>
                </a:lnTo>
                <a:lnTo>
                  <a:pt x="499" y="470"/>
                </a:lnTo>
                <a:lnTo>
                  <a:pt x="518" y="471"/>
                </a:lnTo>
                <a:lnTo>
                  <a:pt x="541" y="471"/>
                </a:lnTo>
                <a:lnTo>
                  <a:pt x="565" y="471"/>
                </a:lnTo>
                <a:lnTo>
                  <a:pt x="621" y="467"/>
                </a:lnTo>
                <a:lnTo>
                  <a:pt x="681" y="461"/>
                </a:lnTo>
                <a:lnTo>
                  <a:pt x="741" y="454"/>
                </a:lnTo>
                <a:lnTo>
                  <a:pt x="796" y="446"/>
                </a:lnTo>
                <a:lnTo>
                  <a:pt x="844" y="437"/>
                </a:lnTo>
                <a:lnTo>
                  <a:pt x="878" y="430"/>
                </a:lnTo>
                <a:lnTo>
                  <a:pt x="887" y="428"/>
                </a:lnTo>
                <a:lnTo>
                  <a:pt x="893" y="424"/>
                </a:lnTo>
                <a:lnTo>
                  <a:pt x="899" y="421"/>
                </a:lnTo>
                <a:lnTo>
                  <a:pt x="904" y="417"/>
                </a:lnTo>
                <a:lnTo>
                  <a:pt x="908" y="413"/>
                </a:lnTo>
                <a:lnTo>
                  <a:pt x="910" y="408"/>
                </a:lnTo>
                <a:lnTo>
                  <a:pt x="912" y="402"/>
                </a:lnTo>
                <a:lnTo>
                  <a:pt x="912" y="396"/>
                </a:lnTo>
                <a:lnTo>
                  <a:pt x="912" y="391"/>
                </a:lnTo>
                <a:lnTo>
                  <a:pt x="911" y="383"/>
                </a:lnTo>
                <a:lnTo>
                  <a:pt x="910" y="377"/>
                </a:lnTo>
                <a:lnTo>
                  <a:pt x="907" y="370"/>
                </a:lnTo>
                <a:lnTo>
                  <a:pt x="901" y="356"/>
                </a:lnTo>
                <a:lnTo>
                  <a:pt x="892" y="340"/>
                </a:lnTo>
                <a:lnTo>
                  <a:pt x="882" y="325"/>
                </a:lnTo>
                <a:lnTo>
                  <a:pt x="871" y="311"/>
                </a:lnTo>
                <a:lnTo>
                  <a:pt x="860" y="296"/>
                </a:lnTo>
                <a:lnTo>
                  <a:pt x="848" y="282"/>
                </a:lnTo>
                <a:lnTo>
                  <a:pt x="828" y="258"/>
                </a:lnTo>
                <a:lnTo>
                  <a:pt x="813" y="241"/>
                </a:lnTo>
                <a:lnTo>
                  <a:pt x="800" y="228"/>
                </a:lnTo>
                <a:lnTo>
                  <a:pt x="786" y="213"/>
                </a:lnTo>
                <a:lnTo>
                  <a:pt x="773" y="197"/>
                </a:lnTo>
                <a:lnTo>
                  <a:pt x="761" y="182"/>
                </a:lnTo>
                <a:lnTo>
                  <a:pt x="738" y="153"/>
                </a:lnTo>
                <a:lnTo>
                  <a:pt x="714" y="122"/>
                </a:lnTo>
                <a:lnTo>
                  <a:pt x="691" y="93"/>
                </a:lnTo>
                <a:lnTo>
                  <a:pt x="666" y="64"/>
                </a:lnTo>
                <a:lnTo>
                  <a:pt x="652" y="50"/>
                </a:lnTo>
                <a:lnTo>
                  <a:pt x="639" y="36"/>
                </a:lnTo>
                <a:lnTo>
                  <a:pt x="623" y="22"/>
                </a:lnTo>
                <a:lnTo>
                  <a:pt x="60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13760" y="3160800"/>
            <a:ext cx="14040" cy="12600"/>
          </a:xfrm>
          <a:custGeom>
            <a:avLst/>
            <a:gdLst/>
            <a:ahLst/>
            <a:rect l="l" t="t" r="r" b="b"/>
            <a:pathLst>
              <a:path w="913" h="518">
                <a:moveTo>
                  <a:pt x="607" y="14"/>
                </a:moveTo>
                <a:lnTo>
                  <a:pt x="606" y="12"/>
                </a:lnTo>
                <a:lnTo>
                  <a:pt x="604" y="10"/>
                </a:lnTo>
                <a:lnTo>
                  <a:pt x="602" y="9"/>
                </a:lnTo>
                <a:lnTo>
                  <a:pt x="598" y="8"/>
                </a:lnTo>
                <a:lnTo>
                  <a:pt x="587" y="6"/>
                </a:lnTo>
                <a:lnTo>
                  <a:pt x="576" y="5"/>
                </a:lnTo>
                <a:lnTo>
                  <a:pt x="562" y="5"/>
                </a:lnTo>
                <a:lnTo>
                  <a:pt x="549" y="3"/>
                </a:lnTo>
                <a:lnTo>
                  <a:pt x="538" y="2"/>
                </a:lnTo>
                <a:lnTo>
                  <a:pt x="529" y="0"/>
                </a:lnTo>
                <a:lnTo>
                  <a:pt x="503" y="9"/>
                </a:lnTo>
                <a:lnTo>
                  <a:pt x="467" y="17"/>
                </a:lnTo>
                <a:lnTo>
                  <a:pt x="423" y="26"/>
                </a:lnTo>
                <a:lnTo>
                  <a:pt x="376" y="34"/>
                </a:lnTo>
                <a:lnTo>
                  <a:pt x="328" y="41"/>
                </a:lnTo>
                <a:lnTo>
                  <a:pt x="282" y="48"/>
                </a:lnTo>
                <a:lnTo>
                  <a:pt x="242" y="51"/>
                </a:lnTo>
                <a:lnTo>
                  <a:pt x="213" y="53"/>
                </a:lnTo>
                <a:lnTo>
                  <a:pt x="207" y="53"/>
                </a:lnTo>
                <a:lnTo>
                  <a:pt x="201" y="54"/>
                </a:lnTo>
                <a:lnTo>
                  <a:pt x="197" y="55"/>
                </a:lnTo>
                <a:lnTo>
                  <a:pt x="193" y="57"/>
                </a:lnTo>
                <a:lnTo>
                  <a:pt x="190" y="59"/>
                </a:lnTo>
                <a:lnTo>
                  <a:pt x="187" y="61"/>
                </a:lnTo>
                <a:lnTo>
                  <a:pt x="185" y="65"/>
                </a:lnTo>
                <a:lnTo>
                  <a:pt x="182" y="68"/>
                </a:lnTo>
                <a:lnTo>
                  <a:pt x="180" y="75"/>
                </a:lnTo>
                <a:lnTo>
                  <a:pt x="180" y="84"/>
                </a:lnTo>
                <a:lnTo>
                  <a:pt x="181" y="92"/>
                </a:lnTo>
                <a:lnTo>
                  <a:pt x="185" y="100"/>
                </a:lnTo>
                <a:lnTo>
                  <a:pt x="189" y="109"/>
                </a:lnTo>
                <a:lnTo>
                  <a:pt x="195" y="117"/>
                </a:lnTo>
                <a:lnTo>
                  <a:pt x="202" y="126"/>
                </a:lnTo>
                <a:lnTo>
                  <a:pt x="212" y="132"/>
                </a:lnTo>
                <a:lnTo>
                  <a:pt x="221" y="137"/>
                </a:lnTo>
                <a:lnTo>
                  <a:pt x="233" y="141"/>
                </a:lnTo>
                <a:lnTo>
                  <a:pt x="239" y="142"/>
                </a:lnTo>
                <a:lnTo>
                  <a:pt x="246" y="144"/>
                </a:lnTo>
                <a:lnTo>
                  <a:pt x="252" y="144"/>
                </a:lnTo>
                <a:lnTo>
                  <a:pt x="258" y="144"/>
                </a:lnTo>
                <a:lnTo>
                  <a:pt x="279" y="140"/>
                </a:lnTo>
                <a:lnTo>
                  <a:pt x="304" y="135"/>
                </a:lnTo>
                <a:lnTo>
                  <a:pt x="331" y="129"/>
                </a:lnTo>
                <a:lnTo>
                  <a:pt x="359" y="122"/>
                </a:lnTo>
                <a:lnTo>
                  <a:pt x="387" y="115"/>
                </a:lnTo>
                <a:lnTo>
                  <a:pt x="415" y="107"/>
                </a:lnTo>
                <a:lnTo>
                  <a:pt x="441" y="99"/>
                </a:lnTo>
                <a:lnTo>
                  <a:pt x="465" y="92"/>
                </a:lnTo>
                <a:lnTo>
                  <a:pt x="498" y="95"/>
                </a:lnTo>
                <a:lnTo>
                  <a:pt x="525" y="96"/>
                </a:lnTo>
                <a:lnTo>
                  <a:pt x="546" y="97"/>
                </a:lnTo>
                <a:lnTo>
                  <a:pt x="563" y="98"/>
                </a:lnTo>
                <a:lnTo>
                  <a:pt x="569" y="100"/>
                </a:lnTo>
                <a:lnTo>
                  <a:pt x="575" y="101"/>
                </a:lnTo>
                <a:lnTo>
                  <a:pt x="579" y="104"/>
                </a:lnTo>
                <a:lnTo>
                  <a:pt x="582" y="107"/>
                </a:lnTo>
                <a:lnTo>
                  <a:pt x="584" y="111"/>
                </a:lnTo>
                <a:lnTo>
                  <a:pt x="586" y="116"/>
                </a:lnTo>
                <a:lnTo>
                  <a:pt x="587" y="122"/>
                </a:lnTo>
                <a:lnTo>
                  <a:pt x="587" y="130"/>
                </a:lnTo>
                <a:lnTo>
                  <a:pt x="588" y="139"/>
                </a:lnTo>
                <a:lnTo>
                  <a:pt x="592" y="150"/>
                </a:lnTo>
                <a:lnTo>
                  <a:pt x="597" y="161"/>
                </a:lnTo>
                <a:lnTo>
                  <a:pt x="604" y="174"/>
                </a:lnTo>
                <a:lnTo>
                  <a:pt x="621" y="201"/>
                </a:lnTo>
                <a:lnTo>
                  <a:pt x="641" y="231"/>
                </a:lnTo>
                <a:lnTo>
                  <a:pt x="662" y="259"/>
                </a:lnTo>
                <a:lnTo>
                  <a:pt x="680" y="287"/>
                </a:lnTo>
                <a:lnTo>
                  <a:pt x="688" y="299"/>
                </a:lnTo>
                <a:lnTo>
                  <a:pt x="696" y="311"/>
                </a:lnTo>
                <a:lnTo>
                  <a:pt x="701" y="322"/>
                </a:lnTo>
                <a:lnTo>
                  <a:pt x="704" y="331"/>
                </a:lnTo>
                <a:lnTo>
                  <a:pt x="708" y="342"/>
                </a:lnTo>
                <a:lnTo>
                  <a:pt x="713" y="350"/>
                </a:lnTo>
                <a:lnTo>
                  <a:pt x="720" y="358"/>
                </a:lnTo>
                <a:lnTo>
                  <a:pt x="726" y="365"/>
                </a:lnTo>
                <a:lnTo>
                  <a:pt x="731" y="370"/>
                </a:lnTo>
                <a:lnTo>
                  <a:pt x="737" y="375"/>
                </a:lnTo>
                <a:lnTo>
                  <a:pt x="740" y="379"/>
                </a:lnTo>
                <a:lnTo>
                  <a:pt x="741" y="382"/>
                </a:lnTo>
                <a:lnTo>
                  <a:pt x="740" y="384"/>
                </a:lnTo>
                <a:lnTo>
                  <a:pt x="739" y="385"/>
                </a:lnTo>
                <a:lnTo>
                  <a:pt x="737" y="386"/>
                </a:lnTo>
                <a:lnTo>
                  <a:pt x="733" y="386"/>
                </a:lnTo>
                <a:lnTo>
                  <a:pt x="725" y="388"/>
                </a:lnTo>
                <a:lnTo>
                  <a:pt x="712" y="388"/>
                </a:lnTo>
                <a:lnTo>
                  <a:pt x="671" y="389"/>
                </a:lnTo>
                <a:lnTo>
                  <a:pt x="607" y="389"/>
                </a:lnTo>
                <a:lnTo>
                  <a:pt x="585" y="389"/>
                </a:lnTo>
                <a:lnTo>
                  <a:pt x="559" y="390"/>
                </a:lnTo>
                <a:lnTo>
                  <a:pt x="530" y="390"/>
                </a:lnTo>
                <a:lnTo>
                  <a:pt x="500" y="392"/>
                </a:lnTo>
                <a:lnTo>
                  <a:pt x="471" y="394"/>
                </a:lnTo>
                <a:lnTo>
                  <a:pt x="441" y="397"/>
                </a:lnTo>
                <a:lnTo>
                  <a:pt x="428" y="399"/>
                </a:lnTo>
                <a:lnTo>
                  <a:pt x="416" y="403"/>
                </a:lnTo>
                <a:lnTo>
                  <a:pt x="404" y="406"/>
                </a:lnTo>
                <a:lnTo>
                  <a:pt x="394" y="409"/>
                </a:lnTo>
                <a:lnTo>
                  <a:pt x="357" y="414"/>
                </a:lnTo>
                <a:lnTo>
                  <a:pt x="325" y="419"/>
                </a:lnTo>
                <a:lnTo>
                  <a:pt x="299" y="425"/>
                </a:lnTo>
                <a:lnTo>
                  <a:pt x="277" y="427"/>
                </a:lnTo>
                <a:lnTo>
                  <a:pt x="269" y="428"/>
                </a:lnTo>
                <a:lnTo>
                  <a:pt x="260" y="428"/>
                </a:lnTo>
                <a:lnTo>
                  <a:pt x="254" y="427"/>
                </a:lnTo>
                <a:lnTo>
                  <a:pt x="249" y="424"/>
                </a:lnTo>
                <a:lnTo>
                  <a:pt x="245" y="421"/>
                </a:lnTo>
                <a:lnTo>
                  <a:pt x="241" y="416"/>
                </a:lnTo>
                <a:lnTo>
                  <a:pt x="239" y="410"/>
                </a:lnTo>
                <a:lnTo>
                  <a:pt x="238" y="403"/>
                </a:lnTo>
                <a:lnTo>
                  <a:pt x="237" y="390"/>
                </a:lnTo>
                <a:lnTo>
                  <a:pt x="234" y="375"/>
                </a:lnTo>
                <a:lnTo>
                  <a:pt x="229" y="358"/>
                </a:lnTo>
                <a:lnTo>
                  <a:pt x="221" y="340"/>
                </a:lnTo>
                <a:lnTo>
                  <a:pt x="204" y="299"/>
                </a:lnTo>
                <a:lnTo>
                  <a:pt x="182" y="255"/>
                </a:lnTo>
                <a:lnTo>
                  <a:pt x="161" y="210"/>
                </a:lnTo>
                <a:lnTo>
                  <a:pt x="144" y="168"/>
                </a:lnTo>
                <a:lnTo>
                  <a:pt x="135" y="148"/>
                </a:lnTo>
                <a:lnTo>
                  <a:pt x="129" y="129"/>
                </a:lnTo>
                <a:lnTo>
                  <a:pt x="125" y="112"/>
                </a:lnTo>
                <a:lnTo>
                  <a:pt x="123" y="98"/>
                </a:lnTo>
                <a:lnTo>
                  <a:pt x="118" y="98"/>
                </a:lnTo>
                <a:lnTo>
                  <a:pt x="108" y="98"/>
                </a:lnTo>
                <a:lnTo>
                  <a:pt x="92" y="98"/>
                </a:lnTo>
                <a:lnTo>
                  <a:pt x="73" y="98"/>
                </a:lnTo>
                <a:lnTo>
                  <a:pt x="52" y="99"/>
                </a:lnTo>
                <a:lnTo>
                  <a:pt x="32" y="100"/>
                </a:lnTo>
                <a:lnTo>
                  <a:pt x="14" y="102"/>
                </a:lnTo>
                <a:lnTo>
                  <a:pt x="0" y="105"/>
                </a:lnTo>
                <a:lnTo>
                  <a:pt x="1" y="117"/>
                </a:lnTo>
                <a:lnTo>
                  <a:pt x="4" y="130"/>
                </a:lnTo>
                <a:lnTo>
                  <a:pt x="7" y="142"/>
                </a:lnTo>
                <a:lnTo>
                  <a:pt x="10" y="155"/>
                </a:lnTo>
                <a:lnTo>
                  <a:pt x="20" y="181"/>
                </a:lnTo>
                <a:lnTo>
                  <a:pt x="31" y="207"/>
                </a:lnTo>
                <a:lnTo>
                  <a:pt x="45" y="232"/>
                </a:lnTo>
                <a:lnTo>
                  <a:pt x="60" y="257"/>
                </a:lnTo>
                <a:lnTo>
                  <a:pt x="74" y="284"/>
                </a:lnTo>
                <a:lnTo>
                  <a:pt x="90" y="309"/>
                </a:lnTo>
                <a:lnTo>
                  <a:pt x="106" y="335"/>
                </a:lnTo>
                <a:lnTo>
                  <a:pt x="120" y="360"/>
                </a:lnTo>
                <a:lnTo>
                  <a:pt x="135" y="387"/>
                </a:lnTo>
                <a:lnTo>
                  <a:pt x="149" y="413"/>
                </a:lnTo>
                <a:lnTo>
                  <a:pt x="160" y="439"/>
                </a:lnTo>
                <a:lnTo>
                  <a:pt x="170" y="466"/>
                </a:lnTo>
                <a:lnTo>
                  <a:pt x="173" y="478"/>
                </a:lnTo>
                <a:lnTo>
                  <a:pt x="176" y="492"/>
                </a:lnTo>
                <a:lnTo>
                  <a:pt x="179" y="506"/>
                </a:lnTo>
                <a:lnTo>
                  <a:pt x="180" y="518"/>
                </a:lnTo>
                <a:lnTo>
                  <a:pt x="200" y="518"/>
                </a:lnTo>
                <a:lnTo>
                  <a:pt x="213" y="518"/>
                </a:lnTo>
                <a:lnTo>
                  <a:pt x="241" y="512"/>
                </a:lnTo>
                <a:lnTo>
                  <a:pt x="275" y="507"/>
                </a:lnTo>
                <a:lnTo>
                  <a:pt x="311" y="503"/>
                </a:lnTo>
                <a:lnTo>
                  <a:pt x="349" y="500"/>
                </a:lnTo>
                <a:lnTo>
                  <a:pt x="385" y="495"/>
                </a:lnTo>
                <a:lnTo>
                  <a:pt x="422" y="491"/>
                </a:lnTo>
                <a:lnTo>
                  <a:pt x="439" y="489"/>
                </a:lnTo>
                <a:lnTo>
                  <a:pt x="455" y="487"/>
                </a:lnTo>
                <a:lnTo>
                  <a:pt x="471" y="484"/>
                </a:lnTo>
                <a:lnTo>
                  <a:pt x="484" y="479"/>
                </a:lnTo>
                <a:lnTo>
                  <a:pt x="500" y="481"/>
                </a:lnTo>
                <a:lnTo>
                  <a:pt x="519" y="481"/>
                </a:lnTo>
                <a:lnTo>
                  <a:pt x="541" y="481"/>
                </a:lnTo>
                <a:lnTo>
                  <a:pt x="566" y="479"/>
                </a:lnTo>
                <a:lnTo>
                  <a:pt x="621" y="475"/>
                </a:lnTo>
                <a:lnTo>
                  <a:pt x="681" y="470"/>
                </a:lnTo>
                <a:lnTo>
                  <a:pt x="741" y="464"/>
                </a:lnTo>
                <a:lnTo>
                  <a:pt x="796" y="456"/>
                </a:lnTo>
                <a:lnTo>
                  <a:pt x="822" y="452"/>
                </a:lnTo>
                <a:lnTo>
                  <a:pt x="844" y="449"/>
                </a:lnTo>
                <a:lnTo>
                  <a:pt x="863" y="445"/>
                </a:lnTo>
                <a:lnTo>
                  <a:pt x="878" y="441"/>
                </a:lnTo>
                <a:lnTo>
                  <a:pt x="887" y="438"/>
                </a:lnTo>
                <a:lnTo>
                  <a:pt x="894" y="435"/>
                </a:lnTo>
                <a:lnTo>
                  <a:pt x="899" y="431"/>
                </a:lnTo>
                <a:lnTo>
                  <a:pt x="905" y="427"/>
                </a:lnTo>
                <a:lnTo>
                  <a:pt x="908" y="422"/>
                </a:lnTo>
                <a:lnTo>
                  <a:pt x="911" y="416"/>
                </a:lnTo>
                <a:lnTo>
                  <a:pt x="912" y="411"/>
                </a:lnTo>
                <a:lnTo>
                  <a:pt x="913" y="405"/>
                </a:lnTo>
                <a:lnTo>
                  <a:pt x="912" y="398"/>
                </a:lnTo>
                <a:lnTo>
                  <a:pt x="911" y="391"/>
                </a:lnTo>
                <a:lnTo>
                  <a:pt x="910" y="384"/>
                </a:lnTo>
                <a:lnTo>
                  <a:pt x="907" y="376"/>
                </a:lnTo>
                <a:lnTo>
                  <a:pt x="901" y="362"/>
                </a:lnTo>
                <a:lnTo>
                  <a:pt x="891" y="347"/>
                </a:lnTo>
                <a:lnTo>
                  <a:pt x="881" y="331"/>
                </a:lnTo>
                <a:lnTo>
                  <a:pt x="870" y="315"/>
                </a:lnTo>
                <a:lnTo>
                  <a:pt x="857" y="302"/>
                </a:lnTo>
                <a:lnTo>
                  <a:pt x="846" y="287"/>
                </a:lnTo>
                <a:lnTo>
                  <a:pt x="824" y="264"/>
                </a:lnTo>
                <a:lnTo>
                  <a:pt x="807" y="247"/>
                </a:lnTo>
                <a:lnTo>
                  <a:pt x="782" y="217"/>
                </a:lnTo>
                <a:lnTo>
                  <a:pt x="758" y="188"/>
                </a:lnTo>
                <a:lnTo>
                  <a:pt x="734" y="157"/>
                </a:lnTo>
                <a:lnTo>
                  <a:pt x="712" y="128"/>
                </a:lnTo>
                <a:lnTo>
                  <a:pt x="688" y="98"/>
                </a:lnTo>
                <a:lnTo>
                  <a:pt x="664" y="69"/>
                </a:lnTo>
                <a:lnTo>
                  <a:pt x="650" y="55"/>
                </a:lnTo>
                <a:lnTo>
                  <a:pt x="637" y="41"/>
                </a:lnTo>
                <a:lnTo>
                  <a:pt x="622" y="28"/>
                </a:lnTo>
                <a:lnTo>
                  <a:pt x="607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83520" y="3181320"/>
            <a:ext cx="15840" cy="12600"/>
          </a:xfrm>
          <a:custGeom>
            <a:avLst/>
            <a:gdLst/>
            <a:ahLst/>
            <a:rect l="l" t="t" r="r" b="b"/>
            <a:pathLst>
              <a:path w="907" h="520">
                <a:moveTo>
                  <a:pt x="601" y="8"/>
                </a:moveTo>
                <a:lnTo>
                  <a:pt x="601" y="6"/>
                </a:lnTo>
                <a:lnTo>
                  <a:pt x="599" y="4"/>
                </a:lnTo>
                <a:lnTo>
                  <a:pt x="595" y="3"/>
                </a:lnTo>
                <a:lnTo>
                  <a:pt x="591" y="2"/>
                </a:lnTo>
                <a:lnTo>
                  <a:pt x="582" y="1"/>
                </a:lnTo>
                <a:lnTo>
                  <a:pt x="570" y="0"/>
                </a:lnTo>
                <a:lnTo>
                  <a:pt x="558" y="0"/>
                </a:lnTo>
                <a:lnTo>
                  <a:pt x="546" y="1"/>
                </a:lnTo>
                <a:lnTo>
                  <a:pt x="537" y="2"/>
                </a:lnTo>
                <a:lnTo>
                  <a:pt x="530" y="2"/>
                </a:lnTo>
                <a:lnTo>
                  <a:pt x="502" y="10"/>
                </a:lnTo>
                <a:lnTo>
                  <a:pt x="465" y="17"/>
                </a:lnTo>
                <a:lnTo>
                  <a:pt x="421" y="25"/>
                </a:lnTo>
                <a:lnTo>
                  <a:pt x="374" y="32"/>
                </a:lnTo>
                <a:lnTo>
                  <a:pt x="326" y="38"/>
                </a:lnTo>
                <a:lnTo>
                  <a:pt x="282" y="43"/>
                </a:lnTo>
                <a:lnTo>
                  <a:pt x="243" y="46"/>
                </a:lnTo>
                <a:lnTo>
                  <a:pt x="213" y="47"/>
                </a:lnTo>
                <a:lnTo>
                  <a:pt x="207" y="48"/>
                </a:lnTo>
                <a:lnTo>
                  <a:pt x="202" y="50"/>
                </a:lnTo>
                <a:lnTo>
                  <a:pt x="198" y="52"/>
                </a:lnTo>
                <a:lnTo>
                  <a:pt x="194" y="54"/>
                </a:lnTo>
                <a:lnTo>
                  <a:pt x="191" y="56"/>
                </a:lnTo>
                <a:lnTo>
                  <a:pt x="187" y="59"/>
                </a:lnTo>
                <a:lnTo>
                  <a:pt x="184" y="62"/>
                </a:lnTo>
                <a:lnTo>
                  <a:pt x="183" y="65"/>
                </a:lnTo>
                <a:lnTo>
                  <a:pt x="180" y="73"/>
                </a:lnTo>
                <a:lnTo>
                  <a:pt x="180" y="80"/>
                </a:lnTo>
                <a:lnTo>
                  <a:pt x="181" y="88"/>
                </a:lnTo>
                <a:lnTo>
                  <a:pt x="184" y="97"/>
                </a:lnTo>
                <a:lnTo>
                  <a:pt x="190" y="105"/>
                </a:lnTo>
                <a:lnTo>
                  <a:pt x="196" y="114"/>
                </a:lnTo>
                <a:lnTo>
                  <a:pt x="203" y="121"/>
                </a:lnTo>
                <a:lnTo>
                  <a:pt x="213" y="127"/>
                </a:lnTo>
                <a:lnTo>
                  <a:pt x="222" y="133"/>
                </a:lnTo>
                <a:lnTo>
                  <a:pt x="234" y="136"/>
                </a:lnTo>
                <a:lnTo>
                  <a:pt x="239" y="137"/>
                </a:lnTo>
                <a:lnTo>
                  <a:pt x="245" y="138"/>
                </a:lnTo>
                <a:lnTo>
                  <a:pt x="252" y="138"/>
                </a:lnTo>
                <a:lnTo>
                  <a:pt x="258" y="138"/>
                </a:lnTo>
                <a:lnTo>
                  <a:pt x="280" y="137"/>
                </a:lnTo>
                <a:lnTo>
                  <a:pt x="304" y="134"/>
                </a:lnTo>
                <a:lnTo>
                  <a:pt x="330" y="129"/>
                </a:lnTo>
                <a:lnTo>
                  <a:pt x="359" y="122"/>
                </a:lnTo>
                <a:lnTo>
                  <a:pt x="386" y="116"/>
                </a:lnTo>
                <a:lnTo>
                  <a:pt x="412" y="107"/>
                </a:lnTo>
                <a:lnTo>
                  <a:pt x="438" y="100"/>
                </a:lnTo>
                <a:lnTo>
                  <a:pt x="459" y="93"/>
                </a:lnTo>
                <a:lnTo>
                  <a:pt x="491" y="96"/>
                </a:lnTo>
                <a:lnTo>
                  <a:pt x="519" y="97"/>
                </a:lnTo>
                <a:lnTo>
                  <a:pt x="540" y="97"/>
                </a:lnTo>
                <a:lnTo>
                  <a:pt x="556" y="97"/>
                </a:lnTo>
                <a:lnTo>
                  <a:pt x="563" y="97"/>
                </a:lnTo>
                <a:lnTo>
                  <a:pt x="568" y="98"/>
                </a:lnTo>
                <a:lnTo>
                  <a:pt x="572" y="100"/>
                </a:lnTo>
                <a:lnTo>
                  <a:pt x="575" y="102"/>
                </a:lnTo>
                <a:lnTo>
                  <a:pt x="579" y="106"/>
                </a:lnTo>
                <a:lnTo>
                  <a:pt x="581" y="111"/>
                </a:lnTo>
                <a:lnTo>
                  <a:pt x="581" y="117"/>
                </a:lnTo>
                <a:lnTo>
                  <a:pt x="582" y="125"/>
                </a:lnTo>
                <a:lnTo>
                  <a:pt x="583" y="134"/>
                </a:lnTo>
                <a:lnTo>
                  <a:pt x="586" y="145"/>
                </a:lnTo>
                <a:lnTo>
                  <a:pt x="591" y="157"/>
                </a:lnTo>
                <a:lnTo>
                  <a:pt x="597" y="170"/>
                </a:lnTo>
                <a:lnTo>
                  <a:pt x="615" y="198"/>
                </a:lnTo>
                <a:lnTo>
                  <a:pt x="634" y="229"/>
                </a:lnTo>
                <a:lnTo>
                  <a:pt x="655" y="258"/>
                </a:lnTo>
                <a:lnTo>
                  <a:pt x="674" y="286"/>
                </a:lnTo>
                <a:lnTo>
                  <a:pt x="683" y="300"/>
                </a:lnTo>
                <a:lnTo>
                  <a:pt x="689" y="312"/>
                </a:lnTo>
                <a:lnTo>
                  <a:pt x="694" y="322"/>
                </a:lnTo>
                <a:lnTo>
                  <a:pt x="697" y="332"/>
                </a:lnTo>
                <a:lnTo>
                  <a:pt x="703" y="342"/>
                </a:lnTo>
                <a:lnTo>
                  <a:pt x="708" y="352"/>
                </a:lnTo>
                <a:lnTo>
                  <a:pt x="714" y="359"/>
                </a:lnTo>
                <a:lnTo>
                  <a:pt x="719" y="365"/>
                </a:lnTo>
                <a:lnTo>
                  <a:pt x="726" y="371"/>
                </a:lnTo>
                <a:lnTo>
                  <a:pt x="730" y="376"/>
                </a:lnTo>
                <a:lnTo>
                  <a:pt x="733" y="379"/>
                </a:lnTo>
                <a:lnTo>
                  <a:pt x="734" y="382"/>
                </a:lnTo>
                <a:lnTo>
                  <a:pt x="732" y="384"/>
                </a:lnTo>
                <a:lnTo>
                  <a:pt x="728" y="385"/>
                </a:lnTo>
                <a:lnTo>
                  <a:pt x="718" y="387"/>
                </a:lnTo>
                <a:lnTo>
                  <a:pt x="706" y="387"/>
                </a:lnTo>
                <a:lnTo>
                  <a:pt x="665" y="385"/>
                </a:lnTo>
                <a:lnTo>
                  <a:pt x="601" y="383"/>
                </a:lnTo>
                <a:lnTo>
                  <a:pt x="581" y="383"/>
                </a:lnTo>
                <a:lnTo>
                  <a:pt x="555" y="384"/>
                </a:lnTo>
                <a:lnTo>
                  <a:pt x="527" y="385"/>
                </a:lnTo>
                <a:lnTo>
                  <a:pt x="498" y="388"/>
                </a:lnTo>
                <a:lnTo>
                  <a:pt x="467" y="390"/>
                </a:lnTo>
                <a:lnTo>
                  <a:pt x="439" y="395"/>
                </a:lnTo>
                <a:lnTo>
                  <a:pt x="426" y="398"/>
                </a:lnTo>
                <a:lnTo>
                  <a:pt x="415" y="401"/>
                </a:lnTo>
                <a:lnTo>
                  <a:pt x="403" y="405"/>
                </a:lnTo>
                <a:lnTo>
                  <a:pt x="395" y="410"/>
                </a:lnTo>
                <a:lnTo>
                  <a:pt x="358" y="413"/>
                </a:lnTo>
                <a:lnTo>
                  <a:pt x="326" y="417"/>
                </a:lnTo>
                <a:lnTo>
                  <a:pt x="300" y="420"/>
                </a:lnTo>
                <a:lnTo>
                  <a:pt x="278" y="422"/>
                </a:lnTo>
                <a:lnTo>
                  <a:pt x="268" y="423"/>
                </a:lnTo>
                <a:lnTo>
                  <a:pt x="261" y="422"/>
                </a:lnTo>
                <a:lnTo>
                  <a:pt x="254" y="421"/>
                </a:lnTo>
                <a:lnTo>
                  <a:pt x="248" y="419"/>
                </a:lnTo>
                <a:lnTo>
                  <a:pt x="244" y="415"/>
                </a:lnTo>
                <a:lnTo>
                  <a:pt x="241" y="411"/>
                </a:lnTo>
                <a:lnTo>
                  <a:pt x="240" y="404"/>
                </a:lnTo>
                <a:lnTo>
                  <a:pt x="239" y="397"/>
                </a:lnTo>
                <a:lnTo>
                  <a:pt x="238" y="385"/>
                </a:lnTo>
                <a:lnTo>
                  <a:pt x="235" y="372"/>
                </a:lnTo>
                <a:lnTo>
                  <a:pt x="230" y="356"/>
                </a:lnTo>
                <a:lnTo>
                  <a:pt x="222" y="337"/>
                </a:lnTo>
                <a:lnTo>
                  <a:pt x="205" y="297"/>
                </a:lnTo>
                <a:lnTo>
                  <a:pt x="185" y="252"/>
                </a:lnTo>
                <a:lnTo>
                  <a:pt x="165" y="206"/>
                </a:lnTo>
                <a:lnTo>
                  <a:pt x="146" y="163"/>
                </a:lnTo>
                <a:lnTo>
                  <a:pt x="138" y="142"/>
                </a:lnTo>
                <a:lnTo>
                  <a:pt x="132" y="124"/>
                </a:lnTo>
                <a:lnTo>
                  <a:pt x="127" y="107"/>
                </a:lnTo>
                <a:lnTo>
                  <a:pt x="122" y="93"/>
                </a:lnTo>
                <a:lnTo>
                  <a:pt x="119" y="93"/>
                </a:lnTo>
                <a:lnTo>
                  <a:pt x="108" y="94"/>
                </a:lnTo>
                <a:lnTo>
                  <a:pt x="92" y="95"/>
                </a:lnTo>
                <a:lnTo>
                  <a:pt x="73" y="96"/>
                </a:lnTo>
                <a:lnTo>
                  <a:pt x="53" y="97"/>
                </a:lnTo>
                <a:lnTo>
                  <a:pt x="33" y="98"/>
                </a:lnTo>
                <a:lnTo>
                  <a:pt x="14" y="99"/>
                </a:lnTo>
                <a:lnTo>
                  <a:pt x="0" y="99"/>
                </a:lnTo>
                <a:lnTo>
                  <a:pt x="1" y="112"/>
                </a:lnTo>
                <a:lnTo>
                  <a:pt x="4" y="124"/>
                </a:lnTo>
                <a:lnTo>
                  <a:pt x="7" y="137"/>
                </a:lnTo>
                <a:lnTo>
                  <a:pt x="11" y="151"/>
                </a:lnTo>
                <a:lnTo>
                  <a:pt x="20" y="176"/>
                </a:lnTo>
                <a:lnTo>
                  <a:pt x="32" y="202"/>
                </a:lnTo>
                <a:lnTo>
                  <a:pt x="45" y="229"/>
                </a:lnTo>
                <a:lnTo>
                  <a:pt x="59" y="254"/>
                </a:lnTo>
                <a:lnTo>
                  <a:pt x="75" y="280"/>
                </a:lnTo>
                <a:lnTo>
                  <a:pt x="91" y="306"/>
                </a:lnTo>
                <a:lnTo>
                  <a:pt x="105" y="334"/>
                </a:lnTo>
                <a:lnTo>
                  <a:pt x="121" y="360"/>
                </a:lnTo>
                <a:lnTo>
                  <a:pt x="136" y="387"/>
                </a:lnTo>
                <a:lnTo>
                  <a:pt x="149" y="413"/>
                </a:lnTo>
                <a:lnTo>
                  <a:pt x="160" y="440"/>
                </a:lnTo>
                <a:lnTo>
                  <a:pt x="170" y="467"/>
                </a:lnTo>
                <a:lnTo>
                  <a:pt x="174" y="480"/>
                </a:lnTo>
                <a:lnTo>
                  <a:pt x="177" y="493"/>
                </a:lnTo>
                <a:lnTo>
                  <a:pt x="179" y="507"/>
                </a:lnTo>
                <a:lnTo>
                  <a:pt x="181" y="520"/>
                </a:lnTo>
                <a:lnTo>
                  <a:pt x="200" y="520"/>
                </a:lnTo>
                <a:lnTo>
                  <a:pt x="220" y="520"/>
                </a:lnTo>
                <a:lnTo>
                  <a:pt x="234" y="515"/>
                </a:lnTo>
                <a:lnTo>
                  <a:pt x="248" y="511"/>
                </a:lnTo>
                <a:lnTo>
                  <a:pt x="265" y="508"/>
                </a:lnTo>
                <a:lnTo>
                  <a:pt x="282" y="504"/>
                </a:lnTo>
                <a:lnTo>
                  <a:pt x="317" y="499"/>
                </a:lnTo>
                <a:lnTo>
                  <a:pt x="354" y="495"/>
                </a:lnTo>
                <a:lnTo>
                  <a:pt x="389" y="491"/>
                </a:lnTo>
                <a:lnTo>
                  <a:pt x="423" y="487"/>
                </a:lnTo>
                <a:lnTo>
                  <a:pt x="439" y="483"/>
                </a:lnTo>
                <a:lnTo>
                  <a:pt x="453" y="481"/>
                </a:lnTo>
                <a:lnTo>
                  <a:pt x="466" y="478"/>
                </a:lnTo>
                <a:lnTo>
                  <a:pt x="478" y="475"/>
                </a:lnTo>
                <a:lnTo>
                  <a:pt x="493" y="476"/>
                </a:lnTo>
                <a:lnTo>
                  <a:pt x="512" y="477"/>
                </a:lnTo>
                <a:lnTo>
                  <a:pt x="534" y="477"/>
                </a:lnTo>
                <a:lnTo>
                  <a:pt x="560" y="477"/>
                </a:lnTo>
                <a:lnTo>
                  <a:pt x="615" y="473"/>
                </a:lnTo>
                <a:lnTo>
                  <a:pt x="675" y="468"/>
                </a:lnTo>
                <a:lnTo>
                  <a:pt x="735" y="460"/>
                </a:lnTo>
                <a:lnTo>
                  <a:pt x="791" y="452"/>
                </a:lnTo>
                <a:lnTo>
                  <a:pt x="838" y="443"/>
                </a:lnTo>
                <a:lnTo>
                  <a:pt x="872" y="436"/>
                </a:lnTo>
                <a:lnTo>
                  <a:pt x="880" y="433"/>
                </a:lnTo>
                <a:lnTo>
                  <a:pt x="888" y="430"/>
                </a:lnTo>
                <a:lnTo>
                  <a:pt x="894" y="425"/>
                </a:lnTo>
                <a:lnTo>
                  <a:pt x="898" y="421"/>
                </a:lnTo>
                <a:lnTo>
                  <a:pt x="902" y="417"/>
                </a:lnTo>
                <a:lnTo>
                  <a:pt x="904" y="412"/>
                </a:lnTo>
                <a:lnTo>
                  <a:pt x="907" y="405"/>
                </a:lnTo>
                <a:lnTo>
                  <a:pt x="907" y="400"/>
                </a:lnTo>
                <a:lnTo>
                  <a:pt x="907" y="394"/>
                </a:lnTo>
                <a:lnTo>
                  <a:pt x="906" y="388"/>
                </a:lnTo>
                <a:lnTo>
                  <a:pt x="903" y="380"/>
                </a:lnTo>
                <a:lnTo>
                  <a:pt x="901" y="374"/>
                </a:lnTo>
                <a:lnTo>
                  <a:pt x="895" y="359"/>
                </a:lnTo>
                <a:lnTo>
                  <a:pt x="886" y="344"/>
                </a:lnTo>
                <a:lnTo>
                  <a:pt x="876" y="330"/>
                </a:lnTo>
                <a:lnTo>
                  <a:pt x="865" y="315"/>
                </a:lnTo>
                <a:lnTo>
                  <a:pt x="854" y="300"/>
                </a:lnTo>
                <a:lnTo>
                  <a:pt x="842" y="288"/>
                </a:lnTo>
                <a:lnTo>
                  <a:pt x="821" y="264"/>
                </a:lnTo>
                <a:lnTo>
                  <a:pt x="808" y="248"/>
                </a:lnTo>
                <a:lnTo>
                  <a:pt x="793" y="233"/>
                </a:lnTo>
                <a:lnTo>
                  <a:pt x="780" y="218"/>
                </a:lnTo>
                <a:lnTo>
                  <a:pt x="768" y="203"/>
                </a:lnTo>
                <a:lnTo>
                  <a:pt x="755" y="187"/>
                </a:lnTo>
                <a:lnTo>
                  <a:pt x="732" y="157"/>
                </a:lnTo>
                <a:lnTo>
                  <a:pt x="709" y="125"/>
                </a:lnTo>
                <a:lnTo>
                  <a:pt x="686" y="95"/>
                </a:lnTo>
                <a:lnTo>
                  <a:pt x="661" y="65"/>
                </a:lnTo>
                <a:lnTo>
                  <a:pt x="647" y="51"/>
                </a:lnTo>
                <a:lnTo>
                  <a:pt x="632" y="36"/>
                </a:lnTo>
                <a:lnTo>
                  <a:pt x="617" y="22"/>
                </a:lnTo>
                <a:lnTo>
                  <a:pt x="601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00800" y="3178080"/>
            <a:ext cx="15840" cy="1116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7" y="10"/>
                </a:lnTo>
                <a:lnTo>
                  <a:pt x="604" y="7"/>
                </a:lnTo>
                <a:lnTo>
                  <a:pt x="602" y="5"/>
                </a:lnTo>
                <a:lnTo>
                  <a:pt x="599" y="4"/>
                </a:lnTo>
                <a:lnTo>
                  <a:pt x="590" y="2"/>
                </a:lnTo>
                <a:lnTo>
                  <a:pt x="579" y="2"/>
                </a:lnTo>
                <a:lnTo>
                  <a:pt x="567" y="2"/>
                </a:lnTo>
                <a:lnTo>
                  <a:pt x="555" y="2"/>
                </a:lnTo>
                <a:lnTo>
                  <a:pt x="544" y="2"/>
                </a:lnTo>
                <a:lnTo>
                  <a:pt x="536" y="0"/>
                </a:lnTo>
                <a:lnTo>
                  <a:pt x="510" y="8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6" y="46"/>
                </a:lnTo>
                <a:lnTo>
                  <a:pt x="245" y="50"/>
                </a:lnTo>
                <a:lnTo>
                  <a:pt x="213" y="52"/>
                </a:lnTo>
                <a:lnTo>
                  <a:pt x="207" y="52"/>
                </a:lnTo>
                <a:lnTo>
                  <a:pt x="202" y="53"/>
                </a:lnTo>
                <a:lnTo>
                  <a:pt x="198" y="54"/>
                </a:lnTo>
                <a:lnTo>
                  <a:pt x="193" y="56"/>
                </a:lnTo>
                <a:lnTo>
                  <a:pt x="190" y="59"/>
                </a:lnTo>
                <a:lnTo>
                  <a:pt x="187" y="61"/>
                </a:lnTo>
                <a:lnTo>
                  <a:pt x="185" y="64"/>
                </a:lnTo>
                <a:lnTo>
                  <a:pt x="184" y="67"/>
                </a:lnTo>
                <a:lnTo>
                  <a:pt x="183" y="70"/>
                </a:lnTo>
                <a:lnTo>
                  <a:pt x="182" y="74"/>
                </a:lnTo>
                <a:lnTo>
                  <a:pt x="182" y="78"/>
                </a:lnTo>
                <a:lnTo>
                  <a:pt x="182" y="82"/>
                </a:lnTo>
                <a:lnTo>
                  <a:pt x="184" y="90"/>
                </a:lnTo>
                <a:lnTo>
                  <a:pt x="188" y="99"/>
                </a:lnTo>
                <a:lnTo>
                  <a:pt x="193" y="107"/>
                </a:lnTo>
                <a:lnTo>
                  <a:pt x="200" y="115"/>
                </a:lnTo>
                <a:lnTo>
                  <a:pt x="208" y="122"/>
                </a:lnTo>
                <a:lnTo>
                  <a:pt x="218" y="128"/>
                </a:lnTo>
                <a:lnTo>
                  <a:pt x="228" y="133"/>
                </a:lnTo>
                <a:lnTo>
                  <a:pt x="240" y="137"/>
                </a:lnTo>
                <a:lnTo>
                  <a:pt x="245" y="137"/>
                </a:lnTo>
                <a:lnTo>
                  <a:pt x="251" y="138"/>
                </a:lnTo>
                <a:lnTo>
                  <a:pt x="257" y="137"/>
                </a:lnTo>
                <a:lnTo>
                  <a:pt x="265" y="135"/>
                </a:lnTo>
                <a:lnTo>
                  <a:pt x="286" y="134"/>
                </a:lnTo>
                <a:lnTo>
                  <a:pt x="310" y="131"/>
                </a:lnTo>
                <a:lnTo>
                  <a:pt x="337" y="127"/>
                </a:lnTo>
                <a:lnTo>
                  <a:pt x="365" y="121"/>
                </a:lnTo>
                <a:lnTo>
                  <a:pt x="392" y="113"/>
                </a:lnTo>
                <a:lnTo>
                  <a:pt x="419" y="106"/>
                </a:lnTo>
                <a:lnTo>
                  <a:pt x="444" y="99"/>
                </a:lnTo>
                <a:lnTo>
                  <a:pt x="465" y="90"/>
                </a:lnTo>
                <a:lnTo>
                  <a:pt x="500" y="94"/>
                </a:lnTo>
                <a:lnTo>
                  <a:pt x="528" y="95"/>
                </a:lnTo>
                <a:lnTo>
                  <a:pt x="550" y="96"/>
                </a:lnTo>
                <a:lnTo>
                  <a:pt x="566" y="98"/>
                </a:lnTo>
                <a:lnTo>
                  <a:pt x="571" y="98"/>
                </a:lnTo>
                <a:lnTo>
                  <a:pt x="576" y="100"/>
                </a:lnTo>
                <a:lnTo>
                  <a:pt x="580" y="101"/>
                </a:lnTo>
                <a:lnTo>
                  <a:pt x="583" y="104"/>
                </a:lnTo>
                <a:lnTo>
                  <a:pt x="585" y="107"/>
                </a:lnTo>
                <a:lnTo>
                  <a:pt x="587" y="111"/>
                </a:lnTo>
                <a:lnTo>
                  <a:pt x="588" y="116"/>
                </a:lnTo>
                <a:lnTo>
                  <a:pt x="588" y="123"/>
                </a:lnTo>
                <a:lnTo>
                  <a:pt x="589" y="133"/>
                </a:lnTo>
                <a:lnTo>
                  <a:pt x="593" y="145"/>
                </a:lnTo>
                <a:lnTo>
                  <a:pt x="598" y="158"/>
                </a:lnTo>
                <a:lnTo>
                  <a:pt x="605" y="171"/>
                </a:lnTo>
                <a:lnTo>
                  <a:pt x="623" y="200"/>
                </a:lnTo>
                <a:lnTo>
                  <a:pt x="644" y="229"/>
                </a:lnTo>
                <a:lnTo>
                  <a:pt x="666" y="259"/>
                </a:lnTo>
                <a:lnTo>
                  <a:pt x="685" y="286"/>
                </a:lnTo>
                <a:lnTo>
                  <a:pt x="695" y="299"/>
                </a:lnTo>
                <a:lnTo>
                  <a:pt x="701" y="310"/>
                </a:lnTo>
                <a:lnTo>
                  <a:pt x="707" y="321"/>
                </a:lnTo>
                <a:lnTo>
                  <a:pt x="711" y="330"/>
                </a:lnTo>
                <a:lnTo>
                  <a:pt x="715" y="341"/>
                </a:lnTo>
                <a:lnTo>
                  <a:pt x="720" y="349"/>
                </a:lnTo>
                <a:lnTo>
                  <a:pt x="726" y="358"/>
                </a:lnTo>
                <a:lnTo>
                  <a:pt x="733" y="364"/>
                </a:lnTo>
                <a:lnTo>
                  <a:pt x="738" y="369"/>
                </a:lnTo>
                <a:lnTo>
                  <a:pt x="743" y="375"/>
                </a:lnTo>
                <a:lnTo>
                  <a:pt x="746" y="378"/>
                </a:lnTo>
                <a:lnTo>
                  <a:pt x="747" y="381"/>
                </a:lnTo>
                <a:lnTo>
                  <a:pt x="746" y="383"/>
                </a:lnTo>
                <a:lnTo>
                  <a:pt x="745" y="384"/>
                </a:lnTo>
                <a:lnTo>
                  <a:pt x="743" y="385"/>
                </a:lnTo>
                <a:lnTo>
                  <a:pt x="740" y="385"/>
                </a:lnTo>
                <a:lnTo>
                  <a:pt x="732" y="387"/>
                </a:lnTo>
                <a:lnTo>
                  <a:pt x="719" y="387"/>
                </a:lnTo>
                <a:lnTo>
                  <a:pt x="678" y="388"/>
                </a:lnTo>
                <a:lnTo>
                  <a:pt x="614" y="388"/>
                </a:lnTo>
                <a:lnTo>
                  <a:pt x="592" y="388"/>
                </a:lnTo>
                <a:lnTo>
                  <a:pt x="564" y="388"/>
                </a:lnTo>
                <a:lnTo>
                  <a:pt x="535" y="389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2" y="399"/>
                </a:lnTo>
                <a:lnTo>
                  <a:pt x="420" y="402"/>
                </a:lnTo>
                <a:lnTo>
                  <a:pt x="410" y="404"/>
                </a:lnTo>
                <a:lnTo>
                  <a:pt x="400" y="408"/>
                </a:lnTo>
                <a:lnTo>
                  <a:pt x="364" y="411"/>
                </a:lnTo>
                <a:lnTo>
                  <a:pt x="332" y="415"/>
                </a:lnTo>
                <a:lnTo>
                  <a:pt x="306" y="419"/>
                </a:lnTo>
                <a:lnTo>
                  <a:pt x="284" y="422"/>
                </a:lnTo>
                <a:lnTo>
                  <a:pt x="275" y="422"/>
                </a:lnTo>
                <a:lnTo>
                  <a:pt x="267" y="422"/>
                </a:lnTo>
                <a:lnTo>
                  <a:pt x="261" y="422"/>
                </a:lnTo>
                <a:lnTo>
                  <a:pt x="255" y="420"/>
                </a:lnTo>
                <a:lnTo>
                  <a:pt x="251" y="417"/>
                </a:lnTo>
                <a:lnTo>
                  <a:pt x="248" y="413"/>
                </a:lnTo>
                <a:lnTo>
                  <a:pt x="246" y="408"/>
                </a:lnTo>
                <a:lnTo>
                  <a:pt x="245" y="401"/>
                </a:lnTo>
                <a:lnTo>
                  <a:pt x="244" y="389"/>
                </a:lnTo>
                <a:lnTo>
                  <a:pt x="241" y="375"/>
                </a:lnTo>
                <a:lnTo>
                  <a:pt x="235" y="358"/>
                </a:lnTo>
                <a:lnTo>
                  <a:pt x="228" y="340"/>
                </a:lnTo>
                <a:lnTo>
                  <a:pt x="210" y="299"/>
                </a:lnTo>
                <a:lnTo>
                  <a:pt x="189" y="254"/>
                </a:lnTo>
                <a:lnTo>
                  <a:pt x="168" y="209"/>
                </a:lnTo>
                <a:lnTo>
                  <a:pt x="150" y="167"/>
                </a:lnTo>
                <a:lnTo>
                  <a:pt x="142" y="147"/>
                </a:lnTo>
                <a:lnTo>
                  <a:pt x="136" y="128"/>
                </a:lnTo>
                <a:lnTo>
                  <a:pt x="131" y="111"/>
                </a:lnTo>
                <a:lnTo>
                  <a:pt x="129" y="98"/>
                </a:lnTo>
                <a:lnTo>
                  <a:pt x="125" y="98"/>
                </a:lnTo>
                <a:lnTo>
                  <a:pt x="115" y="98"/>
                </a:lnTo>
                <a:lnTo>
                  <a:pt x="99" y="98"/>
                </a:lnTo>
                <a:lnTo>
                  <a:pt x="79" y="98"/>
                </a:lnTo>
                <a:lnTo>
                  <a:pt x="58" y="98"/>
                </a:lnTo>
                <a:lnTo>
                  <a:pt x="37" y="98"/>
                </a:lnTo>
                <a:lnTo>
                  <a:pt x="17" y="98"/>
                </a:lnTo>
                <a:lnTo>
                  <a:pt x="0" y="98"/>
                </a:lnTo>
                <a:lnTo>
                  <a:pt x="2" y="110"/>
                </a:lnTo>
                <a:lnTo>
                  <a:pt x="5" y="124"/>
                </a:lnTo>
                <a:lnTo>
                  <a:pt x="8" y="138"/>
                </a:lnTo>
                <a:lnTo>
                  <a:pt x="13" y="150"/>
                </a:lnTo>
                <a:lnTo>
                  <a:pt x="23" y="177"/>
                </a:lnTo>
                <a:lnTo>
                  <a:pt x="36" y="203"/>
                </a:lnTo>
                <a:lnTo>
                  <a:pt x="49" y="229"/>
                </a:lnTo>
                <a:lnTo>
                  <a:pt x="64" y="256"/>
                </a:lnTo>
                <a:lnTo>
                  <a:pt x="80" y="282"/>
                </a:lnTo>
                <a:lnTo>
                  <a:pt x="96" y="307"/>
                </a:lnTo>
                <a:lnTo>
                  <a:pt x="111" y="333"/>
                </a:lnTo>
                <a:lnTo>
                  <a:pt x="127" y="360"/>
                </a:lnTo>
                <a:lnTo>
                  <a:pt x="142" y="386"/>
                </a:lnTo>
                <a:lnTo>
                  <a:pt x="156" y="412"/>
                </a:lnTo>
                <a:lnTo>
                  <a:pt x="167" y="439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5" y="505"/>
                </a:lnTo>
                <a:lnTo>
                  <a:pt x="187" y="518"/>
                </a:lnTo>
                <a:lnTo>
                  <a:pt x="206" y="518"/>
                </a:lnTo>
                <a:lnTo>
                  <a:pt x="220" y="518"/>
                </a:lnTo>
                <a:lnTo>
                  <a:pt x="233" y="514"/>
                </a:lnTo>
                <a:lnTo>
                  <a:pt x="248" y="509"/>
                </a:lnTo>
                <a:lnTo>
                  <a:pt x="265" y="506"/>
                </a:lnTo>
                <a:lnTo>
                  <a:pt x="282" y="503"/>
                </a:lnTo>
                <a:lnTo>
                  <a:pt x="317" y="498"/>
                </a:lnTo>
                <a:lnTo>
                  <a:pt x="355" y="492"/>
                </a:lnTo>
                <a:lnTo>
                  <a:pt x="392" y="488"/>
                </a:lnTo>
                <a:lnTo>
                  <a:pt x="429" y="484"/>
                </a:lnTo>
                <a:lnTo>
                  <a:pt x="461" y="479"/>
                </a:lnTo>
                <a:lnTo>
                  <a:pt x="491" y="472"/>
                </a:lnTo>
                <a:lnTo>
                  <a:pt x="506" y="475"/>
                </a:lnTo>
                <a:lnTo>
                  <a:pt x="523" y="476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5"/>
                </a:lnTo>
                <a:lnTo>
                  <a:pt x="746" y="458"/>
                </a:lnTo>
                <a:lnTo>
                  <a:pt x="802" y="450"/>
                </a:lnTo>
                <a:lnTo>
                  <a:pt x="850" y="442"/>
                </a:lnTo>
                <a:lnTo>
                  <a:pt x="885" y="433"/>
                </a:lnTo>
                <a:lnTo>
                  <a:pt x="893" y="431"/>
                </a:lnTo>
                <a:lnTo>
                  <a:pt x="901" y="428"/>
                </a:lnTo>
                <a:lnTo>
                  <a:pt x="906" y="424"/>
                </a:lnTo>
                <a:lnTo>
                  <a:pt x="910" y="420"/>
                </a:lnTo>
                <a:lnTo>
                  <a:pt x="915" y="415"/>
                </a:lnTo>
                <a:lnTo>
                  <a:pt x="917" y="409"/>
                </a:lnTo>
                <a:lnTo>
                  <a:pt x="918" y="404"/>
                </a:lnTo>
                <a:lnTo>
                  <a:pt x="919" y="398"/>
                </a:lnTo>
                <a:lnTo>
                  <a:pt x="918" y="391"/>
                </a:lnTo>
                <a:lnTo>
                  <a:pt x="917" y="385"/>
                </a:lnTo>
                <a:lnTo>
                  <a:pt x="915" y="379"/>
                </a:lnTo>
                <a:lnTo>
                  <a:pt x="912" y="371"/>
                </a:lnTo>
                <a:lnTo>
                  <a:pt x="905" y="357"/>
                </a:lnTo>
                <a:lnTo>
                  <a:pt x="896" y="342"/>
                </a:lnTo>
                <a:lnTo>
                  <a:pt x="885" y="327"/>
                </a:lnTo>
                <a:lnTo>
                  <a:pt x="874" y="312"/>
                </a:lnTo>
                <a:lnTo>
                  <a:pt x="861" y="299"/>
                </a:lnTo>
                <a:lnTo>
                  <a:pt x="849" y="285"/>
                </a:lnTo>
                <a:lnTo>
                  <a:pt x="828" y="262"/>
                </a:lnTo>
                <a:lnTo>
                  <a:pt x="814" y="246"/>
                </a:lnTo>
                <a:lnTo>
                  <a:pt x="788" y="217"/>
                </a:lnTo>
                <a:lnTo>
                  <a:pt x="764" y="186"/>
                </a:lnTo>
                <a:lnTo>
                  <a:pt x="741" y="155"/>
                </a:lnTo>
                <a:lnTo>
                  <a:pt x="718" y="125"/>
                </a:lnTo>
                <a:lnTo>
                  <a:pt x="694" y="94"/>
                </a:lnTo>
                <a:lnTo>
                  <a:pt x="667" y="66"/>
                </a:lnTo>
                <a:lnTo>
                  <a:pt x="654" y="52"/>
                </a:lnTo>
                <a:lnTo>
                  <a:pt x="639" y="39"/>
                </a:lnTo>
                <a:lnTo>
                  <a:pt x="623" y="25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18440" y="3173400"/>
            <a:ext cx="15840" cy="12600"/>
          </a:xfrm>
          <a:custGeom>
            <a:avLst/>
            <a:gdLst/>
            <a:ahLst/>
            <a:rect l="l" t="t" r="r" b="b"/>
            <a:pathLst>
              <a:path w="919" h="518">
                <a:moveTo>
                  <a:pt x="608" y="13"/>
                </a:moveTo>
                <a:lnTo>
                  <a:pt x="606" y="11"/>
                </a:lnTo>
                <a:lnTo>
                  <a:pt x="605" y="10"/>
                </a:lnTo>
                <a:lnTo>
                  <a:pt x="602" y="7"/>
                </a:lnTo>
                <a:lnTo>
                  <a:pt x="599" y="6"/>
                </a:lnTo>
                <a:lnTo>
                  <a:pt x="590" y="5"/>
                </a:lnTo>
                <a:lnTo>
                  <a:pt x="579" y="4"/>
                </a:lnTo>
                <a:lnTo>
                  <a:pt x="568" y="3"/>
                </a:lnTo>
                <a:lnTo>
                  <a:pt x="556" y="3"/>
                </a:lnTo>
                <a:lnTo>
                  <a:pt x="544" y="2"/>
                </a:lnTo>
                <a:lnTo>
                  <a:pt x="536" y="0"/>
                </a:lnTo>
                <a:lnTo>
                  <a:pt x="511" y="7"/>
                </a:lnTo>
                <a:lnTo>
                  <a:pt x="474" y="16"/>
                </a:lnTo>
                <a:lnTo>
                  <a:pt x="430" y="25"/>
                </a:lnTo>
                <a:lnTo>
                  <a:pt x="382" y="33"/>
                </a:lnTo>
                <a:lnTo>
                  <a:pt x="333" y="41"/>
                </a:lnTo>
                <a:lnTo>
                  <a:pt x="287" y="46"/>
                </a:lnTo>
                <a:lnTo>
                  <a:pt x="245" y="51"/>
                </a:lnTo>
                <a:lnTo>
                  <a:pt x="213" y="52"/>
                </a:lnTo>
                <a:lnTo>
                  <a:pt x="207" y="52"/>
                </a:lnTo>
                <a:lnTo>
                  <a:pt x="203" y="53"/>
                </a:lnTo>
                <a:lnTo>
                  <a:pt x="198" y="54"/>
                </a:lnTo>
                <a:lnTo>
                  <a:pt x="194" y="56"/>
                </a:lnTo>
                <a:lnTo>
                  <a:pt x="190" y="58"/>
                </a:lnTo>
                <a:lnTo>
                  <a:pt x="188" y="61"/>
                </a:lnTo>
                <a:lnTo>
                  <a:pt x="186" y="63"/>
                </a:lnTo>
                <a:lnTo>
                  <a:pt x="184" y="68"/>
                </a:lnTo>
                <a:lnTo>
                  <a:pt x="183" y="71"/>
                </a:lnTo>
                <a:lnTo>
                  <a:pt x="182" y="74"/>
                </a:lnTo>
                <a:lnTo>
                  <a:pt x="182" y="78"/>
                </a:lnTo>
                <a:lnTo>
                  <a:pt x="183" y="82"/>
                </a:lnTo>
                <a:lnTo>
                  <a:pt x="185" y="91"/>
                </a:lnTo>
                <a:lnTo>
                  <a:pt x="188" y="100"/>
                </a:lnTo>
                <a:lnTo>
                  <a:pt x="193" y="109"/>
                </a:lnTo>
                <a:lnTo>
                  <a:pt x="201" y="117"/>
                </a:lnTo>
                <a:lnTo>
                  <a:pt x="208" y="124"/>
                </a:lnTo>
                <a:lnTo>
                  <a:pt x="218" y="131"/>
                </a:lnTo>
                <a:lnTo>
                  <a:pt x="228" y="137"/>
                </a:lnTo>
                <a:lnTo>
                  <a:pt x="240" y="140"/>
                </a:lnTo>
                <a:lnTo>
                  <a:pt x="246" y="142"/>
                </a:lnTo>
                <a:lnTo>
                  <a:pt x="252" y="142"/>
                </a:lnTo>
                <a:lnTo>
                  <a:pt x="259" y="143"/>
                </a:lnTo>
                <a:lnTo>
                  <a:pt x="265" y="142"/>
                </a:lnTo>
                <a:lnTo>
                  <a:pt x="286" y="139"/>
                </a:lnTo>
                <a:lnTo>
                  <a:pt x="311" y="135"/>
                </a:lnTo>
                <a:lnTo>
                  <a:pt x="337" y="129"/>
                </a:lnTo>
                <a:lnTo>
                  <a:pt x="365" y="121"/>
                </a:lnTo>
                <a:lnTo>
                  <a:pt x="393" y="114"/>
                </a:lnTo>
                <a:lnTo>
                  <a:pt x="419" y="106"/>
                </a:lnTo>
                <a:lnTo>
                  <a:pt x="444" y="98"/>
                </a:lnTo>
                <a:lnTo>
                  <a:pt x="466" y="91"/>
                </a:lnTo>
                <a:lnTo>
                  <a:pt x="500" y="94"/>
                </a:lnTo>
                <a:lnTo>
                  <a:pt x="528" y="96"/>
                </a:lnTo>
                <a:lnTo>
                  <a:pt x="550" y="96"/>
                </a:lnTo>
                <a:lnTo>
                  <a:pt x="565" y="97"/>
                </a:lnTo>
                <a:lnTo>
                  <a:pt x="572" y="98"/>
                </a:lnTo>
                <a:lnTo>
                  <a:pt x="576" y="99"/>
                </a:lnTo>
                <a:lnTo>
                  <a:pt x="580" y="101"/>
                </a:lnTo>
                <a:lnTo>
                  <a:pt x="583" y="103"/>
                </a:lnTo>
                <a:lnTo>
                  <a:pt x="585" y="106"/>
                </a:lnTo>
                <a:lnTo>
                  <a:pt x="586" y="111"/>
                </a:lnTo>
                <a:lnTo>
                  <a:pt x="588" y="117"/>
                </a:lnTo>
                <a:lnTo>
                  <a:pt x="588" y="123"/>
                </a:lnTo>
                <a:lnTo>
                  <a:pt x="590" y="134"/>
                </a:lnTo>
                <a:lnTo>
                  <a:pt x="593" y="145"/>
                </a:lnTo>
                <a:lnTo>
                  <a:pt x="598" y="158"/>
                </a:lnTo>
                <a:lnTo>
                  <a:pt x="604" y="171"/>
                </a:lnTo>
                <a:lnTo>
                  <a:pt x="622" y="199"/>
                </a:lnTo>
                <a:lnTo>
                  <a:pt x="642" y="229"/>
                </a:lnTo>
                <a:lnTo>
                  <a:pt x="663" y="258"/>
                </a:lnTo>
                <a:lnTo>
                  <a:pt x="683" y="287"/>
                </a:lnTo>
                <a:lnTo>
                  <a:pt x="693" y="299"/>
                </a:lnTo>
                <a:lnTo>
                  <a:pt x="700" y="311"/>
                </a:lnTo>
                <a:lnTo>
                  <a:pt x="706" y="321"/>
                </a:lnTo>
                <a:lnTo>
                  <a:pt x="711" y="330"/>
                </a:lnTo>
                <a:lnTo>
                  <a:pt x="714" y="340"/>
                </a:lnTo>
                <a:lnTo>
                  <a:pt x="719" y="350"/>
                </a:lnTo>
                <a:lnTo>
                  <a:pt x="724" y="357"/>
                </a:lnTo>
                <a:lnTo>
                  <a:pt x="731" y="364"/>
                </a:lnTo>
                <a:lnTo>
                  <a:pt x="736" y="370"/>
                </a:lnTo>
                <a:lnTo>
                  <a:pt x="740" y="374"/>
                </a:lnTo>
                <a:lnTo>
                  <a:pt x="743" y="378"/>
                </a:lnTo>
                <a:lnTo>
                  <a:pt x="744" y="381"/>
                </a:lnTo>
                <a:lnTo>
                  <a:pt x="744" y="382"/>
                </a:lnTo>
                <a:lnTo>
                  <a:pt x="743" y="383"/>
                </a:lnTo>
                <a:lnTo>
                  <a:pt x="741" y="384"/>
                </a:lnTo>
                <a:lnTo>
                  <a:pt x="739" y="386"/>
                </a:lnTo>
                <a:lnTo>
                  <a:pt x="731" y="387"/>
                </a:lnTo>
                <a:lnTo>
                  <a:pt x="718" y="388"/>
                </a:lnTo>
                <a:lnTo>
                  <a:pt x="678" y="389"/>
                </a:lnTo>
                <a:lnTo>
                  <a:pt x="614" y="389"/>
                </a:lnTo>
                <a:lnTo>
                  <a:pt x="592" y="389"/>
                </a:lnTo>
                <a:lnTo>
                  <a:pt x="565" y="389"/>
                </a:lnTo>
                <a:lnTo>
                  <a:pt x="536" y="390"/>
                </a:lnTo>
                <a:lnTo>
                  <a:pt x="505" y="391"/>
                </a:lnTo>
                <a:lnTo>
                  <a:pt x="474" y="393"/>
                </a:lnTo>
                <a:lnTo>
                  <a:pt x="446" y="397"/>
                </a:lnTo>
                <a:lnTo>
                  <a:pt x="433" y="399"/>
                </a:lnTo>
                <a:lnTo>
                  <a:pt x="420" y="401"/>
                </a:lnTo>
                <a:lnTo>
                  <a:pt x="410" y="405"/>
                </a:lnTo>
                <a:lnTo>
                  <a:pt x="400" y="408"/>
                </a:lnTo>
                <a:lnTo>
                  <a:pt x="365" y="411"/>
                </a:lnTo>
                <a:lnTo>
                  <a:pt x="333" y="415"/>
                </a:lnTo>
                <a:lnTo>
                  <a:pt x="306" y="418"/>
                </a:lnTo>
                <a:lnTo>
                  <a:pt x="285" y="421"/>
                </a:lnTo>
                <a:lnTo>
                  <a:pt x="275" y="421"/>
                </a:lnTo>
                <a:lnTo>
                  <a:pt x="267" y="420"/>
                </a:lnTo>
                <a:lnTo>
                  <a:pt x="261" y="419"/>
                </a:lnTo>
                <a:lnTo>
                  <a:pt x="255" y="417"/>
                </a:lnTo>
                <a:lnTo>
                  <a:pt x="251" y="414"/>
                </a:lnTo>
                <a:lnTo>
                  <a:pt x="248" y="409"/>
                </a:lnTo>
                <a:lnTo>
                  <a:pt x="246" y="402"/>
                </a:lnTo>
                <a:lnTo>
                  <a:pt x="246" y="395"/>
                </a:lnTo>
                <a:lnTo>
                  <a:pt x="244" y="383"/>
                </a:lnTo>
                <a:lnTo>
                  <a:pt x="241" y="370"/>
                </a:lnTo>
                <a:lnTo>
                  <a:pt x="235" y="354"/>
                </a:lnTo>
                <a:lnTo>
                  <a:pt x="228" y="337"/>
                </a:lnTo>
                <a:lnTo>
                  <a:pt x="210" y="297"/>
                </a:lnTo>
                <a:lnTo>
                  <a:pt x="190" y="254"/>
                </a:lnTo>
                <a:lnTo>
                  <a:pt x="169" y="209"/>
                </a:lnTo>
                <a:lnTo>
                  <a:pt x="150" y="166"/>
                </a:lnTo>
                <a:lnTo>
                  <a:pt x="142" y="146"/>
                </a:lnTo>
                <a:lnTo>
                  <a:pt x="136" y="129"/>
                </a:lnTo>
                <a:lnTo>
                  <a:pt x="131" y="112"/>
                </a:lnTo>
                <a:lnTo>
                  <a:pt x="129" y="97"/>
                </a:lnTo>
                <a:lnTo>
                  <a:pt x="125" y="97"/>
                </a:lnTo>
                <a:lnTo>
                  <a:pt x="113" y="97"/>
                </a:lnTo>
                <a:lnTo>
                  <a:pt x="97" y="97"/>
                </a:lnTo>
                <a:lnTo>
                  <a:pt x="77" y="97"/>
                </a:lnTo>
                <a:lnTo>
                  <a:pt x="55" y="97"/>
                </a:lnTo>
                <a:lnTo>
                  <a:pt x="34" y="97"/>
                </a:lnTo>
                <a:lnTo>
                  <a:pt x="15" y="97"/>
                </a:lnTo>
                <a:lnTo>
                  <a:pt x="0" y="97"/>
                </a:lnTo>
                <a:lnTo>
                  <a:pt x="2" y="111"/>
                </a:lnTo>
                <a:lnTo>
                  <a:pt x="5" y="124"/>
                </a:lnTo>
                <a:lnTo>
                  <a:pt x="8" y="137"/>
                </a:lnTo>
                <a:lnTo>
                  <a:pt x="13" y="151"/>
                </a:lnTo>
                <a:lnTo>
                  <a:pt x="23" y="177"/>
                </a:lnTo>
                <a:lnTo>
                  <a:pt x="36" y="203"/>
                </a:lnTo>
                <a:lnTo>
                  <a:pt x="49" y="230"/>
                </a:lnTo>
                <a:lnTo>
                  <a:pt x="64" y="255"/>
                </a:lnTo>
                <a:lnTo>
                  <a:pt x="80" y="281"/>
                </a:lnTo>
                <a:lnTo>
                  <a:pt x="96" y="308"/>
                </a:lnTo>
                <a:lnTo>
                  <a:pt x="112" y="334"/>
                </a:lnTo>
                <a:lnTo>
                  <a:pt x="127" y="360"/>
                </a:lnTo>
                <a:lnTo>
                  <a:pt x="142" y="386"/>
                </a:lnTo>
                <a:lnTo>
                  <a:pt x="155" y="412"/>
                </a:lnTo>
                <a:lnTo>
                  <a:pt x="167" y="438"/>
                </a:lnTo>
                <a:lnTo>
                  <a:pt x="177" y="465"/>
                </a:lnTo>
                <a:lnTo>
                  <a:pt x="180" y="478"/>
                </a:lnTo>
                <a:lnTo>
                  <a:pt x="183" y="491"/>
                </a:lnTo>
                <a:lnTo>
                  <a:pt x="186" y="505"/>
                </a:lnTo>
                <a:lnTo>
                  <a:pt x="187" y="518"/>
                </a:lnTo>
                <a:lnTo>
                  <a:pt x="201" y="518"/>
                </a:lnTo>
                <a:lnTo>
                  <a:pt x="220" y="518"/>
                </a:lnTo>
                <a:lnTo>
                  <a:pt x="249" y="512"/>
                </a:lnTo>
                <a:lnTo>
                  <a:pt x="282" y="507"/>
                </a:lnTo>
                <a:lnTo>
                  <a:pt x="318" y="502"/>
                </a:lnTo>
                <a:lnTo>
                  <a:pt x="355" y="498"/>
                </a:lnTo>
                <a:lnTo>
                  <a:pt x="393" y="493"/>
                </a:lnTo>
                <a:lnTo>
                  <a:pt x="429" y="488"/>
                </a:lnTo>
                <a:lnTo>
                  <a:pt x="446" y="485"/>
                </a:lnTo>
                <a:lnTo>
                  <a:pt x="461" y="481"/>
                </a:lnTo>
                <a:lnTo>
                  <a:pt x="477" y="477"/>
                </a:lnTo>
                <a:lnTo>
                  <a:pt x="491" y="473"/>
                </a:lnTo>
                <a:lnTo>
                  <a:pt x="506" y="475"/>
                </a:lnTo>
                <a:lnTo>
                  <a:pt x="523" y="475"/>
                </a:lnTo>
                <a:lnTo>
                  <a:pt x="546" y="476"/>
                </a:lnTo>
                <a:lnTo>
                  <a:pt x="570" y="475"/>
                </a:lnTo>
                <a:lnTo>
                  <a:pt x="625" y="471"/>
                </a:lnTo>
                <a:lnTo>
                  <a:pt x="685" y="466"/>
                </a:lnTo>
                <a:lnTo>
                  <a:pt x="746" y="458"/>
                </a:lnTo>
                <a:lnTo>
                  <a:pt x="803" y="450"/>
                </a:lnTo>
                <a:lnTo>
                  <a:pt x="850" y="441"/>
                </a:lnTo>
                <a:lnTo>
                  <a:pt x="885" y="434"/>
                </a:lnTo>
                <a:lnTo>
                  <a:pt x="893" y="432"/>
                </a:lnTo>
                <a:lnTo>
                  <a:pt x="901" y="429"/>
                </a:lnTo>
                <a:lnTo>
                  <a:pt x="906" y="426"/>
                </a:lnTo>
                <a:lnTo>
                  <a:pt x="911" y="421"/>
                </a:lnTo>
                <a:lnTo>
                  <a:pt x="914" y="417"/>
                </a:lnTo>
                <a:lnTo>
                  <a:pt x="917" y="412"/>
                </a:lnTo>
                <a:lnTo>
                  <a:pt x="919" y="407"/>
                </a:lnTo>
                <a:lnTo>
                  <a:pt x="919" y="401"/>
                </a:lnTo>
                <a:lnTo>
                  <a:pt x="919" y="395"/>
                </a:lnTo>
                <a:lnTo>
                  <a:pt x="917" y="389"/>
                </a:lnTo>
                <a:lnTo>
                  <a:pt x="914" y="381"/>
                </a:lnTo>
                <a:lnTo>
                  <a:pt x="912" y="374"/>
                </a:lnTo>
                <a:lnTo>
                  <a:pt x="905" y="360"/>
                </a:lnTo>
                <a:lnTo>
                  <a:pt x="896" y="344"/>
                </a:lnTo>
                <a:lnTo>
                  <a:pt x="885" y="330"/>
                </a:lnTo>
                <a:lnTo>
                  <a:pt x="873" y="315"/>
                </a:lnTo>
                <a:lnTo>
                  <a:pt x="862" y="300"/>
                </a:lnTo>
                <a:lnTo>
                  <a:pt x="849" y="287"/>
                </a:lnTo>
                <a:lnTo>
                  <a:pt x="828" y="262"/>
                </a:lnTo>
                <a:lnTo>
                  <a:pt x="815" y="247"/>
                </a:lnTo>
                <a:lnTo>
                  <a:pt x="788" y="217"/>
                </a:lnTo>
                <a:lnTo>
                  <a:pt x="764" y="187"/>
                </a:lnTo>
                <a:lnTo>
                  <a:pt x="741" y="157"/>
                </a:lnTo>
                <a:lnTo>
                  <a:pt x="718" y="128"/>
                </a:lnTo>
                <a:lnTo>
                  <a:pt x="694" y="98"/>
                </a:lnTo>
                <a:lnTo>
                  <a:pt x="667" y="69"/>
                </a:lnTo>
                <a:lnTo>
                  <a:pt x="654" y="55"/>
                </a:lnTo>
                <a:lnTo>
                  <a:pt x="639" y="40"/>
                </a:lnTo>
                <a:lnTo>
                  <a:pt x="623" y="26"/>
                </a:lnTo>
                <a:lnTo>
                  <a:pt x="608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3139920"/>
            <a:ext cx="33480" cy="109800"/>
          </a:xfrm>
          <a:custGeom>
            <a:avLst/>
            <a:gdLst/>
            <a:ahLst/>
            <a:rect l="l" t="t" r="r" b="b"/>
            <a:pathLst>
              <a:path w="1898" h="4639">
                <a:moveTo>
                  <a:pt x="899" y="1628"/>
                </a:moveTo>
                <a:lnTo>
                  <a:pt x="894" y="1599"/>
                </a:lnTo>
                <a:lnTo>
                  <a:pt x="890" y="1568"/>
                </a:lnTo>
                <a:lnTo>
                  <a:pt x="885" y="1536"/>
                </a:lnTo>
                <a:lnTo>
                  <a:pt x="878" y="1503"/>
                </a:lnTo>
                <a:lnTo>
                  <a:pt x="870" y="1468"/>
                </a:lnTo>
                <a:lnTo>
                  <a:pt x="862" y="1432"/>
                </a:lnTo>
                <a:lnTo>
                  <a:pt x="852" y="1395"/>
                </a:lnTo>
                <a:lnTo>
                  <a:pt x="843" y="1357"/>
                </a:lnTo>
                <a:lnTo>
                  <a:pt x="831" y="1319"/>
                </a:lnTo>
                <a:lnTo>
                  <a:pt x="820" y="1280"/>
                </a:lnTo>
                <a:lnTo>
                  <a:pt x="807" y="1240"/>
                </a:lnTo>
                <a:lnTo>
                  <a:pt x="795" y="1200"/>
                </a:lnTo>
                <a:lnTo>
                  <a:pt x="780" y="1160"/>
                </a:lnTo>
                <a:lnTo>
                  <a:pt x="765" y="1119"/>
                </a:lnTo>
                <a:lnTo>
                  <a:pt x="750" y="1079"/>
                </a:lnTo>
                <a:lnTo>
                  <a:pt x="735" y="1038"/>
                </a:lnTo>
                <a:lnTo>
                  <a:pt x="718" y="998"/>
                </a:lnTo>
                <a:lnTo>
                  <a:pt x="701" y="958"/>
                </a:lnTo>
                <a:lnTo>
                  <a:pt x="683" y="918"/>
                </a:lnTo>
                <a:lnTo>
                  <a:pt x="665" y="879"/>
                </a:lnTo>
                <a:lnTo>
                  <a:pt x="646" y="840"/>
                </a:lnTo>
                <a:lnTo>
                  <a:pt x="627" y="801"/>
                </a:lnTo>
                <a:lnTo>
                  <a:pt x="608" y="764"/>
                </a:lnTo>
                <a:lnTo>
                  <a:pt x="588" y="727"/>
                </a:lnTo>
                <a:lnTo>
                  <a:pt x="569" y="693"/>
                </a:lnTo>
                <a:lnTo>
                  <a:pt x="547" y="658"/>
                </a:lnTo>
                <a:lnTo>
                  <a:pt x="528" y="625"/>
                </a:lnTo>
                <a:lnTo>
                  <a:pt x="506" y="594"/>
                </a:lnTo>
                <a:lnTo>
                  <a:pt x="484" y="563"/>
                </a:lnTo>
                <a:lnTo>
                  <a:pt x="463" y="535"/>
                </a:lnTo>
                <a:lnTo>
                  <a:pt x="442" y="507"/>
                </a:lnTo>
                <a:lnTo>
                  <a:pt x="420" y="482"/>
                </a:lnTo>
                <a:lnTo>
                  <a:pt x="409" y="466"/>
                </a:lnTo>
                <a:lnTo>
                  <a:pt x="398" y="448"/>
                </a:lnTo>
                <a:lnTo>
                  <a:pt x="390" y="430"/>
                </a:lnTo>
                <a:lnTo>
                  <a:pt x="382" y="412"/>
                </a:lnTo>
                <a:lnTo>
                  <a:pt x="375" y="393"/>
                </a:lnTo>
                <a:lnTo>
                  <a:pt x="369" y="372"/>
                </a:lnTo>
                <a:lnTo>
                  <a:pt x="364" y="351"/>
                </a:lnTo>
                <a:lnTo>
                  <a:pt x="358" y="330"/>
                </a:lnTo>
                <a:lnTo>
                  <a:pt x="349" y="287"/>
                </a:lnTo>
                <a:lnTo>
                  <a:pt x="339" y="245"/>
                </a:lnTo>
                <a:lnTo>
                  <a:pt x="334" y="224"/>
                </a:lnTo>
                <a:lnTo>
                  <a:pt x="329" y="203"/>
                </a:lnTo>
                <a:lnTo>
                  <a:pt x="324" y="183"/>
                </a:lnTo>
                <a:lnTo>
                  <a:pt x="316" y="163"/>
                </a:lnTo>
                <a:lnTo>
                  <a:pt x="309" y="144"/>
                </a:lnTo>
                <a:lnTo>
                  <a:pt x="300" y="125"/>
                </a:lnTo>
                <a:lnTo>
                  <a:pt x="291" y="107"/>
                </a:lnTo>
                <a:lnTo>
                  <a:pt x="280" y="90"/>
                </a:lnTo>
                <a:lnTo>
                  <a:pt x="269" y="75"/>
                </a:lnTo>
                <a:lnTo>
                  <a:pt x="254" y="61"/>
                </a:lnTo>
                <a:lnTo>
                  <a:pt x="239" y="47"/>
                </a:lnTo>
                <a:lnTo>
                  <a:pt x="222" y="36"/>
                </a:lnTo>
                <a:lnTo>
                  <a:pt x="203" y="25"/>
                </a:lnTo>
                <a:lnTo>
                  <a:pt x="182" y="17"/>
                </a:lnTo>
                <a:lnTo>
                  <a:pt x="157" y="9"/>
                </a:lnTo>
                <a:lnTo>
                  <a:pt x="131" y="4"/>
                </a:lnTo>
                <a:lnTo>
                  <a:pt x="103" y="1"/>
                </a:lnTo>
                <a:lnTo>
                  <a:pt x="71" y="0"/>
                </a:lnTo>
                <a:lnTo>
                  <a:pt x="38" y="1"/>
                </a:lnTo>
                <a:lnTo>
                  <a:pt x="0" y="3"/>
                </a:lnTo>
                <a:lnTo>
                  <a:pt x="9" y="79"/>
                </a:lnTo>
                <a:lnTo>
                  <a:pt x="23" y="155"/>
                </a:lnTo>
                <a:lnTo>
                  <a:pt x="40" y="230"/>
                </a:lnTo>
                <a:lnTo>
                  <a:pt x="59" y="306"/>
                </a:lnTo>
                <a:lnTo>
                  <a:pt x="81" y="382"/>
                </a:lnTo>
                <a:lnTo>
                  <a:pt x="106" y="458"/>
                </a:lnTo>
                <a:lnTo>
                  <a:pt x="133" y="534"/>
                </a:lnTo>
                <a:lnTo>
                  <a:pt x="164" y="611"/>
                </a:lnTo>
                <a:lnTo>
                  <a:pt x="195" y="686"/>
                </a:lnTo>
                <a:lnTo>
                  <a:pt x="229" y="763"/>
                </a:lnTo>
                <a:lnTo>
                  <a:pt x="264" y="839"/>
                </a:lnTo>
                <a:lnTo>
                  <a:pt x="300" y="915"/>
                </a:lnTo>
                <a:lnTo>
                  <a:pt x="338" y="992"/>
                </a:lnTo>
                <a:lnTo>
                  <a:pt x="378" y="1068"/>
                </a:lnTo>
                <a:lnTo>
                  <a:pt x="417" y="1144"/>
                </a:lnTo>
                <a:lnTo>
                  <a:pt x="458" y="1220"/>
                </a:lnTo>
                <a:lnTo>
                  <a:pt x="540" y="1373"/>
                </a:lnTo>
                <a:lnTo>
                  <a:pt x="622" y="1525"/>
                </a:lnTo>
                <a:lnTo>
                  <a:pt x="663" y="1600"/>
                </a:lnTo>
                <a:lnTo>
                  <a:pt x="703" y="1675"/>
                </a:lnTo>
                <a:lnTo>
                  <a:pt x="742" y="1751"/>
                </a:lnTo>
                <a:lnTo>
                  <a:pt x="781" y="1826"/>
                </a:lnTo>
                <a:lnTo>
                  <a:pt x="818" y="1901"/>
                </a:lnTo>
                <a:lnTo>
                  <a:pt x="853" y="1975"/>
                </a:lnTo>
                <a:lnTo>
                  <a:pt x="888" y="2050"/>
                </a:lnTo>
                <a:lnTo>
                  <a:pt x="920" y="2124"/>
                </a:lnTo>
                <a:lnTo>
                  <a:pt x="950" y="2199"/>
                </a:lnTo>
                <a:lnTo>
                  <a:pt x="978" y="2271"/>
                </a:lnTo>
                <a:lnTo>
                  <a:pt x="1005" y="2345"/>
                </a:lnTo>
                <a:lnTo>
                  <a:pt x="1028" y="2418"/>
                </a:lnTo>
                <a:lnTo>
                  <a:pt x="1037" y="2447"/>
                </a:lnTo>
                <a:lnTo>
                  <a:pt x="1050" y="2479"/>
                </a:lnTo>
                <a:lnTo>
                  <a:pt x="1066" y="2511"/>
                </a:lnTo>
                <a:lnTo>
                  <a:pt x="1085" y="2545"/>
                </a:lnTo>
                <a:lnTo>
                  <a:pt x="1106" y="2580"/>
                </a:lnTo>
                <a:lnTo>
                  <a:pt x="1129" y="2617"/>
                </a:lnTo>
                <a:lnTo>
                  <a:pt x="1154" y="2655"/>
                </a:lnTo>
                <a:lnTo>
                  <a:pt x="1180" y="2693"/>
                </a:lnTo>
                <a:lnTo>
                  <a:pt x="1298" y="2856"/>
                </a:lnTo>
                <a:lnTo>
                  <a:pt x="1419" y="3025"/>
                </a:lnTo>
                <a:lnTo>
                  <a:pt x="1447" y="3067"/>
                </a:lnTo>
                <a:lnTo>
                  <a:pt x="1475" y="3111"/>
                </a:lnTo>
                <a:lnTo>
                  <a:pt x="1500" y="3153"/>
                </a:lnTo>
                <a:lnTo>
                  <a:pt x="1524" y="3195"/>
                </a:lnTo>
                <a:lnTo>
                  <a:pt x="1547" y="3237"/>
                </a:lnTo>
                <a:lnTo>
                  <a:pt x="1566" y="3279"/>
                </a:lnTo>
                <a:lnTo>
                  <a:pt x="1584" y="3319"/>
                </a:lnTo>
                <a:lnTo>
                  <a:pt x="1599" y="3359"/>
                </a:lnTo>
                <a:lnTo>
                  <a:pt x="1609" y="3399"/>
                </a:lnTo>
                <a:lnTo>
                  <a:pt x="1618" y="3437"/>
                </a:lnTo>
                <a:lnTo>
                  <a:pt x="1622" y="3474"/>
                </a:lnTo>
                <a:lnTo>
                  <a:pt x="1622" y="3511"/>
                </a:lnTo>
                <a:lnTo>
                  <a:pt x="1618" y="3546"/>
                </a:lnTo>
                <a:lnTo>
                  <a:pt x="1609" y="3579"/>
                </a:lnTo>
                <a:lnTo>
                  <a:pt x="1596" y="3611"/>
                </a:lnTo>
                <a:lnTo>
                  <a:pt x="1577" y="3641"/>
                </a:lnTo>
                <a:lnTo>
                  <a:pt x="1586" y="3652"/>
                </a:lnTo>
                <a:lnTo>
                  <a:pt x="1596" y="3666"/>
                </a:lnTo>
                <a:lnTo>
                  <a:pt x="1605" y="3684"/>
                </a:lnTo>
                <a:lnTo>
                  <a:pt x="1615" y="3705"/>
                </a:lnTo>
                <a:lnTo>
                  <a:pt x="1624" y="3729"/>
                </a:lnTo>
                <a:lnTo>
                  <a:pt x="1632" y="3756"/>
                </a:lnTo>
                <a:lnTo>
                  <a:pt x="1641" y="3786"/>
                </a:lnTo>
                <a:lnTo>
                  <a:pt x="1649" y="3817"/>
                </a:lnTo>
                <a:lnTo>
                  <a:pt x="1658" y="3852"/>
                </a:lnTo>
                <a:lnTo>
                  <a:pt x="1665" y="3888"/>
                </a:lnTo>
                <a:lnTo>
                  <a:pt x="1672" y="3926"/>
                </a:lnTo>
                <a:lnTo>
                  <a:pt x="1679" y="3965"/>
                </a:lnTo>
                <a:lnTo>
                  <a:pt x="1685" y="4005"/>
                </a:lnTo>
                <a:lnTo>
                  <a:pt x="1690" y="4045"/>
                </a:lnTo>
                <a:lnTo>
                  <a:pt x="1695" y="4086"/>
                </a:lnTo>
                <a:lnTo>
                  <a:pt x="1701" y="4127"/>
                </a:lnTo>
                <a:lnTo>
                  <a:pt x="1705" y="4168"/>
                </a:lnTo>
                <a:lnTo>
                  <a:pt x="1708" y="4209"/>
                </a:lnTo>
                <a:lnTo>
                  <a:pt x="1711" y="4249"/>
                </a:lnTo>
                <a:lnTo>
                  <a:pt x="1713" y="4289"/>
                </a:lnTo>
                <a:lnTo>
                  <a:pt x="1714" y="4327"/>
                </a:lnTo>
                <a:lnTo>
                  <a:pt x="1715" y="4364"/>
                </a:lnTo>
                <a:lnTo>
                  <a:pt x="1715" y="4399"/>
                </a:lnTo>
                <a:lnTo>
                  <a:pt x="1714" y="4432"/>
                </a:lnTo>
                <a:lnTo>
                  <a:pt x="1712" y="4463"/>
                </a:lnTo>
                <a:lnTo>
                  <a:pt x="1710" y="4491"/>
                </a:lnTo>
                <a:lnTo>
                  <a:pt x="1706" y="4517"/>
                </a:lnTo>
                <a:lnTo>
                  <a:pt x="1702" y="4539"/>
                </a:lnTo>
                <a:lnTo>
                  <a:pt x="1697" y="4559"/>
                </a:lnTo>
                <a:lnTo>
                  <a:pt x="1690" y="4573"/>
                </a:lnTo>
                <a:lnTo>
                  <a:pt x="1683" y="4586"/>
                </a:lnTo>
                <a:lnTo>
                  <a:pt x="1673" y="4593"/>
                </a:lnTo>
                <a:lnTo>
                  <a:pt x="1732" y="4639"/>
                </a:lnTo>
                <a:lnTo>
                  <a:pt x="1772" y="4582"/>
                </a:lnTo>
                <a:lnTo>
                  <a:pt x="1806" y="4524"/>
                </a:lnTo>
                <a:lnTo>
                  <a:pt x="1834" y="4464"/>
                </a:lnTo>
                <a:lnTo>
                  <a:pt x="1856" y="4403"/>
                </a:lnTo>
                <a:lnTo>
                  <a:pt x="1874" y="4340"/>
                </a:lnTo>
                <a:lnTo>
                  <a:pt x="1887" y="4276"/>
                </a:lnTo>
                <a:lnTo>
                  <a:pt x="1895" y="4211"/>
                </a:lnTo>
                <a:lnTo>
                  <a:pt x="1898" y="4146"/>
                </a:lnTo>
                <a:lnTo>
                  <a:pt x="1898" y="4078"/>
                </a:lnTo>
                <a:lnTo>
                  <a:pt x="1894" y="4012"/>
                </a:lnTo>
                <a:lnTo>
                  <a:pt x="1887" y="3944"/>
                </a:lnTo>
                <a:lnTo>
                  <a:pt x="1876" y="3875"/>
                </a:lnTo>
                <a:lnTo>
                  <a:pt x="1863" y="3807"/>
                </a:lnTo>
                <a:lnTo>
                  <a:pt x="1846" y="3738"/>
                </a:lnTo>
                <a:lnTo>
                  <a:pt x="1827" y="3670"/>
                </a:lnTo>
                <a:lnTo>
                  <a:pt x="1806" y="3601"/>
                </a:lnTo>
                <a:lnTo>
                  <a:pt x="1784" y="3533"/>
                </a:lnTo>
                <a:lnTo>
                  <a:pt x="1760" y="3465"/>
                </a:lnTo>
                <a:lnTo>
                  <a:pt x="1734" y="3397"/>
                </a:lnTo>
                <a:lnTo>
                  <a:pt x="1707" y="3330"/>
                </a:lnTo>
                <a:lnTo>
                  <a:pt x="1652" y="3198"/>
                </a:lnTo>
                <a:lnTo>
                  <a:pt x="1598" y="3070"/>
                </a:lnTo>
                <a:lnTo>
                  <a:pt x="1544" y="2945"/>
                </a:lnTo>
                <a:lnTo>
                  <a:pt x="1494" y="2827"/>
                </a:lnTo>
                <a:lnTo>
                  <a:pt x="1472" y="2771"/>
                </a:lnTo>
                <a:lnTo>
                  <a:pt x="1451" y="2716"/>
                </a:lnTo>
                <a:lnTo>
                  <a:pt x="1432" y="2663"/>
                </a:lnTo>
                <a:lnTo>
                  <a:pt x="1416" y="2613"/>
                </a:lnTo>
                <a:lnTo>
                  <a:pt x="1406" y="2581"/>
                </a:lnTo>
                <a:lnTo>
                  <a:pt x="1396" y="2550"/>
                </a:lnTo>
                <a:lnTo>
                  <a:pt x="1384" y="2520"/>
                </a:lnTo>
                <a:lnTo>
                  <a:pt x="1371" y="2489"/>
                </a:lnTo>
                <a:lnTo>
                  <a:pt x="1355" y="2458"/>
                </a:lnTo>
                <a:lnTo>
                  <a:pt x="1339" y="2427"/>
                </a:lnTo>
                <a:lnTo>
                  <a:pt x="1322" y="2397"/>
                </a:lnTo>
                <a:lnTo>
                  <a:pt x="1303" y="2366"/>
                </a:lnTo>
                <a:lnTo>
                  <a:pt x="1264" y="2304"/>
                </a:lnTo>
                <a:lnTo>
                  <a:pt x="1223" y="2243"/>
                </a:lnTo>
                <a:lnTo>
                  <a:pt x="1180" y="2182"/>
                </a:lnTo>
                <a:lnTo>
                  <a:pt x="1137" y="2121"/>
                </a:lnTo>
                <a:lnTo>
                  <a:pt x="1095" y="2059"/>
                </a:lnTo>
                <a:lnTo>
                  <a:pt x="1054" y="1998"/>
                </a:lnTo>
                <a:lnTo>
                  <a:pt x="1034" y="1967"/>
                </a:lnTo>
                <a:lnTo>
                  <a:pt x="1015" y="1936"/>
                </a:lnTo>
                <a:lnTo>
                  <a:pt x="997" y="1906"/>
                </a:lnTo>
                <a:lnTo>
                  <a:pt x="981" y="1875"/>
                </a:lnTo>
                <a:lnTo>
                  <a:pt x="965" y="1844"/>
                </a:lnTo>
                <a:lnTo>
                  <a:pt x="951" y="1813"/>
                </a:lnTo>
                <a:lnTo>
                  <a:pt x="937" y="1783"/>
                </a:lnTo>
                <a:lnTo>
                  <a:pt x="926" y="1752"/>
                </a:lnTo>
                <a:lnTo>
                  <a:pt x="916" y="1721"/>
                </a:lnTo>
                <a:lnTo>
                  <a:pt x="908" y="1690"/>
                </a:lnTo>
                <a:lnTo>
                  <a:pt x="903" y="1659"/>
                </a:lnTo>
                <a:lnTo>
                  <a:pt x="899" y="162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19800" y="3149640"/>
            <a:ext cx="42840" cy="98280"/>
          </a:xfrm>
          <a:custGeom>
            <a:avLst/>
            <a:gdLst/>
            <a:ahLst/>
            <a:rect l="l" t="t" r="r" b="b"/>
            <a:pathLst>
              <a:path w="2408" h="4221">
                <a:moveTo>
                  <a:pt x="392" y="1236"/>
                </a:moveTo>
                <a:lnTo>
                  <a:pt x="389" y="1197"/>
                </a:lnTo>
                <a:lnTo>
                  <a:pt x="388" y="1159"/>
                </a:lnTo>
                <a:lnTo>
                  <a:pt x="389" y="1121"/>
                </a:lnTo>
                <a:lnTo>
                  <a:pt x="391" y="1082"/>
                </a:lnTo>
                <a:lnTo>
                  <a:pt x="394" y="1046"/>
                </a:lnTo>
                <a:lnTo>
                  <a:pt x="399" y="1008"/>
                </a:lnTo>
                <a:lnTo>
                  <a:pt x="407" y="970"/>
                </a:lnTo>
                <a:lnTo>
                  <a:pt x="414" y="933"/>
                </a:lnTo>
                <a:lnTo>
                  <a:pt x="422" y="896"/>
                </a:lnTo>
                <a:lnTo>
                  <a:pt x="433" y="859"/>
                </a:lnTo>
                <a:lnTo>
                  <a:pt x="443" y="822"/>
                </a:lnTo>
                <a:lnTo>
                  <a:pt x="455" y="786"/>
                </a:lnTo>
                <a:lnTo>
                  <a:pt x="480" y="713"/>
                </a:lnTo>
                <a:lnTo>
                  <a:pt x="508" y="640"/>
                </a:lnTo>
                <a:lnTo>
                  <a:pt x="535" y="568"/>
                </a:lnTo>
                <a:lnTo>
                  <a:pt x="562" y="495"/>
                </a:lnTo>
                <a:lnTo>
                  <a:pt x="589" y="423"/>
                </a:lnTo>
                <a:lnTo>
                  <a:pt x="613" y="351"/>
                </a:lnTo>
                <a:lnTo>
                  <a:pt x="623" y="315"/>
                </a:lnTo>
                <a:lnTo>
                  <a:pt x="634" y="278"/>
                </a:lnTo>
                <a:lnTo>
                  <a:pt x="643" y="242"/>
                </a:lnTo>
                <a:lnTo>
                  <a:pt x="651" y="205"/>
                </a:lnTo>
                <a:lnTo>
                  <a:pt x="658" y="168"/>
                </a:lnTo>
                <a:lnTo>
                  <a:pt x="663" y="132"/>
                </a:lnTo>
                <a:lnTo>
                  <a:pt x="667" y="95"/>
                </a:lnTo>
                <a:lnTo>
                  <a:pt x="671" y="58"/>
                </a:lnTo>
                <a:lnTo>
                  <a:pt x="671" y="63"/>
                </a:lnTo>
                <a:lnTo>
                  <a:pt x="671" y="67"/>
                </a:lnTo>
                <a:lnTo>
                  <a:pt x="669" y="70"/>
                </a:lnTo>
                <a:lnTo>
                  <a:pt x="667" y="75"/>
                </a:lnTo>
                <a:lnTo>
                  <a:pt x="666" y="78"/>
                </a:lnTo>
                <a:lnTo>
                  <a:pt x="663" y="80"/>
                </a:lnTo>
                <a:lnTo>
                  <a:pt x="660" y="83"/>
                </a:lnTo>
                <a:lnTo>
                  <a:pt x="657" y="85"/>
                </a:lnTo>
                <a:lnTo>
                  <a:pt x="650" y="88"/>
                </a:lnTo>
                <a:lnTo>
                  <a:pt x="640" y="92"/>
                </a:lnTo>
                <a:lnTo>
                  <a:pt x="630" y="94"/>
                </a:lnTo>
                <a:lnTo>
                  <a:pt x="618" y="95"/>
                </a:lnTo>
                <a:lnTo>
                  <a:pt x="593" y="96"/>
                </a:lnTo>
                <a:lnTo>
                  <a:pt x="568" y="96"/>
                </a:lnTo>
                <a:lnTo>
                  <a:pt x="543" y="96"/>
                </a:lnTo>
                <a:lnTo>
                  <a:pt x="521" y="97"/>
                </a:lnTo>
                <a:lnTo>
                  <a:pt x="529" y="87"/>
                </a:lnTo>
                <a:lnTo>
                  <a:pt x="534" y="78"/>
                </a:lnTo>
                <a:lnTo>
                  <a:pt x="537" y="70"/>
                </a:lnTo>
                <a:lnTo>
                  <a:pt x="539" y="64"/>
                </a:lnTo>
                <a:lnTo>
                  <a:pt x="538" y="58"/>
                </a:lnTo>
                <a:lnTo>
                  <a:pt x="536" y="53"/>
                </a:lnTo>
                <a:lnTo>
                  <a:pt x="533" y="48"/>
                </a:lnTo>
                <a:lnTo>
                  <a:pt x="529" y="43"/>
                </a:lnTo>
                <a:lnTo>
                  <a:pt x="515" y="36"/>
                </a:lnTo>
                <a:lnTo>
                  <a:pt x="498" y="26"/>
                </a:lnTo>
                <a:lnTo>
                  <a:pt x="489" y="21"/>
                </a:lnTo>
                <a:lnTo>
                  <a:pt x="478" y="15"/>
                </a:lnTo>
                <a:lnTo>
                  <a:pt x="468" y="8"/>
                </a:lnTo>
                <a:lnTo>
                  <a:pt x="457" y="0"/>
                </a:lnTo>
                <a:lnTo>
                  <a:pt x="429" y="38"/>
                </a:lnTo>
                <a:lnTo>
                  <a:pt x="405" y="77"/>
                </a:lnTo>
                <a:lnTo>
                  <a:pt x="382" y="116"/>
                </a:lnTo>
                <a:lnTo>
                  <a:pt x="364" y="156"/>
                </a:lnTo>
                <a:lnTo>
                  <a:pt x="347" y="196"/>
                </a:lnTo>
                <a:lnTo>
                  <a:pt x="333" y="237"/>
                </a:lnTo>
                <a:lnTo>
                  <a:pt x="320" y="278"/>
                </a:lnTo>
                <a:lnTo>
                  <a:pt x="311" y="319"/>
                </a:lnTo>
                <a:lnTo>
                  <a:pt x="303" y="361"/>
                </a:lnTo>
                <a:lnTo>
                  <a:pt x="296" y="403"/>
                </a:lnTo>
                <a:lnTo>
                  <a:pt x="292" y="445"/>
                </a:lnTo>
                <a:lnTo>
                  <a:pt x="288" y="487"/>
                </a:lnTo>
                <a:lnTo>
                  <a:pt x="286" y="531"/>
                </a:lnTo>
                <a:lnTo>
                  <a:pt x="284" y="573"/>
                </a:lnTo>
                <a:lnTo>
                  <a:pt x="283" y="616"/>
                </a:lnTo>
                <a:lnTo>
                  <a:pt x="283" y="658"/>
                </a:lnTo>
                <a:lnTo>
                  <a:pt x="283" y="744"/>
                </a:lnTo>
                <a:lnTo>
                  <a:pt x="282" y="829"/>
                </a:lnTo>
                <a:lnTo>
                  <a:pt x="281" y="871"/>
                </a:lnTo>
                <a:lnTo>
                  <a:pt x="279" y="913"/>
                </a:lnTo>
                <a:lnTo>
                  <a:pt x="276" y="955"/>
                </a:lnTo>
                <a:lnTo>
                  <a:pt x="273" y="996"/>
                </a:lnTo>
                <a:lnTo>
                  <a:pt x="269" y="1037"/>
                </a:lnTo>
                <a:lnTo>
                  <a:pt x="263" y="1077"/>
                </a:lnTo>
                <a:lnTo>
                  <a:pt x="255" y="1117"/>
                </a:lnTo>
                <a:lnTo>
                  <a:pt x="246" y="1156"/>
                </a:lnTo>
                <a:lnTo>
                  <a:pt x="234" y="1195"/>
                </a:lnTo>
                <a:lnTo>
                  <a:pt x="221" y="1233"/>
                </a:lnTo>
                <a:lnTo>
                  <a:pt x="204" y="1271"/>
                </a:lnTo>
                <a:lnTo>
                  <a:pt x="186" y="1308"/>
                </a:lnTo>
                <a:lnTo>
                  <a:pt x="139" y="1389"/>
                </a:lnTo>
                <a:lnTo>
                  <a:pt x="100" y="1469"/>
                </a:lnTo>
                <a:lnTo>
                  <a:pt x="67" y="1545"/>
                </a:lnTo>
                <a:lnTo>
                  <a:pt x="41" y="1620"/>
                </a:lnTo>
                <a:lnTo>
                  <a:pt x="22" y="1691"/>
                </a:lnTo>
                <a:lnTo>
                  <a:pt x="8" y="1761"/>
                </a:lnTo>
                <a:lnTo>
                  <a:pt x="2" y="1829"/>
                </a:lnTo>
                <a:lnTo>
                  <a:pt x="0" y="1894"/>
                </a:lnTo>
                <a:lnTo>
                  <a:pt x="4" y="1959"/>
                </a:lnTo>
                <a:lnTo>
                  <a:pt x="14" y="2022"/>
                </a:lnTo>
                <a:lnTo>
                  <a:pt x="28" y="2083"/>
                </a:lnTo>
                <a:lnTo>
                  <a:pt x="48" y="2142"/>
                </a:lnTo>
                <a:lnTo>
                  <a:pt x="72" y="2201"/>
                </a:lnTo>
                <a:lnTo>
                  <a:pt x="101" y="2258"/>
                </a:lnTo>
                <a:lnTo>
                  <a:pt x="133" y="2314"/>
                </a:lnTo>
                <a:lnTo>
                  <a:pt x="170" y="2369"/>
                </a:lnTo>
                <a:lnTo>
                  <a:pt x="211" y="2424"/>
                </a:lnTo>
                <a:lnTo>
                  <a:pt x="254" y="2478"/>
                </a:lnTo>
                <a:lnTo>
                  <a:pt x="302" y="2532"/>
                </a:lnTo>
                <a:lnTo>
                  <a:pt x="352" y="2584"/>
                </a:lnTo>
                <a:lnTo>
                  <a:pt x="406" y="2637"/>
                </a:lnTo>
                <a:lnTo>
                  <a:pt x="461" y="2690"/>
                </a:lnTo>
                <a:lnTo>
                  <a:pt x="519" y="2742"/>
                </a:lnTo>
                <a:lnTo>
                  <a:pt x="579" y="2795"/>
                </a:lnTo>
                <a:lnTo>
                  <a:pt x="837" y="3010"/>
                </a:lnTo>
                <a:lnTo>
                  <a:pt x="1110" y="3237"/>
                </a:lnTo>
                <a:lnTo>
                  <a:pt x="1138" y="3259"/>
                </a:lnTo>
                <a:lnTo>
                  <a:pt x="1169" y="3282"/>
                </a:lnTo>
                <a:lnTo>
                  <a:pt x="1202" y="3307"/>
                </a:lnTo>
                <a:lnTo>
                  <a:pt x="1239" y="3332"/>
                </a:lnTo>
                <a:lnTo>
                  <a:pt x="1317" y="3385"/>
                </a:lnTo>
                <a:lnTo>
                  <a:pt x="1403" y="3439"/>
                </a:lnTo>
                <a:lnTo>
                  <a:pt x="1493" y="3497"/>
                </a:lnTo>
                <a:lnTo>
                  <a:pt x="1586" y="3557"/>
                </a:lnTo>
                <a:lnTo>
                  <a:pt x="1680" y="3618"/>
                </a:lnTo>
                <a:lnTo>
                  <a:pt x="1773" y="3681"/>
                </a:lnTo>
                <a:lnTo>
                  <a:pt x="1819" y="3711"/>
                </a:lnTo>
                <a:lnTo>
                  <a:pt x="1863" y="3743"/>
                </a:lnTo>
                <a:lnTo>
                  <a:pt x="1906" y="3774"/>
                </a:lnTo>
                <a:lnTo>
                  <a:pt x="1948" y="3806"/>
                </a:lnTo>
                <a:lnTo>
                  <a:pt x="1988" y="3837"/>
                </a:lnTo>
                <a:lnTo>
                  <a:pt x="2027" y="3869"/>
                </a:lnTo>
                <a:lnTo>
                  <a:pt x="2062" y="3900"/>
                </a:lnTo>
                <a:lnTo>
                  <a:pt x="2096" y="3930"/>
                </a:lnTo>
                <a:lnTo>
                  <a:pt x="2127" y="3961"/>
                </a:lnTo>
                <a:lnTo>
                  <a:pt x="2155" y="3991"/>
                </a:lnTo>
                <a:lnTo>
                  <a:pt x="2179" y="4021"/>
                </a:lnTo>
                <a:lnTo>
                  <a:pt x="2200" y="4050"/>
                </a:lnTo>
                <a:lnTo>
                  <a:pt x="2218" y="4080"/>
                </a:lnTo>
                <a:lnTo>
                  <a:pt x="2232" y="4108"/>
                </a:lnTo>
                <a:lnTo>
                  <a:pt x="2242" y="4135"/>
                </a:lnTo>
                <a:lnTo>
                  <a:pt x="2247" y="4163"/>
                </a:lnTo>
                <a:lnTo>
                  <a:pt x="2257" y="4162"/>
                </a:lnTo>
                <a:lnTo>
                  <a:pt x="2268" y="4162"/>
                </a:lnTo>
                <a:lnTo>
                  <a:pt x="2281" y="4163"/>
                </a:lnTo>
                <a:lnTo>
                  <a:pt x="2294" y="4165"/>
                </a:lnTo>
                <a:lnTo>
                  <a:pt x="2307" y="4168"/>
                </a:lnTo>
                <a:lnTo>
                  <a:pt x="2321" y="4171"/>
                </a:lnTo>
                <a:lnTo>
                  <a:pt x="2335" y="4176"/>
                </a:lnTo>
                <a:lnTo>
                  <a:pt x="2347" y="4180"/>
                </a:lnTo>
                <a:lnTo>
                  <a:pt x="2360" y="4184"/>
                </a:lnTo>
                <a:lnTo>
                  <a:pt x="2371" y="4189"/>
                </a:lnTo>
                <a:lnTo>
                  <a:pt x="2382" y="4194"/>
                </a:lnTo>
                <a:lnTo>
                  <a:pt x="2390" y="4200"/>
                </a:lnTo>
                <a:lnTo>
                  <a:pt x="2398" y="4205"/>
                </a:lnTo>
                <a:lnTo>
                  <a:pt x="2404" y="4210"/>
                </a:lnTo>
                <a:lnTo>
                  <a:pt x="2407" y="4216"/>
                </a:lnTo>
                <a:lnTo>
                  <a:pt x="2408" y="4221"/>
                </a:lnTo>
                <a:lnTo>
                  <a:pt x="2401" y="4170"/>
                </a:lnTo>
                <a:lnTo>
                  <a:pt x="2389" y="4121"/>
                </a:lnTo>
                <a:lnTo>
                  <a:pt x="2374" y="4071"/>
                </a:lnTo>
                <a:lnTo>
                  <a:pt x="2355" y="4022"/>
                </a:lnTo>
                <a:lnTo>
                  <a:pt x="2332" y="3973"/>
                </a:lnTo>
                <a:lnTo>
                  <a:pt x="2306" y="3925"/>
                </a:lnTo>
                <a:lnTo>
                  <a:pt x="2277" y="3877"/>
                </a:lnTo>
                <a:lnTo>
                  <a:pt x="2245" y="3829"/>
                </a:lnTo>
                <a:lnTo>
                  <a:pt x="2211" y="3783"/>
                </a:lnTo>
                <a:lnTo>
                  <a:pt x="2173" y="3736"/>
                </a:lnTo>
                <a:lnTo>
                  <a:pt x="2134" y="3690"/>
                </a:lnTo>
                <a:lnTo>
                  <a:pt x="2092" y="3645"/>
                </a:lnTo>
                <a:lnTo>
                  <a:pt x="2049" y="3600"/>
                </a:lnTo>
                <a:lnTo>
                  <a:pt x="2004" y="3556"/>
                </a:lnTo>
                <a:lnTo>
                  <a:pt x="1957" y="3513"/>
                </a:lnTo>
                <a:lnTo>
                  <a:pt x="1909" y="3470"/>
                </a:lnTo>
                <a:lnTo>
                  <a:pt x="1861" y="3428"/>
                </a:lnTo>
                <a:lnTo>
                  <a:pt x="1810" y="3387"/>
                </a:lnTo>
                <a:lnTo>
                  <a:pt x="1760" y="3346"/>
                </a:lnTo>
                <a:lnTo>
                  <a:pt x="1709" y="3306"/>
                </a:lnTo>
                <a:lnTo>
                  <a:pt x="1658" y="3267"/>
                </a:lnTo>
                <a:lnTo>
                  <a:pt x="1606" y="3228"/>
                </a:lnTo>
                <a:lnTo>
                  <a:pt x="1555" y="3191"/>
                </a:lnTo>
                <a:lnTo>
                  <a:pt x="1503" y="3154"/>
                </a:lnTo>
                <a:lnTo>
                  <a:pt x="1305" y="3016"/>
                </a:lnTo>
                <a:lnTo>
                  <a:pt x="1129" y="2894"/>
                </a:lnTo>
                <a:lnTo>
                  <a:pt x="1042" y="2835"/>
                </a:lnTo>
                <a:lnTo>
                  <a:pt x="941" y="2765"/>
                </a:lnTo>
                <a:lnTo>
                  <a:pt x="829" y="2687"/>
                </a:lnTo>
                <a:lnTo>
                  <a:pt x="712" y="2602"/>
                </a:lnTo>
                <a:lnTo>
                  <a:pt x="590" y="2513"/>
                </a:lnTo>
                <a:lnTo>
                  <a:pt x="467" y="2420"/>
                </a:lnTo>
                <a:lnTo>
                  <a:pt x="406" y="2374"/>
                </a:lnTo>
                <a:lnTo>
                  <a:pt x="346" y="2326"/>
                </a:lnTo>
                <a:lnTo>
                  <a:pt x="288" y="2280"/>
                </a:lnTo>
                <a:lnTo>
                  <a:pt x="231" y="2234"/>
                </a:lnTo>
                <a:lnTo>
                  <a:pt x="227" y="2217"/>
                </a:lnTo>
                <a:lnTo>
                  <a:pt x="224" y="2198"/>
                </a:lnTo>
                <a:lnTo>
                  <a:pt x="222" y="2176"/>
                </a:lnTo>
                <a:lnTo>
                  <a:pt x="221" y="2151"/>
                </a:lnTo>
                <a:lnTo>
                  <a:pt x="220" y="2124"/>
                </a:lnTo>
                <a:lnTo>
                  <a:pt x="220" y="2095"/>
                </a:lnTo>
                <a:lnTo>
                  <a:pt x="221" y="2063"/>
                </a:lnTo>
                <a:lnTo>
                  <a:pt x="222" y="2030"/>
                </a:lnTo>
                <a:lnTo>
                  <a:pt x="226" y="1960"/>
                </a:lnTo>
                <a:lnTo>
                  <a:pt x="233" y="1884"/>
                </a:lnTo>
                <a:lnTo>
                  <a:pt x="243" y="1805"/>
                </a:lnTo>
                <a:lnTo>
                  <a:pt x="253" y="1725"/>
                </a:lnTo>
                <a:lnTo>
                  <a:pt x="267" y="1646"/>
                </a:lnTo>
                <a:lnTo>
                  <a:pt x="282" y="1568"/>
                </a:lnTo>
                <a:lnTo>
                  <a:pt x="289" y="1530"/>
                </a:lnTo>
                <a:lnTo>
                  <a:pt x="297" y="1493"/>
                </a:lnTo>
                <a:lnTo>
                  <a:pt x="306" y="1458"/>
                </a:lnTo>
                <a:lnTo>
                  <a:pt x="314" y="1425"/>
                </a:lnTo>
                <a:lnTo>
                  <a:pt x="324" y="1393"/>
                </a:lnTo>
                <a:lnTo>
                  <a:pt x="333" y="1364"/>
                </a:lnTo>
                <a:lnTo>
                  <a:pt x="343" y="1335"/>
                </a:lnTo>
                <a:lnTo>
                  <a:pt x="352" y="1310"/>
                </a:lnTo>
                <a:lnTo>
                  <a:pt x="361" y="1287"/>
                </a:lnTo>
                <a:lnTo>
                  <a:pt x="372" y="1267"/>
                </a:lnTo>
                <a:lnTo>
                  <a:pt x="382" y="1250"/>
                </a:lnTo>
                <a:lnTo>
                  <a:pt x="392" y="12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23120" y="3114720"/>
            <a:ext cx="54000" cy="119160"/>
          </a:xfrm>
          <a:custGeom>
            <a:avLst/>
            <a:gdLst/>
            <a:ahLst/>
            <a:rect l="l" t="t" r="r" b="b"/>
            <a:pathLst>
              <a:path w="3098" h="5078">
                <a:moveTo>
                  <a:pt x="2694" y="3887"/>
                </a:moveTo>
                <a:lnTo>
                  <a:pt x="2698" y="3921"/>
                </a:lnTo>
                <a:lnTo>
                  <a:pt x="2702" y="3955"/>
                </a:lnTo>
                <a:lnTo>
                  <a:pt x="2708" y="3991"/>
                </a:lnTo>
                <a:lnTo>
                  <a:pt x="2714" y="4026"/>
                </a:lnTo>
                <a:lnTo>
                  <a:pt x="2721" y="4062"/>
                </a:lnTo>
                <a:lnTo>
                  <a:pt x="2729" y="4099"/>
                </a:lnTo>
                <a:lnTo>
                  <a:pt x="2737" y="4136"/>
                </a:lnTo>
                <a:lnTo>
                  <a:pt x="2745" y="4174"/>
                </a:lnTo>
                <a:lnTo>
                  <a:pt x="2765" y="4250"/>
                </a:lnTo>
                <a:lnTo>
                  <a:pt x="2785" y="4327"/>
                </a:lnTo>
                <a:lnTo>
                  <a:pt x="2808" y="4404"/>
                </a:lnTo>
                <a:lnTo>
                  <a:pt x="2830" y="4482"/>
                </a:lnTo>
                <a:lnTo>
                  <a:pt x="2853" y="4561"/>
                </a:lnTo>
                <a:lnTo>
                  <a:pt x="2874" y="4639"/>
                </a:lnTo>
                <a:lnTo>
                  <a:pt x="2895" y="4716"/>
                </a:lnTo>
                <a:lnTo>
                  <a:pt x="2915" y="4792"/>
                </a:lnTo>
                <a:lnTo>
                  <a:pt x="2932" y="4867"/>
                </a:lnTo>
                <a:lnTo>
                  <a:pt x="2946" y="4939"/>
                </a:lnTo>
                <a:lnTo>
                  <a:pt x="2953" y="4975"/>
                </a:lnTo>
                <a:lnTo>
                  <a:pt x="2958" y="5010"/>
                </a:lnTo>
                <a:lnTo>
                  <a:pt x="2962" y="5045"/>
                </a:lnTo>
                <a:lnTo>
                  <a:pt x="2966" y="5078"/>
                </a:lnTo>
                <a:lnTo>
                  <a:pt x="3001" y="5050"/>
                </a:lnTo>
                <a:lnTo>
                  <a:pt x="3030" y="5014"/>
                </a:lnTo>
                <a:lnTo>
                  <a:pt x="3053" y="4971"/>
                </a:lnTo>
                <a:lnTo>
                  <a:pt x="3072" y="4920"/>
                </a:lnTo>
                <a:lnTo>
                  <a:pt x="3085" y="4865"/>
                </a:lnTo>
                <a:lnTo>
                  <a:pt x="3093" y="4804"/>
                </a:lnTo>
                <a:lnTo>
                  <a:pt x="3098" y="4736"/>
                </a:lnTo>
                <a:lnTo>
                  <a:pt x="3098" y="4666"/>
                </a:lnTo>
                <a:lnTo>
                  <a:pt x="3093" y="4590"/>
                </a:lnTo>
                <a:lnTo>
                  <a:pt x="3085" y="4511"/>
                </a:lnTo>
                <a:lnTo>
                  <a:pt x="3073" y="4430"/>
                </a:lnTo>
                <a:lnTo>
                  <a:pt x="3059" y="4344"/>
                </a:lnTo>
                <a:lnTo>
                  <a:pt x="3042" y="4259"/>
                </a:lnTo>
                <a:lnTo>
                  <a:pt x="3022" y="4171"/>
                </a:lnTo>
                <a:lnTo>
                  <a:pt x="3000" y="4082"/>
                </a:lnTo>
                <a:lnTo>
                  <a:pt x="2976" y="3993"/>
                </a:lnTo>
                <a:lnTo>
                  <a:pt x="2949" y="3904"/>
                </a:lnTo>
                <a:lnTo>
                  <a:pt x="2922" y="3816"/>
                </a:lnTo>
                <a:lnTo>
                  <a:pt x="2894" y="3729"/>
                </a:lnTo>
                <a:lnTo>
                  <a:pt x="2864" y="3643"/>
                </a:lnTo>
                <a:lnTo>
                  <a:pt x="2834" y="3561"/>
                </a:lnTo>
                <a:lnTo>
                  <a:pt x="2803" y="3480"/>
                </a:lnTo>
                <a:lnTo>
                  <a:pt x="2773" y="3403"/>
                </a:lnTo>
                <a:lnTo>
                  <a:pt x="2742" y="3329"/>
                </a:lnTo>
                <a:lnTo>
                  <a:pt x="2712" y="3261"/>
                </a:lnTo>
                <a:lnTo>
                  <a:pt x="2683" y="3197"/>
                </a:lnTo>
                <a:lnTo>
                  <a:pt x="2655" y="3138"/>
                </a:lnTo>
                <a:lnTo>
                  <a:pt x="2628" y="3085"/>
                </a:lnTo>
                <a:lnTo>
                  <a:pt x="2603" y="3037"/>
                </a:lnTo>
                <a:lnTo>
                  <a:pt x="2579" y="2999"/>
                </a:lnTo>
                <a:lnTo>
                  <a:pt x="2558" y="2966"/>
                </a:lnTo>
                <a:lnTo>
                  <a:pt x="2539" y="2942"/>
                </a:lnTo>
                <a:lnTo>
                  <a:pt x="2507" y="2904"/>
                </a:lnTo>
                <a:lnTo>
                  <a:pt x="2475" y="2864"/>
                </a:lnTo>
                <a:lnTo>
                  <a:pt x="2445" y="2824"/>
                </a:lnTo>
                <a:lnTo>
                  <a:pt x="2414" y="2783"/>
                </a:lnTo>
                <a:lnTo>
                  <a:pt x="2384" y="2742"/>
                </a:lnTo>
                <a:lnTo>
                  <a:pt x="2354" y="2699"/>
                </a:lnTo>
                <a:lnTo>
                  <a:pt x="2326" y="2657"/>
                </a:lnTo>
                <a:lnTo>
                  <a:pt x="2298" y="2614"/>
                </a:lnTo>
                <a:lnTo>
                  <a:pt x="2242" y="2527"/>
                </a:lnTo>
                <a:lnTo>
                  <a:pt x="2187" y="2438"/>
                </a:lnTo>
                <a:lnTo>
                  <a:pt x="2134" y="2349"/>
                </a:lnTo>
                <a:lnTo>
                  <a:pt x="2080" y="2259"/>
                </a:lnTo>
                <a:lnTo>
                  <a:pt x="2027" y="2170"/>
                </a:lnTo>
                <a:lnTo>
                  <a:pt x="1974" y="2080"/>
                </a:lnTo>
                <a:lnTo>
                  <a:pt x="1919" y="1992"/>
                </a:lnTo>
                <a:lnTo>
                  <a:pt x="1863" y="1904"/>
                </a:lnTo>
                <a:lnTo>
                  <a:pt x="1835" y="1861"/>
                </a:lnTo>
                <a:lnTo>
                  <a:pt x="1806" y="1819"/>
                </a:lnTo>
                <a:lnTo>
                  <a:pt x="1776" y="1777"/>
                </a:lnTo>
                <a:lnTo>
                  <a:pt x="1747" y="1735"/>
                </a:lnTo>
                <a:lnTo>
                  <a:pt x="1716" y="1695"/>
                </a:lnTo>
                <a:lnTo>
                  <a:pt x="1686" y="1654"/>
                </a:lnTo>
                <a:lnTo>
                  <a:pt x="1654" y="1615"/>
                </a:lnTo>
                <a:lnTo>
                  <a:pt x="1622" y="1576"/>
                </a:lnTo>
                <a:lnTo>
                  <a:pt x="1594" y="1544"/>
                </a:lnTo>
                <a:lnTo>
                  <a:pt x="1567" y="1512"/>
                </a:lnTo>
                <a:lnTo>
                  <a:pt x="1540" y="1479"/>
                </a:lnTo>
                <a:lnTo>
                  <a:pt x="1513" y="1445"/>
                </a:lnTo>
                <a:lnTo>
                  <a:pt x="1462" y="1377"/>
                </a:lnTo>
                <a:lnTo>
                  <a:pt x="1411" y="1306"/>
                </a:lnTo>
                <a:lnTo>
                  <a:pt x="1311" y="1164"/>
                </a:lnTo>
                <a:lnTo>
                  <a:pt x="1209" y="1019"/>
                </a:lnTo>
                <a:lnTo>
                  <a:pt x="1156" y="946"/>
                </a:lnTo>
                <a:lnTo>
                  <a:pt x="1102" y="874"/>
                </a:lnTo>
                <a:lnTo>
                  <a:pt x="1075" y="839"/>
                </a:lnTo>
                <a:lnTo>
                  <a:pt x="1047" y="804"/>
                </a:lnTo>
                <a:lnTo>
                  <a:pt x="1017" y="768"/>
                </a:lnTo>
                <a:lnTo>
                  <a:pt x="988" y="734"/>
                </a:lnTo>
                <a:lnTo>
                  <a:pt x="958" y="700"/>
                </a:lnTo>
                <a:lnTo>
                  <a:pt x="927" y="666"/>
                </a:lnTo>
                <a:lnTo>
                  <a:pt x="895" y="633"/>
                </a:lnTo>
                <a:lnTo>
                  <a:pt x="863" y="600"/>
                </a:lnTo>
                <a:lnTo>
                  <a:pt x="829" y="568"/>
                </a:lnTo>
                <a:lnTo>
                  <a:pt x="795" y="536"/>
                </a:lnTo>
                <a:lnTo>
                  <a:pt x="760" y="506"/>
                </a:lnTo>
                <a:lnTo>
                  <a:pt x="724" y="475"/>
                </a:lnTo>
                <a:lnTo>
                  <a:pt x="700" y="451"/>
                </a:lnTo>
                <a:lnTo>
                  <a:pt x="673" y="420"/>
                </a:lnTo>
                <a:lnTo>
                  <a:pt x="644" y="386"/>
                </a:lnTo>
                <a:lnTo>
                  <a:pt x="611" y="347"/>
                </a:lnTo>
                <a:lnTo>
                  <a:pt x="576" y="307"/>
                </a:lnTo>
                <a:lnTo>
                  <a:pt x="537" y="265"/>
                </a:lnTo>
                <a:lnTo>
                  <a:pt x="517" y="244"/>
                </a:lnTo>
                <a:lnTo>
                  <a:pt x="496" y="223"/>
                </a:lnTo>
                <a:lnTo>
                  <a:pt x="474" y="201"/>
                </a:lnTo>
                <a:lnTo>
                  <a:pt x="452" y="180"/>
                </a:lnTo>
                <a:lnTo>
                  <a:pt x="427" y="160"/>
                </a:lnTo>
                <a:lnTo>
                  <a:pt x="404" y="141"/>
                </a:lnTo>
                <a:lnTo>
                  <a:pt x="379" y="122"/>
                </a:lnTo>
                <a:lnTo>
                  <a:pt x="354" y="105"/>
                </a:lnTo>
                <a:lnTo>
                  <a:pt x="329" y="88"/>
                </a:lnTo>
                <a:lnTo>
                  <a:pt x="301" y="72"/>
                </a:lnTo>
                <a:lnTo>
                  <a:pt x="274" y="57"/>
                </a:lnTo>
                <a:lnTo>
                  <a:pt x="247" y="43"/>
                </a:lnTo>
                <a:lnTo>
                  <a:pt x="217" y="32"/>
                </a:lnTo>
                <a:lnTo>
                  <a:pt x="189" y="22"/>
                </a:lnTo>
                <a:lnTo>
                  <a:pt x="158" y="14"/>
                </a:lnTo>
                <a:lnTo>
                  <a:pt x="128" y="8"/>
                </a:lnTo>
                <a:lnTo>
                  <a:pt x="96" y="2"/>
                </a:lnTo>
                <a:lnTo>
                  <a:pt x="65" y="0"/>
                </a:lnTo>
                <a:lnTo>
                  <a:pt x="32" y="0"/>
                </a:lnTo>
                <a:lnTo>
                  <a:pt x="0" y="2"/>
                </a:lnTo>
                <a:lnTo>
                  <a:pt x="8" y="56"/>
                </a:lnTo>
                <a:lnTo>
                  <a:pt x="22" y="110"/>
                </a:lnTo>
                <a:lnTo>
                  <a:pt x="42" y="162"/>
                </a:lnTo>
                <a:lnTo>
                  <a:pt x="66" y="215"/>
                </a:lnTo>
                <a:lnTo>
                  <a:pt x="95" y="268"/>
                </a:lnTo>
                <a:lnTo>
                  <a:pt x="129" y="320"/>
                </a:lnTo>
                <a:lnTo>
                  <a:pt x="166" y="373"/>
                </a:lnTo>
                <a:lnTo>
                  <a:pt x="207" y="425"/>
                </a:lnTo>
                <a:lnTo>
                  <a:pt x="251" y="477"/>
                </a:lnTo>
                <a:lnTo>
                  <a:pt x="297" y="530"/>
                </a:lnTo>
                <a:lnTo>
                  <a:pt x="347" y="582"/>
                </a:lnTo>
                <a:lnTo>
                  <a:pt x="398" y="634"/>
                </a:lnTo>
                <a:lnTo>
                  <a:pt x="452" y="686"/>
                </a:lnTo>
                <a:lnTo>
                  <a:pt x="505" y="737"/>
                </a:lnTo>
                <a:lnTo>
                  <a:pt x="561" y="790"/>
                </a:lnTo>
                <a:lnTo>
                  <a:pt x="618" y="842"/>
                </a:lnTo>
                <a:lnTo>
                  <a:pt x="730" y="946"/>
                </a:lnTo>
                <a:lnTo>
                  <a:pt x="843" y="1050"/>
                </a:lnTo>
                <a:lnTo>
                  <a:pt x="896" y="1103"/>
                </a:lnTo>
                <a:lnTo>
                  <a:pt x="949" y="1156"/>
                </a:lnTo>
                <a:lnTo>
                  <a:pt x="1000" y="1207"/>
                </a:lnTo>
                <a:lnTo>
                  <a:pt x="1049" y="1260"/>
                </a:lnTo>
                <a:lnTo>
                  <a:pt x="1095" y="1312"/>
                </a:lnTo>
                <a:lnTo>
                  <a:pt x="1139" y="1365"/>
                </a:lnTo>
                <a:lnTo>
                  <a:pt x="1179" y="1419"/>
                </a:lnTo>
                <a:lnTo>
                  <a:pt x="1216" y="1472"/>
                </a:lnTo>
                <a:lnTo>
                  <a:pt x="1247" y="1525"/>
                </a:lnTo>
                <a:lnTo>
                  <a:pt x="1276" y="1579"/>
                </a:lnTo>
                <a:lnTo>
                  <a:pt x="1300" y="1633"/>
                </a:lnTo>
                <a:lnTo>
                  <a:pt x="1318" y="1686"/>
                </a:lnTo>
                <a:lnTo>
                  <a:pt x="1343" y="1757"/>
                </a:lnTo>
                <a:lnTo>
                  <a:pt x="1371" y="1826"/>
                </a:lnTo>
                <a:lnTo>
                  <a:pt x="1405" y="1896"/>
                </a:lnTo>
                <a:lnTo>
                  <a:pt x="1442" y="1965"/>
                </a:lnTo>
                <a:lnTo>
                  <a:pt x="1483" y="2034"/>
                </a:lnTo>
                <a:lnTo>
                  <a:pt x="1526" y="2102"/>
                </a:lnTo>
                <a:lnTo>
                  <a:pt x="1572" y="2170"/>
                </a:lnTo>
                <a:lnTo>
                  <a:pt x="1621" y="2237"/>
                </a:lnTo>
                <a:lnTo>
                  <a:pt x="1672" y="2305"/>
                </a:lnTo>
                <a:lnTo>
                  <a:pt x="1725" y="2372"/>
                </a:lnTo>
                <a:lnTo>
                  <a:pt x="1779" y="2438"/>
                </a:lnTo>
                <a:lnTo>
                  <a:pt x="1835" y="2506"/>
                </a:lnTo>
                <a:lnTo>
                  <a:pt x="1948" y="2638"/>
                </a:lnTo>
                <a:lnTo>
                  <a:pt x="2062" y="2772"/>
                </a:lnTo>
                <a:lnTo>
                  <a:pt x="2118" y="2838"/>
                </a:lnTo>
                <a:lnTo>
                  <a:pt x="2175" y="2906"/>
                </a:lnTo>
                <a:lnTo>
                  <a:pt x="2229" y="2973"/>
                </a:lnTo>
                <a:lnTo>
                  <a:pt x="2282" y="3041"/>
                </a:lnTo>
                <a:lnTo>
                  <a:pt x="2333" y="3108"/>
                </a:lnTo>
                <a:lnTo>
                  <a:pt x="2383" y="3177"/>
                </a:lnTo>
                <a:lnTo>
                  <a:pt x="2430" y="3245"/>
                </a:lnTo>
                <a:lnTo>
                  <a:pt x="2474" y="3313"/>
                </a:lnTo>
                <a:lnTo>
                  <a:pt x="2516" y="3383"/>
                </a:lnTo>
                <a:lnTo>
                  <a:pt x="2554" y="3453"/>
                </a:lnTo>
                <a:lnTo>
                  <a:pt x="2589" y="3524"/>
                </a:lnTo>
                <a:lnTo>
                  <a:pt x="2619" y="3595"/>
                </a:lnTo>
                <a:lnTo>
                  <a:pt x="2646" y="3667"/>
                </a:lnTo>
                <a:lnTo>
                  <a:pt x="2667" y="3740"/>
                </a:lnTo>
                <a:lnTo>
                  <a:pt x="2683" y="3813"/>
                </a:lnTo>
                <a:lnTo>
                  <a:pt x="2694" y="38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73800" y="3235320"/>
            <a:ext cx="95400" cy="22320"/>
          </a:xfrm>
          <a:custGeom>
            <a:avLst/>
            <a:gdLst/>
            <a:ahLst/>
            <a:rect l="l" t="t" r="r" b="b"/>
            <a:pathLst>
              <a:path w="5363" h="972">
                <a:moveTo>
                  <a:pt x="5351" y="227"/>
                </a:moveTo>
                <a:lnTo>
                  <a:pt x="5357" y="212"/>
                </a:lnTo>
                <a:lnTo>
                  <a:pt x="5361" y="196"/>
                </a:lnTo>
                <a:lnTo>
                  <a:pt x="5363" y="182"/>
                </a:lnTo>
                <a:lnTo>
                  <a:pt x="5363" y="167"/>
                </a:lnTo>
                <a:lnTo>
                  <a:pt x="5361" y="152"/>
                </a:lnTo>
                <a:lnTo>
                  <a:pt x="5359" y="137"/>
                </a:lnTo>
                <a:lnTo>
                  <a:pt x="5355" y="124"/>
                </a:lnTo>
                <a:lnTo>
                  <a:pt x="5349" y="109"/>
                </a:lnTo>
                <a:lnTo>
                  <a:pt x="5342" y="95"/>
                </a:lnTo>
                <a:lnTo>
                  <a:pt x="5335" y="81"/>
                </a:lnTo>
                <a:lnTo>
                  <a:pt x="5326" y="68"/>
                </a:lnTo>
                <a:lnTo>
                  <a:pt x="5318" y="54"/>
                </a:lnTo>
                <a:lnTo>
                  <a:pt x="5299" y="28"/>
                </a:lnTo>
                <a:lnTo>
                  <a:pt x="5279" y="0"/>
                </a:lnTo>
                <a:lnTo>
                  <a:pt x="5216" y="21"/>
                </a:lnTo>
                <a:lnTo>
                  <a:pt x="5149" y="41"/>
                </a:lnTo>
                <a:lnTo>
                  <a:pt x="5077" y="61"/>
                </a:lnTo>
                <a:lnTo>
                  <a:pt x="5003" y="80"/>
                </a:lnTo>
                <a:lnTo>
                  <a:pt x="4925" y="99"/>
                </a:lnTo>
                <a:lnTo>
                  <a:pt x="4844" y="117"/>
                </a:lnTo>
                <a:lnTo>
                  <a:pt x="4760" y="134"/>
                </a:lnTo>
                <a:lnTo>
                  <a:pt x="4673" y="151"/>
                </a:lnTo>
                <a:lnTo>
                  <a:pt x="4584" y="168"/>
                </a:lnTo>
                <a:lnTo>
                  <a:pt x="4493" y="184"/>
                </a:lnTo>
                <a:lnTo>
                  <a:pt x="4400" y="198"/>
                </a:lnTo>
                <a:lnTo>
                  <a:pt x="4306" y="213"/>
                </a:lnTo>
                <a:lnTo>
                  <a:pt x="4210" y="228"/>
                </a:lnTo>
                <a:lnTo>
                  <a:pt x="4113" y="242"/>
                </a:lnTo>
                <a:lnTo>
                  <a:pt x="4016" y="254"/>
                </a:lnTo>
                <a:lnTo>
                  <a:pt x="3917" y="268"/>
                </a:lnTo>
                <a:lnTo>
                  <a:pt x="3719" y="292"/>
                </a:lnTo>
                <a:lnTo>
                  <a:pt x="3523" y="315"/>
                </a:lnTo>
                <a:lnTo>
                  <a:pt x="3328" y="337"/>
                </a:lnTo>
                <a:lnTo>
                  <a:pt x="3138" y="357"/>
                </a:lnTo>
                <a:lnTo>
                  <a:pt x="2779" y="394"/>
                </a:lnTo>
                <a:lnTo>
                  <a:pt x="2462" y="428"/>
                </a:lnTo>
                <a:lnTo>
                  <a:pt x="2382" y="436"/>
                </a:lnTo>
                <a:lnTo>
                  <a:pt x="2296" y="447"/>
                </a:lnTo>
                <a:lnTo>
                  <a:pt x="2205" y="460"/>
                </a:lnTo>
                <a:lnTo>
                  <a:pt x="2110" y="474"/>
                </a:lnTo>
                <a:lnTo>
                  <a:pt x="1911" y="504"/>
                </a:lnTo>
                <a:lnTo>
                  <a:pt x="1708" y="534"/>
                </a:lnTo>
                <a:lnTo>
                  <a:pt x="1608" y="548"/>
                </a:lnTo>
                <a:lnTo>
                  <a:pt x="1510" y="560"/>
                </a:lnTo>
                <a:lnTo>
                  <a:pt x="1416" y="570"/>
                </a:lnTo>
                <a:lnTo>
                  <a:pt x="1325" y="579"/>
                </a:lnTo>
                <a:lnTo>
                  <a:pt x="1282" y="581"/>
                </a:lnTo>
                <a:lnTo>
                  <a:pt x="1240" y="583"/>
                </a:lnTo>
                <a:lnTo>
                  <a:pt x="1199" y="585"/>
                </a:lnTo>
                <a:lnTo>
                  <a:pt x="1161" y="585"/>
                </a:lnTo>
                <a:lnTo>
                  <a:pt x="1125" y="585"/>
                </a:lnTo>
                <a:lnTo>
                  <a:pt x="1090" y="583"/>
                </a:lnTo>
                <a:lnTo>
                  <a:pt x="1057" y="581"/>
                </a:lnTo>
                <a:lnTo>
                  <a:pt x="1027" y="576"/>
                </a:lnTo>
                <a:lnTo>
                  <a:pt x="1012" y="581"/>
                </a:lnTo>
                <a:lnTo>
                  <a:pt x="994" y="585"/>
                </a:lnTo>
                <a:lnTo>
                  <a:pt x="973" y="589"/>
                </a:lnTo>
                <a:lnTo>
                  <a:pt x="951" y="592"/>
                </a:lnTo>
                <a:lnTo>
                  <a:pt x="900" y="600"/>
                </a:lnTo>
                <a:lnTo>
                  <a:pt x="841" y="605"/>
                </a:lnTo>
                <a:lnTo>
                  <a:pt x="776" y="611"/>
                </a:lnTo>
                <a:lnTo>
                  <a:pt x="705" y="616"/>
                </a:lnTo>
                <a:lnTo>
                  <a:pt x="632" y="622"/>
                </a:lnTo>
                <a:lnTo>
                  <a:pt x="555" y="626"/>
                </a:lnTo>
                <a:lnTo>
                  <a:pt x="399" y="634"/>
                </a:lnTo>
                <a:lnTo>
                  <a:pt x="249" y="643"/>
                </a:lnTo>
                <a:lnTo>
                  <a:pt x="177" y="647"/>
                </a:lnTo>
                <a:lnTo>
                  <a:pt x="112" y="651"/>
                </a:lnTo>
                <a:lnTo>
                  <a:pt x="52" y="656"/>
                </a:lnTo>
                <a:lnTo>
                  <a:pt x="0" y="661"/>
                </a:lnTo>
                <a:lnTo>
                  <a:pt x="4" y="695"/>
                </a:lnTo>
                <a:lnTo>
                  <a:pt x="9" y="727"/>
                </a:lnTo>
                <a:lnTo>
                  <a:pt x="17" y="757"/>
                </a:lnTo>
                <a:lnTo>
                  <a:pt x="25" y="784"/>
                </a:lnTo>
                <a:lnTo>
                  <a:pt x="36" y="809"/>
                </a:lnTo>
                <a:lnTo>
                  <a:pt x="47" y="832"/>
                </a:lnTo>
                <a:lnTo>
                  <a:pt x="60" y="853"/>
                </a:lnTo>
                <a:lnTo>
                  <a:pt x="74" y="872"/>
                </a:lnTo>
                <a:lnTo>
                  <a:pt x="91" y="889"/>
                </a:lnTo>
                <a:lnTo>
                  <a:pt x="109" y="905"/>
                </a:lnTo>
                <a:lnTo>
                  <a:pt x="129" y="919"/>
                </a:lnTo>
                <a:lnTo>
                  <a:pt x="151" y="930"/>
                </a:lnTo>
                <a:lnTo>
                  <a:pt x="175" y="941"/>
                </a:lnTo>
                <a:lnTo>
                  <a:pt x="201" y="950"/>
                </a:lnTo>
                <a:lnTo>
                  <a:pt x="229" y="957"/>
                </a:lnTo>
                <a:lnTo>
                  <a:pt x="258" y="963"/>
                </a:lnTo>
                <a:lnTo>
                  <a:pt x="290" y="967"/>
                </a:lnTo>
                <a:lnTo>
                  <a:pt x="325" y="970"/>
                </a:lnTo>
                <a:lnTo>
                  <a:pt x="360" y="971"/>
                </a:lnTo>
                <a:lnTo>
                  <a:pt x="399" y="972"/>
                </a:lnTo>
                <a:lnTo>
                  <a:pt x="440" y="971"/>
                </a:lnTo>
                <a:lnTo>
                  <a:pt x="483" y="969"/>
                </a:lnTo>
                <a:lnTo>
                  <a:pt x="530" y="966"/>
                </a:lnTo>
                <a:lnTo>
                  <a:pt x="578" y="962"/>
                </a:lnTo>
                <a:lnTo>
                  <a:pt x="628" y="958"/>
                </a:lnTo>
                <a:lnTo>
                  <a:pt x="682" y="951"/>
                </a:lnTo>
                <a:lnTo>
                  <a:pt x="738" y="945"/>
                </a:lnTo>
                <a:lnTo>
                  <a:pt x="797" y="938"/>
                </a:lnTo>
                <a:lnTo>
                  <a:pt x="923" y="920"/>
                </a:lnTo>
                <a:lnTo>
                  <a:pt x="1059" y="901"/>
                </a:lnTo>
                <a:lnTo>
                  <a:pt x="1100" y="896"/>
                </a:lnTo>
                <a:lnTo>
                  <a:pt x="1146" y="889"/>
                </a:lnTo>
                <a:lnTo>
                  <a:pt x="1196" y="882"/>
                </a:lnTo>
                <a:lnTo>
                  <a:pt x="1250" y="873"/>
                </a:lnTo>
                <a:lnTo>
                  <a:pt x="1364" y="853"/>
                </a:lnTo>
                <a:lnTo>
                  <a:pt x="1484" y="833"/>
                </a:lnTo>
                <a:lnTo>
                  <a:pt x="1544" y="824"/>
                </a:lnTo>
                <a:lnTo>
                  <a:pt x="1603" y="814"/>
                </a:lnTo>
                <a:lnTo>
                  <a:pt x="1659" y="806"/>
                </a:lnTo>
                <a:lnTo>
                  <a:pt x="1712" y="800"/>
                </a:lnTo>
                <a:lnTo>
                  <a:pt x="1762" y="794"/>
                </a:lnTo>
                <a:lnTo>
                  <a:pt x="1807" y="790"/>
                </a:lnTo>
                <a:lnTo>
                  <a:pt x="1828" y="789"/>
                </a:lnTo>
                <a:lnTo>
                  <a:pt x="1847" y="789"/>
                </a:lnTo>
                <a:lnTo>
                  <a:pt x="1865" y="789"/>
                </a:lnTo>
                <a:lnTo>
                  <a:pt x="1880" y="790"/>
                </a:lnTo>
                <a:lnTo>
                  <a:pt x="1903" y="783"/>
                </a:lnTo>
                <a:lnTo>
                  <a:pt x="1930" y="775"/>
                </a:lnTo>
                <a:lnTo>
                  <a:pt x="1964" y="767"/>
                </a:lnTo>
                <a:lnTo>
                  <a:pt x="2002" y="758"/>
                </a:lnTo>
                <a:lnTo>
                  <a:pt x="2046" y="749"/>
                </a:lnTo>
                <a:lnTo>
                  <a:pt x="2093" y="740"/>
                </a:lnTo>
                <a:lnTo>
                  <a:pt x="2144" y="731"/>
                </a:lnTo>
                <a:lnTo>
                  <a:pt x="2199" y="722"/>
                </a:lnTo>
                <a:lnTo>
                  <a:pt x="2319" y="702"/>
                </a:lnTo>
                <a:lnTo>
                  <a:pt x="2447" y="683"/>
                </a:lnTo>
                <a:lnTo>
                  <a:pt x="2581" y="664"/>
                </a:lnTo>
                <a:lnTo>
                  <a:pt x="2718" y="646"/>
                </a:lnTo>
                <a:lnTo>
                  <a:pt x="2854" y="628"/>
                </a:lnTo>
                <a:lnTo>
                  <a:pt x="2987" y="612"/>
                </a:lnTo>
                <a:lnTo>
                  <a:pt x="3113" y="597"/>
                </a:lnTo>
                <a:lnTo>
                  <a:pt x="3228" y="586"/>
                </a:lnTo>
                <a:lnTo>
                  <a:pt x="3330" y="575"/>
                </a:lnTo>
                <a:lnTo>
                  <a:pt x="3415" y="568"/>
                </a:lnTo>
                <a:lnTo>
                  <a:pt x="3450" y="566"/>
                </a:lnTo>
                <a:lnTo>
                  <a:pt x="3479" y="565"/>
                </a:lnTo>
                <a:lnTo>
                  <a:pt x="3504" y="564"/>
                </a:lnTo>
                <a:lnTo>
                  <a:pt x="3521" y="564"/>
                </a:lnTo>
                <a:lnTo>
                  <a:pt x="3558" y="560"/>
                </a:lnTo>
                <a:lnTo>
                  <a:pt x="3593" y="553"/>
                </a:lnTo>
                <a:lnTo>
                  <a:pt x="3629" y="547"/>
                </a:lnTo>
                <a:lnTo>
                  <a:pt x="3663" y="539"/>
                </a:lnTo>
                <a:lnTo>
                  <a:pt x="3732" y="522"/>
                </a:lnTo>
                <a:lnTo>
                  <a:pt x="3800" y="505"/>
                </a:lnTo>
                <a:lnTo>
                  <a:pt x="3835" y="496"/>
                </a:lnTo>
                <a:lnTo>
                  <a:pt x="3869" y="490"/>
                </a:lnTo>
                <a:lnTo>
                  <a:pt x="3904" y="484"/>
                </a:lnTo>
                <a:lnTo>
                  <a:pt x="3939" y="480"/>
                </a:lnTo>
                <a:lnTo>
                  <a:pt x="3975" y="476"/>
                </a:lnTo>
                <a:lnTo>
                  <a:pt x="4010" y="475"/>
                </a:lnTo>
                <a:lnTo>
                  <a:pt x="4028" y="475"/>
                </a:lnTo>
                <a:lnTo>
                  <a:pt x="4047" y="476"/>
                </a:lnTo>
                <a:lnTo>
                  <a:pt x="4065" y="477"/>
                </a:lnTo>
                <a:lnTo>
                  <a:pt x="4084" y="480"/>
                </a:lnTo>
                <a:lnTo>
                  <a:pt x="5351" y="2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3800" y="3209760"/>
            <a:ext cx="95400" cy="12960"/>
          </a:xfrm>
          <a:custGeom>
            <a:avLst/>
            <a:gdLst/>
            <a:ahLst/>
            <a:rect l="l" t="t" r="r" b="b"/>
            <a:pathLst>
              <a:path w="5423" h="507">
                <a:moveTo>
                  <a:pt x="1603" y="427"/>
                </a:moveTo>
                <a:lnTo>
                  <a:pt x="1638" y="424"/>
                </a:lnTo>
                <a:lnTo>
                  <a:pt x="1681" y="421"/>
                </a:lnTo>
                <a:lnTo>
                  <a:pt x="1731" y="418"/>
                </a:lnTo>
                <a:lnTo>
                  <a:pt x="1787" y="415"/>
                </a:lnTo>
                <a:lnTo>
                  <a:pt x="1916" y="410"/>
                </a:lnTo>
                <a:lnTo>
                  <a:pt x="2064" y="405"/>
                </a:lnTo>
                <a:lnTo>
                  <a:pt x="2401" y="395"/>
                </a:lnTo>
                <a:lnTo>
                  <a:pt x="2765" y="385"/>
                </a:lnTo>
                <a:lnTo>
                  <a:pt x="2946" y="377"/>
                </a:lnTo>
                <a:lnTo>
                  <a:pt x="3121" y="369"/>
                </a:lnTo>
                <a:lnTo>
                  <a:pt x="3206" y="365"/>
                </a:lnTo>
                <a:lnTo>
                  <a:pt x="3287" y="360"/>
                </a:lnTo>
                <a:lnTo>
                  <a:pt x="3365" y="354"/>
                </a:lnTo>
                <a:lnTo>
                  <a:pt x="3439" y="348"/>
                </a:lnTo>
                <a:lnTo>
                  <a:pt x="3508" y="342"/>
                </a:lnTo>
                <a:lnTo>
                  <a:pt x="3572" y="334"/>
                </a:lnTo>
                <a:lnTo>
                  <a:pt x="3630" y="327"/>
                </a:lnTo>
                <a:lnTo>
                  <a:pt x="3683" y="319"/>
                </a:lnTo>
                <a:lnTo>
                  <a:pt x="3728" y="310"/>
                </a:lnTo>
                <a:lnTo>
                  <a:pt x="3767" y="301"/>
                </a:lnTo>
                <a:lnTo>
                  <a:pt x="3797" y="290"/>
                </a:lnTo>
                <a:lnTo>
                  <a:pt x="3819" y="278"/>
                </a:lnTo>
                <a:lnTo>
                  <a:pt x="4018" y="268"/>
                </a:lnTo>
                <a:lnTo>
                  <a:pt x="4223" y="256"/>
                </a:lnTo>
                <a:lnTo>
                  <a:pt x="4431" y="243"/>
                </a:lnTo>
                <a:lnTo>
                  <a:pt x="4640" y="228"/>
                </a:lnTo>
                <a:lnTo>
                  <a:pt x="4847" y="212"/>
                </a:lnTo>
                <a:lnTo>
                  <a:pt x="5048" y="195"/>
                </a:lnTo>
                <a:lnTo>
                  <a:pt x="5241" y="179"/>
                </a:lnTo>
                <a:lnTo>
                  <a:pt x="5423" y="162"/>
                </a:lnTo>
                <a:lnTo>
                  <a:pt x="5403" y="0"/>
                </a:lnTo>
                <a:lnTo>
                  <a:pt x="5372" y="3"/>
                </a:lnTo>
                <a:lnTo>
                  <a:pt x="5337" y="5"/>
                </a:lnTo>
                <a:lnTo>
                  <a:pt x="5298" y="7"/>
                </a:lnTo>
                <a:lnTo>
                  <a:pt x="5256" y="8"/>
                </a:lnTo>
                <a:lnTo>
                  <a:pt x="5163" y="8"/>
                </a:lnTo>
                <a:lnTo>
                  <a:pt x="5059" y="8"/>
                </a:lnTo>
                <a:lnTo>
                  <a:pt x="4828" y="5"/>
                </a:lnTo>
                <a:lnTo>
                  <a:pt x="4583" y="2"/>
                </a:lnTo>
                <a:lnTo>
                  <a:pt x="4462" y="0"/>
                </a:lnTo>
                <a:lnTo>
                  <a:pt x="4343" y="2"/>
                </a:lnTo>
                <a:lnTo>
                  <a:pt x="4286" y="4"/>
                </a:lnTo>
                <a:lnTo>
                  <a:pt x="4231" y="5"/>
                </a:lnTo>
                <a:lnTo>
                  <a:pt x="4179" y="7"/>
                </a:lnTo>
                <a:lnTo>
                  <a:pt x="4128" y="10"/>
                </a:lnTo>
                <a:lnTo>
                  <a:pt x="4080" y="14"/>
                </a:lnTo>
                <a:lnTo>
                  <a:pt x="4035" y="18"/>
                </a:lnTo>
                <a:lnTo>
                  <a:pt x="3994" y="24"/>
                </a:lnTo>
                <a:lnTo>
                  <a:pt x="3956" y="30"/>
                </a:lnTo>
                <a:lnTo>
                  <a:pt x="3921" y="37"/>
                </a:lnTo>
                <a:lnTo>
                  <a:pt x="3892" y="46"/>
                </a:lnTo>
                <a:lnTo>
                  <a:pt x="3867" y="54"/>
                </a:lnTo>
                <a:lnTo>
                  <a:pt x="3846" y="65"/>
                </a:lnTo>
                <a:lnTo>
                  <a:pt x="3734" y="71"/>
                </a:lnTo>
                <a:lnTo>
                  <a:pt x="3622" y="75"/>
                </a:lnTo>
                <a:lnTo>
                  <a:pt x="3509" y="79"/>
                </a:lnTo>
                <a:lnTo>
                  <a:pt x="3395" y="83"/>
                </a:lnTo>
                <a:lnTo>
                  <a:pt x="3164" y="89"/>
                </a:lnTo>
                <a:lnTo>
                  <a:pt x="2934" y="94"/>
                </a:lnTo>
                <a:lnTo>
                  <a:pt x="2820" y="97"/>
                </a:lnTo>
                <a:lnTo>
                  <a:pt x="2705" y="101"/>
                </a:lnTo>
                <a:lnTo>
                  <a:pt x="2592" y="106"/>
                </a:lnTo>
                <a:lnTo>
                  <a:pt x="2479" y="110"/>
                </a:lnTo>
                <a:lnTo>
                  <a:pt x="2368" y="116"/>
                </a:lnTo>
                <a:lnTo>
                  <a:pt x="2257" y="124"/>
                </a:lnTo>
                <a:lnTo>
                  <a:pt x="2149" y="132"/>
                </a:lnTo>
                <a:lnTo>
                  <a:pt x="2043" y="143"/>
                </a:lnTo>
                <a:lnTo>
                  <a:pt x="2029" y="151"/>
                </a:lnTo>
                <a:lnTo>
                  <a:pt x="2014" y="158"/>
                </a:lnTo>
                <a:lnTo>
                  <a:pt x="1998" y="165"/>
                </a:lnTo>
                <a:lnTo>
                  <a:pt x="1980" y="171"/>
                </a:lnTo>
                <a:lnTo>
                  <a:pt x="1961" y="176"/>
                </a:lnTo>
                <a:lnTo>
                  <a:pt x="1941" y="182"/>
                </a:lnTo>
                <a:lnTo>
                  <a:pt x="1919" y="186"/>
                </a:lnTo>
                <a:lnTo>
                  <a:pt x="1897" y="190"/>
                </a:lnTo>
                <a:lnTo>
                  <a:pt x="1874" y="193"/>
                </a:lnTo>
                <a:lnTo>
                  <a:pt x="1850" y="196"/>
                </a:lnTo>
                <a:lnTo>
                  <a:pt x="1825" y="198"/>
                </a:lnTo>
                <a:lnTo>
                  <a:pt x="1801" y="201"/>
                </a:lnTo>
                <a:lnTo>
                  <a:pt x="1749" y="204"/>
                </a:lnTo>
                <a:lnTo>
                  <a:pt x="1697" y="205"/>
                </a:lnTo>
                <a:lnTo>
                  <a:pt x="1644" y="206"/>
                </a:lnTo>
                <a:lnTo>
                  <a:pt x="1592" y="205"/>
                </a:lnTo>
                <a:lnTo>
                  <a:pt x="1541" y="204"/>
                </a:lnTo>
                <a:lnTo>
                  <a:pt x="1492" y="202"/>
                </a:lnTo>
                <a:lnTo>
                  <a:pt x="1403" y="197"/>
                </a:lnTo>
                <a:lnTo>
                  <a:pt x="1332" y="194"/>
                </a:lnTo>
                <a:lnTo>
                  <a:pt x="1302" y="206"/>
                </a:lnTo>
                <a:lnTo>
                  <a:pt x="1282" y="212"/>
                </a:lnTo>
                <a:lnTo>
                  <a:pt x="1268" y="215"/>
                </a:lnTo>
                <a:lnTo>
                  <a:pt x="1257" y="217"/>
                </a:lnTo>
                <a:lnTo>
                  <a:pt x="1247" y="218"/>
                </a:lnTo>
                <a:lnTo>
                  <a:pt x="1233" y="222"/>
                </a:lnTo>
                <a:lnTo>
                  <a:pt x="1213" y="228"/>
                </a:lnTo>
                <a:lnTo>
                  <a:pt x="1183" y="240"/>
                </a:lnTo>
                <a:lnTo>
                  <a:pt x="1158" y="237"/>
                </a:lnTo>
                <a:lnTo>
                  <a:pt x="1130" y="236"/>
                </a:lnTo>
                <a:lnTo>
                  <a:pt x="1102" y="235"/>
                </a:lnTo>
                <a:lnTo>
                  <a:pt x="1070" y="234"/>
                </a:lnTo>
                <a:lnTo>
                  <a:pt x="1004" y="234"/>
                </a:lnTo>
                <a:lnTo>
                  <a:pt x="933" y="235"/>
                </a:lnTo>
                <a:lnTo>
                  <a:pt x="857" y="238"/>
                </a:lnTo>
                <a:lnTo>
                  <a:pt x="777" y="243"/>
                </a:lnTo>
                <a:lnTo>
                  <a:pt x="695" y="248"/>
                </a:lnTo>
                <a:lnTo>
                  <a:pt x="611" y="253"/>
                </a:lnTo>
                <a:lnTo>
                  <a:pt x="443" y="267"/>
                </a:lnTo>
                <a:lnTo>
                  <a:pt x="280" y="283"/>
                </a:lnTo>
                <a:lnTo>
                  <a:pt x="129" y="297"/>
                </a:lnTo>
                <a:lnTo>
                  <a:pt x="0" y="311"/>
                </a:lnTo>
                <a:lnTo>
                  <a:pt x="2" y="323"/>
                </a:lnTo>
                <a:lnTo>
                  <a:pt x="4" y="335"/>
                </a:lnTo>
                <a:lnTo>
                  <a:pt x="9" y="347"/>
                </a:lnTo>
                <a:lnTo>
                  <a:pt x="13" y="360"/>
                </a:lnTo>
                <a:lnTo>
                  <a:pt x="18" y="371"/>
                </a:lnTo>
                <a:lnTo>
                  <a:pt x="24" y="383"/>
                </a:lnTo>
                <a:lnTo>
                  <a:pt x="32" y="394"/>
                </a:lnTo>
                <a:lnTo>
                  <a:pt x="40" y="405"/>
                </a:lnTo>
                <a:lnTo>
                  <a:pt x="49" y="416"/>
                </a:lnTo>
                <a:lnTo>
                  <a:pt x="59" y="427"/>
                </a:lnTo>
                <a:lnTo>
                  <a:pt x="70" y="436"/>
                </a:lnTo>
                <a:lnTo>
                  <a:pt x="81" y="446"/>
                </a:lnTo>
                <a:lnTo>
                  <a:pt x="94" y="455"/>
                </a:lnTo>
                <a:lnTo>
                  <a:pt x="107" y="464"/>
                </a:lnTo>
                <a:lnTo>
                  <a:pt x="121" y="471"/>
                </a:lnTo>
                <a:lnTo>
                  <a:pt x="136" y="479"/>
                </a:lnTo>
                <a:lnTo>
                  <a:pt x="152" y="485"/>
                </a:lnTo>
                <a:lnTo>
                  <a:pt x="168" y="491"/>
                </a:lnTo>
                <a:lnTo>
                  <a:pt x="186" y="495"/>
                </a:lnTo>
                <a:lnTo>
                  <a:pt x="204" y="500"/>
                </a:lnTo>
                <a:lnTo>
                  <a:pt x="224" y="503"/>
                </a:lnTo>
                <a:lnTo>
                  <a:pt x="244" y="505"/>
                </a:lnTo>
                <a:lnTo>
                  <a:pt x="264" y="506"/>
                </a:lnTo>
                <a:lnTo>
                  <a:pt x="286" y="507"/>
                </a:lnTo>
                <a:lnTo>
                  <a:pt x="308" y="506"/>
                </a:lnTo>
                <a:lnTo>
                  <a:pt x="331" y="504"/>
                </a:lnTo>
                <a:lnTo>
                  <a:pt x="354" y="501"/>
                </a:lnTo>
                <a:lnTo>
                  <a:pt x="380" y="496"/>
                </a:lnTo>
                <a:lnTo>
                  <a:pt x="405" y="491"/>
                </a:lnTo>
                <a:lnTo>
                  <a:pt x="431" y="484"/>
                </a:lnTo>
                <a:lnTo>
                  <a:pt x="457" y="476"/>
                </a:lnTo>
                <a:lnTo>
                  <a:pt x="485" y="466"/>
                </a:lnTo>
                <a:lnTo>
                  <a:pt x="538" y="470"/>
                </a:lnTo>
                <a:lnTo>
                  <a:pt x="599" y="473"/>
                </a:lnTo>
                <a:lnTo>
                  <a:pt x="666" y="474"/>
                </a:lnTo>
                <a:lnTo>
                  <a:pt x="737" y="474"/>
                </a:lnTo>
                <a:lnTo>
                  <a:pt x="813" y="474"/>
                </a:lnTo>
                <a:lnTo>
                  <a:pt x="891" y="472"/>
                </a:lnTo>
                <a:lnTo>
                  <a:pt x="970" y="470"/>
                </a:lnTo>
                <a:lnTo>
                  <a:pt x="1051" y="466"/>
                </a:lnTo>
                <a:lnTo>
                  <a:pt x="1211" y="458"/>
                </a:lnTo>
                <a:lnTo>
                  <a:pt x="1363" y="448"/>
                </a:lnTo>
                <a:lnTo>
                  <a:pt x="1495" y="438"/>
                </a:lnTo>
                <a:lnTo>
                  <a:pt x="1603" y="42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194240" y="3027960"/>
            <a:ext cx="171720" cy="153360"/>
            <a:chOff x="7194240" y="3027960"/>
            <a:chExt cx="171720" cy="153360"/>
          </a:xfrm>
        </p:grpSpPr>
        <p:sp>
          <p:nvSpPr>
            <p:cNvPr id="666" name=""/>
            <p:cNvSpPr/>
            <p:nvPr/>
          </p:nvSpPr>
          <p:spPr>
            <a:xfrm rot="6550800">
              <a:off x="7223760" y="3033000"/>
              <a:ext cx="112680" cy="142560"/>
            </a:xfrm>
            <a:custGeom>
              <a:avLst/>
              <a:gdLst/>
              <a:ahLst/>
              <a:rect l="l" t="t" r="r" b="b"/>
              <a:pathLst>
                <a:path w="4740" h="5331">
                  <a:moveTo>
                    <a:pt x="115" y="2136"/>
                  </a:moveTo>
                  <a:lnTo>
                    <a:pt x="124" y="2242"/>
                  </a:lnTo>
                  <a:lnTo>
                    <a:pt x="135" y="2347"/>
                  </a:lnTo>
                  <a:lnTo>
                    <a:pt x="152" y="2448"/>
                  </a:lnTo>
                  <a:lnTo>
                    <a:pt x="171" y="2548"/>
                  </a:lnTo>
                  <a:lnTo>
                    <a:pt x="195" y="2647"/>
                  </a:lnTo>
                  <a:lnTo>
                    <a:pt x="222" y="2743"/>
                  </a:lnTo>
                  <a:lnTo>
                    <a:pt x="253" y="2838"/>
                  </a:lnTo>
                  <a:lnTo>
                    <a:pt x="288" y="2932"/>
                  </a:lnTo>
                  <a:lnTo>
                    <a:pt x="324" y="3024"/>
                  </a:lnTo>
                  <a:lnTo>
                    <a:pt x="365" y="3115"/>
                  </a:lnTo>
                  <a:lnTo>
                    <a:pt x="410" y="3205"/>
                  </a:lnTo>
                  <a:lnTo>
                    <a:pt x="457" y="3293"/>
                  </a:lnTo>
                  <a:lnTo>
                    <a:pt x="507" y="3382"/>
                  </a:lnTo>
                  <a:lnTo>
                    <a:pt x="560" y="3468"/>
                  </a:lnTo>
                  <a:lnTo>
                    <a:pt x="617" y="3554"/>
                  </a:lnTo>
                  <a:lnTo>
                    <a:pt x="675" y="3639"/>
                  </a:lnTo>
                  <a:lnTo>
                    <a:pt x="736" y="3724"/>
                  </a:lnTo>
                  <a:lnTo>
                    <a:pt x="801" y="3807"/>
                  </a:lnTo>
                  <a:lnTo>
                    <a:pt x="867" y="3891"/>
                  </a:lnTo>
                  <a:lnTo>
                    <a:pt x="936" y="3974"/>
                  </a:lnTo>
                  <a:lnTo>
                    <a:pt x="1008" y="4057"/>
                  </a:lnTo>
                  <a:lnTo>
                    <a:pt x="1080" y="4139"/>
                  </a:lnTo>
                  <a:lnTo>
                    <a:pt x="1156" y="4222"/>
                  </a:lnTo>
                  <a:lnTo>
                    <a:pt x="1234" y="4304"/>
                  </a:lnTo>
                  <a:lnTo>
                    <a:pt x="1314" y="4386"/>
                  </a:lnTo>
                  <a:lnTo>
                    <a:pt x="1395" y="4469"/>
                  </a:lnTo>
                  <a:lnTo>
                    <a:pt x="1479" y="4552"/>
                  </a:lnTo>
                  <a:lnTo>
                    <a:pt x="1564" y="4635"/>
                  </a:lnTo>
                  <a:lnTo>
                    <a:pt x="1650" y="4718"/>
                  </a:lnTo>
                  <a:lnTo>
                    <a:pt x="1738" y="4802"/>
                  </a:lnTo>
                  <a:lnTo>
                    <a:pt x="1828" y="4887"/>
                  </a:lnTo>
                  <a:lnTo>
                    <a:pt x="1918" y="4972"/>
                  </a:lnTo>
                  <a:lnTo>
                    <a:pt x="1979" y="5026"/>
                  </a:lnTo>
                  <a:lnTo>
                    <a:pt x="2040" y="5074"/>
                  </a:lnTo>
                  <a:lnTo>
                    <a:pt x="2101" y="5117"/>
                  </a:lnTo>
                  <a:lnTo>
                    <a:pt x="2164" y="5157"/>
                  </a:lnTo>
                  <a:lnTo>
                    <a:pt x="2226" y="5192"/>
                  </a:lnTo>
                  <a:lnTo>
                    <a:pt x="2290" y="5223"/>
                  </a:lnTo>
                  <a:lnTo>
                    <a:pt x="2355" y="5249"/>
                  </a:lnTo>
                  <a:lnTo>
                    <a:pt x="2421" y="5272"/>
                  </a:lnTo>
                  <a:lnTo>
                    <a:pt x="2487" y="5290"/>
                  </a:lnTo>
                  <a:lnTo>
                    <a:pt x="2553" y="5306"/>
                  </a:lnTo>
                  <a:lnTo>
                    <a:pt x="2621" y="5316"/>
                  </a:lnTo>
                  <a:lnTo>
                    <a:pt x="2690" y="5325"/>
                  </a:lnTo>
                  <a:lnTo>
                    <a:pt x="2759" y="5330"/>
                  </a:lnTo>
                  <a:lnTo>
                    <a:pt x="2829" y="5331"/>
                  </a:lnTo>
                  <a:lnTo>
                    <a:pt x="2900" y="5330"/>
                  </a:lnTo>
                  <a:lnTo>
                    <a:pt x="2972" y="5326"/>
                  </a:lnTo>
                  <a:lnTo>
                    <a:pt x="3045" y="5318"/>
                  </a:lnTo>
                  <a:lnTo>
                    <a:pt x="3120" y="5309"/>
                  </a:lnTo>
                  <a:lnTo>
                    <a:pt x="3194" y="5297"/>
                  </a:lnTo>
                  <a:lnTo>
                    <a:pt x="3270" y="5283"/>
                  </a:lnTo>
                  <a:lnTo>
                    <a:pt x="3347" y="5267"/>
                  </a:lnTo>
                  <a:lnTo>
                    <a:pt x="3426" y="5248"/>
                  </a:lnTo>
                  <a:lnTo>
                    <a:pt x="3504" y="5228"/>
                  </a:lnTo>
                  <a:lnTo>
                    <a:pt x="3584" y="5206"/>
                  </a:lnTo>
                  <a:lnTo>
                    <a:pt x="3665" y="5183"/>
                  </a:lnTo>
                  <a:lnTo>
                    <a:pt x="3747" y="5157"/>
                  </a:lnTo>
                  <a:lnTo>
                    <a:pt x="3830" y="5131"/>
                  </a:lnTo>
                  <a:lnTo>
                    <a:pt x="3915" y="5104"/>
                  </a:lnTo>
                  <a:lnTo>
                    <a:pt x="4087" y="5046"/>
                  </a:lnTo>
                  <a:lnTo>
                    <a:pt x="4264" y="4985"/>
                  </a:lnTo>
                  <a:lnTo>
                    <a:pt x="4336" y="4955"/>
                  </a:lnTo>
                  <a:lnTo>
                    <a:pt x="4402" y="4920"/>
                  </a:lnTo>
                  <a:lnTo>
                    <a:pt x="4461" y="4880"/>
                  </a:lnTo>
                  <a:lnTo>
                    <a:pt x="4515" y="4837"/>
                  </a:lnTo>
                  <a:lnTo>
                    <a:pt x="4562" y="4790"/>
                  </a:lnTo>
                  <a:lnTo>
                    <a:pt x="4604" y="4739"/>
                  </a:lnTo>
                  <a:lnTo>
                    <a:pt x="4640" y="4686"/>
                  </a:lnTo>
                  <a:lnTo>
                    <a:pt x="4670" y="4629"/>
                  </a:lnTo>
                  <a:lnTo>
                    <a:pt x="4694" y="4571"/>
                  </a:lnTo>
                  <a:lnTo>
                    <a:pt x="4713" y="4510"/>
                  </a:lnTo>
                  <a:lnTo>
                    <a:pt x="4727" y="4448"/>
                  </a:lnTo>
                  <a:lnTo>
                    <a:pt x="4735" y="4384"/>
                  </a:lnTo>
                  <a:lnTo>
                    <a:pt x="4740" y="4321"/>
                  </a:lnTo>
                  <a:lnTo>
                    <a:pt x="4737" y="4257"/>
                  </a:lnTo>
                  <a:lnTo>
                    <a:pt x="4730" y="4193"/>
                  </a:lnTo>
                  <a:lnTo>
                    <a:pt x="4719" y="4128"/>
                  </a:lnTo>
                  <a:lnTo>
                    <a:pt x="4703" y="4066"/>
                  </a:lnTo>
                  <a:lnTo>
                    <a:pt x="4681" y="4004"/>
                  </a:lnTo>
                  <a:lnTo>
                    <a:pt x="4656" y="3944"/>
                  </a:lnTo>
                  <a:lnTo>
                    <a:pt x="4625" y="3885"/>
                  </a:lnTo>
                  <a:lnTo>
                    <a:pt x="4590" y="3829"/>
                  </a:lnTo>
                  <a:lnTo>
                    <a:pt x="4551" y="3777"/>
                  </a:lnTo>
                  <a:lnTo>
                    <a:pt x="4508" y="3726"/>
                  </a:lnTo>
                  <a:lnTo>
                    <a:pt x="4461" y="3680"/>
                  </a:lnTo>
                  <a:lnTo>
                    <a:pt x="4410" y="3637"/>
                  </a:lnTo>
                  <a:lnTo>
                    <a:pt x="4355" y="3598"/>
                  </a:lnTo>
                  <a:lnTo>
                    <a:pt x="4296" y="3564"/>
                  </a:lnTo>
                  <a:lnTo>
                    <a:pt x="4233" y="3534"/>
                  </a:lnTo>
                  <a:lnTo>
                    <a:pt x="4167" y="3511"/>
                  </a:lnTo>
                  <a:lnTo>
                    <a:pt x="4097" y="3493"/>
                  </a:lnTo>
                  <a:lnTo>
                    <a:pt x="4024" y="3482"/>
                  </a:lnTo>
                  <a:lnTo>
                    <a:pt x="3947" y="3477"/>
                  </a:lnTo>
                  <a:lnTo>
                    <a:pt x="3894" y="3476"/>
                  </a:lnTo>
                  <a:lnTo>
                    <a:pt x="3842" y="3477"/>
                  </a:lnTo>
                  <a:lnTo>
                    <a:pt x="3791" y="3478"/>
                  </a:lnTo>
                  <a:lnTo>
                    <a:pt x="3743" y="3480"/>
                  </a:lnTo>
                  <a:lnTo>
                    <a:pt x="3648" y="3485"/>
                  </a:lnTo>
                  <a:lnTo>
                    <a:pt x="3559" y="3491"/>
                  </a:lnTo>
                  <a:lnTo>
                    <a:pt x="3475" y="3498"/>
                  </a:lnTo>
                  <a:lnTo>
                    <a:pt x="3396" y="3502"/>
                  </a:lnTo>
                  <a:lnTo>
                    <a:pt x="3359" y="3504"/>
                  </a:lnTo>
                  <a:lnTo>
                    <a:pt x="3323" y="3504"/>
                  </a:lnTo>
                  <a:lnTo>
                    <a:pt x="3288" y="3504"/>
                  </a:lnTo>
                  <a:lnTo>
                    <a:pt x="3254" y="3503"/>
                  </a:lnTo>
                  <a:lnTo>
                    <a:pt x="3222" y="3500"/>
                  </a:lnTo>
                  <a:lnTo>
                    <a:pt x="3191" y="3496"/>
                  </a:lnTo>
                  <a:lnTo>
                    <a:pt x="3161" y="3489"/>
                  </a:lnTo>
                  <a:lnTo>
                    <a:pt x="3132" y="3482"/>
                  </a:lnTo>
                  <a:lnTo>
                    <a:pt x="3105" y="3472"/>
                  </a:lnTo>
                  <a:lnTo>
                    <a:pt x="3079" y="3461"/>
                  </a:lnTo>
                  <a:lnTo>
                    <a:pt x="3053" y="3447"/>
                  </a:lnTo>
                  <a:lnTo>
                    <a:pt x="3029" y="3431"/>
                  </a:lnTo>
                  <a:lnTo>
                    <a:pt x="3007" y="3412"/>
                  </a:lnTo>
                  <a:lnTo>
                    <a:pt x="2985" y="3391"/>
                  </a:lnTo>
                  <a:lnTo>
                    <a:pt x="2965" y="3367"/>
                  </a:lnTo>
                  <a:lnTo>
                    <a:pt x="2946" y="3340"/>
                  </a:lnTo>
                  <a:lnTo>
                    <a:pt x="2928" y="3309"/>
                  </a:lnTo>
                  <a:lnTo>
                    <a:pt x="2911" y="3275"/>
                  </a:lnTo>
                  <a:lnTo>
                    <a:pt x="2896" y="3239"/>
                  </a:lnTo>
                  <a:lnTo>
                    <a:pt x="2881" y="3199"/>
                  </a:lnTo>
                  <a:lnTo>
                    <a:pt x="2863" y="3145"/>
                  </a:lnTo>
                  <a:lnTo>
                    <a:pt x="2840" y="3093"/>
                  </a:lnTo>
                  <a:lnTo>
                    <a:pt x="2813" y="3044"/>
                  </a:lnTo>
                  <a:lnTo>
                    <a:pt x="2781" y="2996"/>
                  </a:lnTo>
                  <a:lnTo>
                    <a:pt x="2746" y="2950"/>
                  </a:lnTo>
                  <a:lnTo>
                    <a:pt x="2709" y="2906"/>
                  </a:lnTo>
                  <a:lnTo>
                    <a:pt x="2669" y="2863"/>
                  </a:lnTo>
                  <a:lnTo>
                    <a:pt x="2627" y="2820"/>
                  </a:lnTo>
                  <a:lnTo>
                    <a:pt x="2450" y="2663"/>
                  </a:lnTo>
                  <a:lnTo>
                    <a:pt x="2279" y="2513"/>
                  </a:lnTo>
                  <a:lnTo>
                    <a:pt x="2241" y="2475"/>
                  </a:lnTo>
                  <a:lnTo>
                    <a:pt x="2205" y="2438"/>
                  </a:lnTo>
                  <a:lnTo>
                    <a:pt x="2172" y="2400"/>
                  </a:lnTo>
                  <a:lnTo>
                    <a:pt x="2144" y="2362"/>
                  </a:lnTo>
                  <a:lnTo>
                    <a:pt x="2120" y="2323"/>
                  </a:lnTo>
                  <a:lnTo>
                    <a:pt x="2101" y="2283"/>
                  </a:lnTo>
                  <a:lnTo>
                    <a:pt x="2086" y="2243"/>
                  </a:lnTo>
                  <a:lnTo>
                    <a:pt x="2078" y="2201"/>
                  </a:lnTo>
                  <a:lnTo>
                    <a:pt x="2075" y="2158"/>
                  </a:lnTo>
                  <a:lnTo>
                    <a:pt x="2079" y="2114"/>
                  </a:lnTo>
                  <a:lnTo>
                    <a:pt x="2090" y="2069"/>
                  </a:lnTo>
                  <a:lnTo>
                    <a:pt x="2108" y="2021"/>
                  </a:lnTo>
                  <a:lnTo>
                    <a:pt x="2135" y="1973"/>
                  </a:lnTo>
                  <a:lnTo>
                    <a:pt x="2170" y="1921"/>
                  </a:lnTo>
                  <a:lnTo>
                    <a:pt x="2213" y="1868"/>
                  </a:lnTo>
                  <a:lnTo>
                    <a:pt x="2267" y="1813"/>
                  </a:lnTo>
                  <a:lnTo>
                    <a:pt x="2321" y="1753"/>
                  </a:lnTo>
                  <a:lnTo>
                    <a:pt x="2367" y="1692"/>
                  </a:lnTo>
                  <a:lnTo>
                    <a:pt x="2406" y="1630"/>
                  </a:lnTo>
                  <a:lnTo>
                    <a:pt x="2438" y="1569"/>
                  </a:lnTo>
                  <a:lnTo>
                    <a:pt x="2465" y="1508"/>
                  </a:lnTo>
                  <a:lnTo>
                    <a:pt x="2486" y="1447"/>
                  </a:lnTo>
                  <a:lnTo>
                    <a:pt x="2499" y="1385"/>
                  </a:lnTo>
                  <a:lnTo>
                    <a:pt x="2509" y="1324"/>
                  </a:lnTo>
                  <a:lnTo>
                    <a:pt x="2512" y="1262"/>
                  </a:lnTo>
                  <a:lnTo>
                    <a:pt x="2510" y="1201"/>
                  </a:lnTo>
                  <a:lnTo>
                    <a:pt x="2504" y="1140"/>
                  </a:lnTo>
                  <a:lnTo>
                    <a:pt x="2492" y="1079"/>
                  </a:lnTo>
                  <a:lnTo>
                    <a:pt x="2476" y="1019"/>
                  </a:lnTo>
                  <a:lnTo>
                    <a:pt x="2456" y="957"/>
                  </a:lnTo>
                  <a:lnTo>
                    <a:pt x="2432" y="897"/>
                  </a:lnTo>
                  <a:lnTo>
                    <a:pt x="2405" y="838"/>
                  </a:lnTo>
                  <a:lnTo>
                    <a:pt x="2373" y="780"/>
                  </a:lnTo>
                  <a:lnTo>
                    <a:pt x="2340" y="722"/>
                  </a:lnTo>
                  <a:lnTo>
                    <a:pt x="2302" y="664"/>
                  </a:lnTo>
                  <a:lnTo>
                    <a:pt x="2262" y="607"/>
                  </a:lnTo>
                  <a:lnTo>
                    <a:pt x="2220" y="551"/>
                  </a:lnTo>
                  <a:lnTo>
                    <a:pt x="2175" y="495"/>
                  </a:lnTo>
                  <a:lnTo>
                    <a:pt x="2128" y="440"/>
                  </a:lnTo>
                  <a:lnTo>
                    <a:pt x="2080" y="387"/>
                  </a:lnTo>
                  <a:lnTo>
                    <a:pt x="2031" y="335"/>
                  </a:lnTo>
                  <a:lnTo>
                    <a:pt x="1979" y="284"/>
                  </a:lnTo>
                  <a:lnTo>
                    <a:pt x="1926" y="233"/>
                  </a:lnTo>
                  <a:lnTo>
                    <a:pt x="1874" y="183"/>
                  </a:lnTo>
                  <a:lnTo>
                    <a:pt x="1820" y="136"/>
                  </a:lnTo>
                  <a:lnTo>
                    <a:pt x="1767" y="89"/>
                  </a:lnTo>
                  <a:lnTo>
                    <a:pt x="1713" y="44"/>
                  </a:lnTo>
                  <a:lnTo>
                    <a:pt x="1659" y="0"/>
                  </a:lnTo>
                  <a:lnTo>
                    <a:pt x="1553" y="40"/>
                  </a:lnTo>
                  <a:lnTo>
                    <a:pt x="1450" y="83"/>
                  </a:lnTo>
                  <a:lnTo>
                    <a:pt x="1350" y="129"/>
                  </a:lnTo>
                  <a:lnTo>
                    <a:pt x="1254" y="178"/>
                  </a:lnTo>
                  <a:lnTo>
                    <a:pt x="1161" y="229"/>
                  </a:lnTo>
                  <a:lnTo>
                    <a:pt x="1072" y="284"/>
                  </a:lnTo>
                  <a:lnTo>
                    <a:pt x="986" y="339"/>
                  </a:lnTo>
                  <a:lnTo>
                    <a:pt x="904" y="397"/>
                  </a:lnTo>
                  <a:lnTo>
                    <a:pt x="825" y="458"/>
                  </a:lnTo>
                  <a:lnTo>
                    <a:pt x="749" y="520"/>
                  </a:lnTo>
                  <a:lnTo>
                    <a:pt x="678" y="585"/>
                  </a:lnTo>
                  <a:lnTo>
                    <a:pt x="609" y="650"/>
                  </a:lnTo>
                  <a:lnTo>
                    <a:pt x="545" y="716"/>
                  </a:lnTo>
                  <a:lnTo>
                    <a:pt x="483" y="785"/>
                  </a:lnTo>
                  <a:lnTo>
                    <a:pt x="426" y="853"/>
                  </a:lnTo>
                  <a:lnTo>
                    <a:pt x="373" y="924"/>
                  </a:lnTo>
                  <a:lnTo>
                    <a:pt x="322" y="994"/>
                  </a:lnTo>
                  <a:lnTo>
                    <a:pt x="275" y="1065"/>
                  </a:lnTo>
                  <a:lnTo>
                    <a:pt x="232" y="1137"/>
                  </a:lnTo>
                  <a:lnTo>
                    <a:pt x="193" y="1208"/>
                  </a:lnTo>
                  <a:lnTo>
                    <a:pt x="157" y="1280"/>
                  </a:lnTo>
                  <a:lnTo>
                    <a:pt x="125" y="1351"/>
                  </a:lnTo>
                  <a:lnTo>
                    <a:pt x="96" y="1423"/>
                  </a:lnTo>
                  <a:lnTo>
                    <a:pt x="71" y="1494"/>
                  </a:lnTo>
                  <a:lnTo>
                    <a:pt x="50" y="1564"/>
                  </a:lnTo>
                  <a:lnTo>
                    <a:pt x="32" y="1634"/>
                  </a:lnTo>
                  <a:lnTo>
                    <a:pt x="18" y="1703"/>
                  </a:lnTo>
                  <a:lnTo>
                    <a:pt x="9" y="1771"/>
                  </a:lnTo>
                  <a:lnTo>
                    <a:pt x="3" y="1837"/>
                  </a:lnTo>
                  <a:lnTo>
                    <a:pt x="0" y="1901"/>
                  </a:lnTo>
                  <a:lnTo>
                    <a:pt x="1" y="1964"/>
                  </a:lnTo>
                  <a:lnTo>
                    <a:pt x="6" y="2026"/>
                  </a:lnTo>
                  <a:lnTo>
                    <a:pt x="14" y="2025"/>
                  </a:lnTo>
                  <a:lnTo>
                    <a:pt x="23" y="2025"/>
                  </a:lnTo>
                  <a:lnTo>
                    <a:pt x="30" y="2025"/>
                  </a:lnTo>
                  <a:lnTo>
                    <a:pt x="37" y="2026"/>
                  </a:lnTo>
                  <a:lnTo>
                    <a:pt x="45" y="2029"/>
                  </a:lnTo>
                  <a:lnTo>
                    <a:pt x="51" y="2031"/>
                  </a:lnTo>
                  <a:lnTo>
                    <a:pt x="57" y="2033"/>
                  </a:lnTo>
                  <a:lnTo>
                    <a:pt x="63" y="2036"/>
                  </a:lnTo>
                  <a:lnTo>
                    <a:pt x="73" y="2042"/>
                  </a:lnTo>
                  <a:lnTo>
                    <a:pt x="82" y="2051"/>
                  </a:lnTo>
                  <a:lnTo>
                    <a:pt x="88" y="2059"/>
                  </a:lnTo>
                  <a:lnTo>
                    <a:pt x="94" y="2070"/>
                  </a:lnTo>
                  <a:lnTo>
                    <a:pt x="99" y="2079"/>
                  </a:lnTo>
                  <a:lnTo>
                    <a:pt x="104" y="2090"/>
                  </a:lnTo>
                  <a:lnTo>
                    <a:pt x="107" y="2100"/>
                  </a:lnTo>
                  <a:lnTo>
                    <a:pt x="109" y="2110"/>
                  </a:lnTo>
                  <a:lnTo>
                    <a:pt x="113" y="2125"/>
                  </a:lnTo>
                  <a:lnTo>
                    <a:pt x="115" y="2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6550800">
              <a:off x="7227000" y="3041640"/>
              <a:ext cx="100440" cy="124560"/>
            </a:xfrm>
            <a:custGeom>
              <a:avLst/>
              <a:gdLst/>
              <a:ahLst/>
              <a:rect l="l" t="t" r="r" b="b"/>
              <a:pathLst>
                <a:path w="4244" h="4648">
                  <a:moveTo>
                    <a:pt x="1517" y="2006"/>
                  </a:moveTo>
                  <a:lnTo>
                    <a:pt x="1566" y="2025"/>
                  </a:lnTo>
                  <a:lnTo>
                    <a:pt x="1613" y="2047"/>
                  </a:lnTo>
                  <a:lnTo>
                    <a:pt x="1660" y="2069"/>
                  </a:lnTo>
                  <a:lnTo>
                    <a:pt x="1703" y="2094"/>
                  </a:lnTo>
                  <a:lnTo>
                    <a:pt x="1745" y="2119"/>
                  </a:lnTo>
                  <a:lnTo>
                    <a:pt x="1785" y="2145"/>
                  </a:lnTo>
                  <a:lnTo>
                    <a:pt x="1823" y="2173"/>
                  </a:lnTo>
                  <a:lnTo>
                    <a:pt x="1859" y="2202"/>
                  </a:lnTo>
                  <a:lnTo>
                    <a:pt x="1894" y="2232"/>
                  </a:lnTo>
                  <a:lnTo>
                    <a:pt x="1928" y="2262"/>
                  </a:lnTo>
                  <a:lnTo>
                    <a:pt x="1960" y="2294"/>
                  </a:lnTo>
                  <a:lnTo>
                    <a:pt x="1991" y="2325"/>
                  </a:lnTo>
                  <a:lnTo>
                    <a:pt x="2021" y="2358"/>
                  </a:lnTo>
                  <a:lnTo>
                    <a:pt x="2050" y="2392"/>
                  </a:lnTo>
                  <a:lnTo>
                    <a:pt x="2078" y="2425"/>
                  </a:lnTo>
                  <a:lnTo>
                    <a:pt x="2105" y="2459"/>
                  </a:lnTo>
                  <a:lnTo>
                    <a:pt x="2158" y="2529"/>
                  </a:lnTo>
                  <a:lnTo>
                    <a:pt x="2207" y="2598"/>
                  </a:lnTo>
                  <a:lnTo>
                    <a:pt x="2256" y="2668"/>
                  </a:lnTo>
                  <a:lnTo>
                    <a:pt x="2304" y="2736"/>
                  </a:lnTo>
                  <a:lnTo>
                    <a:pt x="2352" y="2804"/>
                  </a:lnTo>
                  <a:lnTo>
                    <a:pt x="2402" y="2869"/>
                  </a:lnTo>
                  <a:lnTo>
                    <a:pt x="2426" y="2900"/>
                  </a:lnTo>
                  <a:lnTo>
                    <a:pt x="2452" y="2931"/>
                  </a:lnTo>
                  <a:lnTo>
                    <a:pt x="2479" y="2961"/>
                  </a:lnTo>
                  <a:lnTo>
                    <a:pt x="2505" y="2990"/>
                  </a:lnTo>
                  <a:lnTo>
                    <a:pt x="2548" y="3039"/>
                  </a:lnTo>
                  <a:lnTo>
                    <a:pt x="2591" y="3087"/>
                  </a:lnTo>
                  <a:lnTo>
                    <a:pt x="2613" y="3110"/>
                  </a:lnTo>
                  <a:lnTo>
                    <a:pt x="2635" y="3132"/>
                  </a:lnTo>
                  <a:lnTo>
                    <a:pt x="2658" y="3153"/>
                  </a:lnTo>
                  <a:lnTo>
                    <a:pt x="2680" y="3174"/>
                  </a:lnTo>
                  <a:lnTo>
                    <a:pt x="2705" y="3194"/>
                  </a:lnTo>
                  <a:lnTo>
                    <a:pt x="2729" y="3213"/>
                  </a:lnTo>
                  <a:lnTo>
                    <a:pt x="2753" y="3231"/>
                  </a:lnTo>
                  <a:lnTo>
                    <a:pt x="2779" y="3248"/>
                  </a:lnTo>
                  <a:lnTo>
                    <a:pt x="2806" y="3264"/>
                  </a:lnTo>
                  <a:lnTo>
                    <a:pt x="2834" y="3278"/>
                  </a:lnTo>
                  <a:lnTo>
                    <a:pt x="2862" y="3292"/>
                  </a:lnTo>
                  <a:lnTo>
                    <a:pt x="2893" y="3304"/>
                  </a:lnTo>
                  <a:lnTo>
                    <a:pt x="2924" y="3315"/>
                  </a:lnTo>
                  <a:lnTo>
                    <a:pt x="2958" y="3325"/>
                  </a:lnTo>
                  <a:lnTo>
                    <a:pt x="2992" y="3332"/>
                  </a:lnTo>
                  <a:lnTo>
                    <a:pt x="3028" y="3338"/>
                  </a:lnTo>
                  <a:lnTo>
                    <a:pt x="3066" y="3344"/>
                  </a:lnTo>
                  <a:lnTo>
                    <a:pt x="3106" y="3346"/>
                  </a:lnTo>
                  <a:lnTo>
                    <a:pt x="3148" y="3348"/>
                  </a:lnTo>
                  <a:lnTo>
                    <a:pt x="3192" y="3347"/>
                  </a:lnTo>
                  <a:lnTo>
                    <a:pt x="3239" y="3345"/>
                  </a:lnTo>
                  <a:lnTo>
                    <a:pt x="3287" y="3341"/>
                  </a:lnTo>
                  <a:lnTo>
                    <a:pt x="3337" y="3333"/>
                  </a:lnTo>
                  <a:lnTo>
                    <a:pt x="3390" y="3325"/>
                  </a:lnTo>
                  <a:lnTo>
                    <a:pt x="3446" y="3314"/>
                  </a:lnTo>
                  <a:lnTo>
                    <a:pt x="3505" y="3302"/>
                  </a:lnTo>
                  <a:lnTo>
                    <a:pt x="3566" y="3286"/>
                  </a:lnTo>
                  <a:lnTo>
                    <a:pt x="3630" y="3269"/>
                  </a:lnTo>
                  <a:lnTo>
                    <a:pt x="3680" y="3257"/>
                  </a:lnTo>
                  <a:lnTo>
                    <a:pt x="3730" y="3253"/>
                  </a:lnTo>
                  <a:lnTo>
                    <a:pt x="3777" y="3255"/>
                  </a:lnTo>
                  <a:lnTo>
                    <a:pt x="3822" y="3264"/>
                  </a:lnTo>
                  <a:lnTo>
                    <a:pt x="3865" y="3277"/>
                  </a:lnTo>
                  <a:lnTo>
                    <a:pt x="3907" y="3295"/>
                  </a:lnTo>
                  <a:lnTo>
                    <a:pt x="3947" y="3320"/>
                  </a:lnTo>
                  <a:lnTo>
                    <a:pt x="3984" y="3347"/>
                  </a:lnTo>
                  <a:lnTo>
                    <a:pt x="4020" y="3380"/>
                  </a:lnTo>
                  <a:lnTo>
                    <a:pt x="4052" y="3414"/>
                  </a:lnTo>
                  <a:lnTo>
                    <a:pt x="4083" y="3453"/>
                  </a:lnTo>
                  <a:lnTo>
                    <a:pt x="4111" y="3495"/>
                  </a:lnTo>
                  <a:lnTo>
                    <a:pt x="4136" y="3539"/>
                  </a:lnTo>
                  <a:lnTo>
                    <a:pt x="4160" y="3585"/>
                  </a:lnTo>
                  <a:lnTo>
                    <a:pt x="4181" y="3632"/>
                  </a:lnTo>
                  <a:lnTo>
                    <a:pt x="4198" y="3681"/>
                  </a:lnTo>
                  <a:lnTo>
                    <a:pt x="4213" y="3730"/>
                  </a:lnTo>
                  <a:lnTo>
                    <a:pt x="4225" y="3780"/>
                  </a:lnTo>
                  <a:lnTo>
                    <a:pt x="4234" y="3829"/>
                  </a:lnTo>
                  <a:lnTo>
                    <a:pt x="4241" y="3879"/>
                  </a:lnTo>
                  <a:lnTo>
                    <a:pt x="4244" y="3927"/>
                  </a:lnTo>
                  <a:lnTo>
                    <a:pt x="4244" y="3975"/>
                  </a:lnTo>
                  <a:lnTo>
                    <a:pt x="4239" y="4020"/>
                  </a:lnTo>
                  <a:lnTo>
                    <a:pt x="4233" y="4063"/>
                  </a:lnTo>
                  <a:lnTo>
                    <a:pt x="4223" y="4104"/>
                  </a:lnTo>
                  <a:lnTo>
                    <a:pt x="4209" y="4143"/>
                  </a:lnTo>
                  <a:lnTo>
                    <a:pt x="4192" y="4178"/>
                  </a:lnTo>
                  <a:lnTo>
                    <a:pt x="4171" y="4209"/>
                  </a:lnTo>
                  <a:lnTo>
                    <a:pt x="4146" y="4237"/>
                  </a:lnTo>
                  <a:lnTo>
                    <a:pt x="4118" y="4260"/>
                  </a:lnTo>
                  <a:lnTo>
                    <a:pt x="4086" y="4278"/>
                  </a:lnTo>
                  <a:lnTo>
                    <a:pt x="4049" y="4292"/>
                  </a:lnTo>
                  <a:lnTo>
                    <a:pt x="2706" y="4648"/>
                  </a:lnTo>
                  <a:lnTo>
                    <a:pt x="2608" y="4632"/>
                  </a:lnTo>
                  <a:lnTo>
                    <a:pt x="2513" y="4611"/>
                  </a:lnTo>
                  <a:lnTo>
                    <a:pt x="2420" y="4585"/>
                  </a:lnTo>
                  <a:lnTo>
                    <a:pt x="2328" y="4557"/>
                  </a:lnTo>
                  <a:lnTo>
                    <a:pt x="2239" y="4524"/>
                  </a:lnTo>
                  <a:lnTo>
                    <a:pt x="2151" y="4489"/>
                  </a:lnTo>
                  <a:lnTo>
                    <a:pt x="2065" y="4448"/>
                  </a:lnTo>
                  <a:lnTo>
                    <a:pt x="1981" y="4405"/>
                  </a:lnTo>
                  <a:lnTo>
                    <a:pt x="1900" y="4360"/>
                  </a:lnTo>
                  <a:lnTo>
                    <a:pt x="1821" y="4312"/>
                  </a:lnTo>
                  <a:lnTo>
                    <a:pt x="1743" y="4261"/>
                  </a:lnTo>
                  <a:lnTo>
                    <a:pt x="1667" y="4207"/>
                  </a:lnTo>
                  <a:lnTo>
                    <a:pt x="1593" y="4153"/>
                  </a:lnTo>
                  <a:lnTo>
                    <a:pt x="1521" y="4095"/>
                  </a:lnTo>
                  <a:lnTo>
                    <a:pt x="1452" y="4036"/>
                  </a:lnTo>
                  <a:lnTo>
                    <a:pt x="1384" y="3976"/>
                  </a:lnTo>
                  <a:lnTo>
                    <a:pt x="1318" y="3915"/>
                  </a:lnTo>
                  <a:lnTo>
                    <a:pt x="1255" y="3851"/>
                  </a:lnTo>
                  <a:lnTo>
                    <a:pt x="1193" y="3788"/>
                  </a:lnTo>
                  <a:lnTo>
                    <a:pt x="1134" y="3724"/>
                  </a:lnTo>
                  <a:lnTo>
                    <a:pt x="1076" y="3660"/>
                  </a:lnTo>
                  <a:lnTo>
                    <a:pt x="1022" y="3594"/>
                  </a:lnTo>
                  <a:lnTo>
                    <a:pt x="968" y="3530"/>
                  </a:lnTo>
                  <a:lnTo>
                    <a:pt x="918" y="3466"/>
                  </a:lnTo>
                  <a:lnTo>
                    <a:pt x="868" y="3402"/>
                  </a:lnTo>
                  <a:lnTo>
                    <a:pt x="822" y="3338"/>
                  </a:lnTo>
                  <a:lnTo>
                    <a:pt x="777" y="3276"/>
                  </a:lnTo>
                  <a:lnTo>
                    <a:pt x="735" y="3214"/>
                  </a:lnTo>
                  <a:lnTo>
                    <a:pt x="694" y="3154"/>
                  </a:lnTo>
                  <a:lnTo>
                    <a:pt x="656" y="3095"/>
                  </a:lnTo>
                  <a:lnTo>
                    <a:pt x="620" y="3038"/>
                  </a:lnTo>
                  <a:lnTo>
                    <a:pt x="586" y="2984"/>
                  </a:lnTo>
                  <a:lnTo>
                    <a:pt x="512" y="2860"/>
                  </a:lnTo>
                  <a:lnTo>
                    <a:pt x="436" y="2735"/>
                  </a:lnTo>
                  <a:lnTo>
                    <a:pt x="398" y="2671"/>
                  </a:lnTo>
                  <a:lnTo>
                    <a:pt x="360" y="2606"/>
                  </a:lnTo>
                  <a:lnTo>
                    <a:pt x="324" y="2540"/>
                  </a:lnTo>
                  <a:lnTo>
                    <a:pt x="287" y="2474"/>
                  </a:lnTo>
                  <a:lnTo>
                    <a:pt x="252" y="2408"/>
                  </a:lnTo>
                  <a:lnTo>
                    <a:pt x="217" y="2340"/>
                  </a:lnTo>
                  <a:lnTo>
                    <a:pt x="186" y="2272"/>
                  </a:lnTo>
                  <a:lnTo>
                    <a:pt x="154" y="2203"/>
                  </a:lnTo>
                  <a:lnTo>
                    <a:pt x="126" y="2134"/>
                  </a:lnTo>
                  <a:lnTo>
                    <a:pt x="100" y="2064"/>
                  </a:lnTo>
                  <a:lnTo>
                    <a:pt x="77" y="1994"/>
                  </a:lnTo>
                  <a:lnTo>
                    <a:pt x="55" y="1923"/>
                  </a:lnTo>
                  <a:lnTo>
                    <a:pt x="38" y="1851"/>
                  </a:lnTo>
                  <a:lnTo>
                    <a:pt x="23" y="1780"/>
                  </a:lnTo>
                  <a:lnTo>
                    <a:pt x="11" y="1707"/>
                  </a:lnTo>
                  <a:lnTo>
                    <a:pt x="4" y="1635"/>
                  </a:lnTo>
                  <a:lnTo>
                    <a:pt x="0" y="1561"/>
                  </a:lnTo>
                  <a:lnTo>
                    <a:pt x="1" y="1487"/>
                  </a:lnTo>
                  <a:lnTo>
                    <a:pt x="6" y="1413"/>
                  </a:lnTo>
                  <a:lnTo>
                    <a:pt x="17" y="1339"/>
                  </a:lnTo>
                  <a:lnTo>
                    <a:pt x="31" y="1264"/>
                  </a:lnTo>
                  <a:lnTo>
                    <a:pt x="51" y="1189"/>
                  </a:lnTo>
                  <a:lnTo>
                    <a:pt x="77" y="1113"/>
                  </a:lnTo>
                  <a:lnTo>
                    <a:pt x="108" y="1037"/>
                  </a:lnTo>
                  <a:lnTo>
                    <a:pt x="145" y="961"/>
                  </a:lnTo>
                  <a:lnTo>
                    <a:pt x="189" y="885"/>
                  </a:lnTo>
                  <a:lnTo>
                    <a:pt x="238" y="808"/>
                  </a:lnTo>
                  <a:lnTo>
                    <a:pt x="295" y="731"/>
                  </a:lnTo>
                  <a:lnTo>
                    <a:pt x="335" y="683"/>
                  </a:lnTo>
                  <a:lnTo>
                    <a:pt x="378" y="634"/>
                  </a:lnTo>
                  <a:lnTo>
                    <a:pt x="422" y="586"/>
                  </a:lnTo>
                  <a:lnTo>
                    <a:pt x="470" y="537"/>
                  </a:lnTo>
                  <a:lnTo>
                    <a:pt x="518" y="489"/>
                  </a:lnTo>
                  <a:lnTo>
                    <a:pt x="568" y="441"/>
                  </a:lnTo>
                  <a:lnTo>
                    <a:pt x="621" y="396"/>
                  </a:lnTo>
                  <a:lnTo>
                    <a:pt x="674" y="351"/>
                  </a:lnTo>
                  <a:lnTo>
                    <a:pt x="728" y="307"/>
                  </a:lnTo>
                  <a:lnTo>
                    <a:pt x="784" y="265"/>
                  </a:lnTo>
                  <a:lnTo>
                    <a:pt x="840" y="225"/>
                  </a:lnTo>
                  <a:lnTo>
                    <a:pt x="896" y="189"/>
                  </a:lnTo>
                  <a:lnTo>
                    <a:pt x="952" y="154"/>
                  </a:lnTo>
                  <a:lnTo>
                    <a:pt x="1009" y="121"/>
                  </a:lnTo>
                  <a:lnTo>
                    <a:pt x="1066" y="93"/>
                  </a:lnTo>
                  <a:lnTo>
                    <a:pt x="1122" y="68"/>
                  </a:lnTo>
                  <a:lnTo>
                    <a:pt x="1178" y="45"/>
                  </a:lnTo>
                  <a:lnTo>
                    <a:pt x="1233" y="27"/>
                  </a:lnTo>
                  <a:lnTo>
                    <a:pt x="1286" y="14"/>
                  </a:lnTo>
                  <a:lnTo>
                    <a:pt x="1340" y="4"/>
                  </a:lnTo>
                  <a:lnTo>
                    <a:pt x="1392" y="0"/>
                  </a:lnTo>
                  <a:lnTo>
                    <a:pt x="1442" y="0"/>
                  </a:lnTo>
                  <a:lnTo>
                    <a:pt x="1490" y="6"/>
                  </a:lnTo>
                  <a:lnTo>
                    <a:pt x="1537" y="17"/>
                  </a:lnTo>
                  <a:lnTo>
                    <a:pt x="1581" y="34"/>
                  </a:lnTo>
                  <a:lnTo>
                    <a:pt x="1623" y="57"/>
                  </a:lnTo>
                  <a:lnTo>
                    <a:pt x="1662" y="86"/>
                  </a:lnTo>
                  <a:lnTo>
                    <a:pt x="1699" y="122"/>
                  </a:lnTo>
                  <a:lnTo>
                    <a:pt x="1732" y="164"/>
                  </a:lnTo>
                  <a:lnTo>
                    <a:pt x="1763" y="214"/>
                  </a:lnTo>
                  <a:lnTo>
                    <a:pt x="1790" y="271"/>
                  </a:lnTo>
                  <a:lnTo>
                    <a:pt x="1814" y="336"/>
                  </a:lnTo>
                  <a:lnTo>
                    <a:pt x="1842" y="430"/>
                  </a:lnTo>
                  <a:lnTo>
                    <a:pt x="1866" y="514"/>
                  </a:lnTo>
                  <a:lnTo>
                    <a:pt x="1876" y="553"/>
                  </a:lnTo>
                  <a:lnTo>
                    <a:pt x="1885" y="591"/>
                  </a:lnTo>
                  <a:lnTo>
                    <a:pt x="1893" y="626"/>
                  </a:lnTo>
                  <a:lnTo>
                    <a:pt x="1899" y="659"/>
                  </a:lnTo>
                  <a:lnTo>
                    <a:pt x="1904" y="692"/>
                  </a:lnTo>
                  <a:lnTo>
                    <a:pt x="1907" y="724"/>
                  </a:lnTo>
                  <a:lnTo>
                    <a:pt x="1909" y="753"/>
                  </a:lnTo>
                  <a:lnTo>
                    <a:pt x="1909" y="783"/>
                  </a:lnTo>
                  <a:lnTo>
                    <a:pt x="1907" y="811"/>
                  </a:lnTo>
                  <a:lnTo>
                    <a:pt x="1904" y="839"/>
                  </a:lnTo>
                  <a:lnTo>
                    <a:pt x="1897" y="868"/>
                  </a:lnTo>
                  <a:lnTo>
                    <a:pt x="1891" y="895"/>
                  </a:lnTo>
                  <a:lnTo>
                    <a:pt x="1881" y="923"/>
                  </a:lnTo>
                  <a:lnTo>
                    <a:pt x="1870" y="951"/>
                  </a:lnTo>
                  <a:lnTo>
                    <a:pt x="1856" y="980"/>
                  </a:lnTo>
                  <a:lnTo>
                    <a:pt x="1841" y="1009"/>
                  </a:lnTo>
                  <a:lnTo>
                    <a:pt x="1823" y="1038"/>
                  </a:lnTo>
                  <a:lnTo>
                    <a:pt x="1803" y="1069"/>
                  </a:lnTo>
                  <a:lnTo>
                    <a:pt x="1780" y="1101"/>
                  </a:lnTo>
                  <a:lnTo>
                    <a:pt x="1754" y="1134"/>
                  </a:lnTo>
                  <a:lnTo>
                    <a:pt x="1727" y="1169"/>
                  </a:lnTo>
                  <a:lnTo>
                    <a:pt x="1696" y="1206"/>
                  </a:lnTo>
                  <a:lnTo>
                    <a:pt x="1664" y="1244"/>
                  </a:lnTo>
                  <a:lnTo>
                    <a:pt x="1628" y="1284"/>
                  </a:lnTo>
                  <a:lnTo>
                    <a:pt x="1549" y="1371"/>
                  </a:lnTo>
                  <a:lnTo>
                    <a:pt x="1458" y="1469"/>
                  </a:lnTo>
                  <a:lnTo>
                    <a:pt x="1439" y="1492"/>
                  </a:lnTo>
                  <a:lnTo>
                    <a:pt x="1422" y="1514"/>
                  </a:lnTo>
                  <a:lnTo>
                    <a:pt x="1408" y="1537"/>
                  </a:lnTo>
                  <a:lnTo>
                    <a:pt x="1397" y="1557"/>
                  </a:lnTo>
                  <a:lnTo>
                    <a:pt x="1387" y="1577"/>
                  </a:lnTo>
                  <a:lnTo>
                    <a:pt x="1380" y="1595"/>
                  </a:lnTo>
                  <a:lnTo>
                    <a:pt x="1375" y="1612"/>
                  </a:lnTo>
                  <a:lnTo>
                    <a:pt x="1371" y="1629"/>
                  </a:lnTo>
                  <a:lnTo>
                    <a:pt x="1370" y="1645"/>
                  </a:lnTo>
                  <a:lnTo>
                    <a:pt x="1370" y="1661"/>
                  </a:lnTo>
                  <a:lnTo>
                    <a:pt x="1371" y="1677"/>
                  </a:lnTo>
                  <a:lnTo>
                    <a:pt x="1374" y="1691"/>
                  </a:lnTo>
                  <a:lnTo>
                    <a:pt x="1377" y="1705"/>
                  </a:lnTo>
                  <a:lnTo>
                    <a:pt x="1382" y="1720"/>
                  </a:lnTo>
                  <a:lnTo>
                    <a:pt x="1388" y="1734"/>
                  </a:lnTo>
                  <a:lnTo>
                    <a:pt x="1395" y="1747"/>
                  </a:lnTo>
                  <a:lnTo>
                    <a:pt x="1428" y="1802"/>
                  </a:lnTo>
                  <a:lnTo>
                    <a:pt x="1465" y="1860"/>
                  </a:lnTo>
                  <a:lnTo>
                    <a:pt x="1475" y="1876"/>
                  </a:lnTo>
                  <a:lnTo>
                    <a:pt x="1483" y="1893"/>
                  </a:lnTo>
                  <a:lnTo>
                    <a:pt x="1490" y="1909"/>
                  </a:lnTo>
                  <a:lnTo>
                    <a:pt x="1498" y="1926"/>
                  </a:lnTo>
                  <a:lnTo>
                    <a:pt x="1504" y="1945"/>
                  </a:lnTo>
                  <a:lnTo>
                    <a:pt x="1509" y="1964"/>
                  </a:lnTo>
                  <a:lnTo>
                    <a:pt x="1514" y="1985"/>
                  </a:lnTo>
                  <a:lnTo>
                    <a:pt x="1517" y="2006"/>
                  </a:lnTo>
                  <a:close/>
                </a:path>
              </a:pathLst>
            </a:custGeom>
            <a:solidFill>
              <a:srgbClr val="b96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583160" y="3352680"/>
            <a:ext cx="220968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573880" y="3335400"/>
            <a:ext cx="5688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5598720" y="3335400"/>
            <a:ext cx="57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583160" y="2438280"/>
            <a:ext cx="0" cy="9144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506840" y="1447920"/>
            <a:ext cx="0" cy="3045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xDSL  Configur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3886200"/>
          <a:ext cx="7443720" cy="2457360"/>
        </p:xfrm>
        <a:graphic>
          <a:graphicData uri="http://schemas.openxmlformats.org/drawingml/2006/table">
            <a:tbl>
              <a:tblPr/>
              <a:tblGrid>
                <a:gridCol w="976320"/>
                <a:gridCol w="924840"/>
                <a:gridCol w="216000"/>
                <a:gridCol w="924840"/>
                <a:gridCol w="791640"/>
                <a:gridCol w="216000"/>
                <a:gridCol w="907560"/>
                <a:gridCol w="863640"/>
                <a:gridCol w="216000"/>
                <a:gridCol w="1406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CP/UD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v6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penden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ayer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LC/SNA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LC/SNA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CP/UDP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AL5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AL5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Pv6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M1/DS3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M1/DS3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DSL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/100B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/100B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outer/RAS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U-C(DSLAM)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TU-R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User PC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483-br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earch Are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2120" y="1371600"/>
            <a:ext cx="8076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P Mobility Protoco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ETF  Activity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AN concentrated mobility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P enabled LCNA service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curit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바탕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바탕체"/>
              </a:rPr>
              <a:t>AAA under All IP (Authentication, Authorization, Accounting) 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3" marL="1714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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  <a:ea typeface="바탕체"/>
              </a:rPr>
              <a:t>QoS under All I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Thank You !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62200" y="4267080"/>
            <a:ext cx="3819600" cy="1284480"/>
          </a:xfrm>
          <a:custGeom>
            <a:avLst/>
            <a:gdLst/>
            <a:ahLst/>
            <a:rect l="l" t="t" r="r" b="b"/>
            <a:pathLst>
              <a:path w="4810" h="1618">
                <a:moveTo>
                  <a:pt x="4807" y="381"/>
                </a:moveTo>
                <a:lnTo>
                  <a:pt x="4798" y="346"/>
                </a:lnTo>
                <a:lnTo>
                  <a:pt x="4782" y="314"/>
                </a:lnTo>
                <a:lnTo>
                  <a:pt x="4761" y="282"/>
                </a:lnTo>
                <a:lnTo>
                  <a:pt x="4734" y="252"/>
                </a:lnTo>
                <a:lnTo>
                  <a:pt x="4702" y="223"/>
                </a:lnTo>
                <a:lnTo>
                  <a:pt x="4663" y="197"/>
                </a:lnTo>
                <a:lnTo>
                  <a:pt x="4620" y="173"/>
                </a:lnTo>
                <a:lnTo>
                  <a:pt x="4571" y="148"/>
                </a:lnTo>
                <a:lnTo>
                  <a:pt x="4518" y="126"/>
                </a:lnTo>
                <a:lnTo>
                  <a:pt x="4460" y="106"/>
                </a:lnTo>
                <a:lnTo>
                  <a:pt x="4396" y="88"/>
                </a:lnTo>
                <a:lnTo>
                  <a:pt x="4330" y="71"/>
                </a:lnTo>
                <a:lnTo>
                  <a:pt x="4257" y="56"/>
                </a:lnTo>
                <a:lnTo>
                  <a:pt x="4182" y="43"/>
                </a:lnTo>
                <a:lnTo>
                  <a:pt x="4101" y="31"/>
                </a:lnTo>
                <a:lnTo>
                  <a:pt x="4018" y="22"/>
                </a:lnTo>
                <a:lnTo>
                  <a:pt x="3930" y="14"/>
                </a:lnTo>
                <a:lnTo>
                  <a:pt x="3839" y="8"/>
                </a:lnTo>
                <a:lnTo>
                  <a:pt x="3745" y="4"/>
                </a:lnTo>
                <a:lnTo>
                  <a:pt x="3647" y="2"/>
                </a:lnTo>
                <a:lnTo>
                  <a:pt x="3547" y="0"/>
                </a:lnTo>
                <a:lnTo>
                  <a:pt x="3443" y="2"/>
                </a:lnTo>
                <a:lnTo>
                  <a:pt x="3337" y="5"/>
                </a:lnTo>
                <a:lnTo>
                  <a:pt x="3227" y="11"/>
                </a:lnTo>
                <a:lnTo>
                  <a:pt x="3116" y="17"/>
                </a:lnTo>
                <a:lnTo>
                  <a:pt x="3003" y="27"/>
                </a:lnTo>
                <a:lnTo>
                  <a:pt x="2888" y="37"/>
                </a:lnTo>
                <a:lnTo>
                  <a:pt x="2769" y="51"/>
                </a:lnTo>
                <a:lnTo>
                  <a:pt x="2650" y="67"/>
                </a:lnTo>
                <a:lnTo>
                  <a:pt x="2529" y="83"/>
                </a:lnTo>
                <a:lnTo>
                  <a:pt x="2406" y="102"/>
                </a:lnTo>
                <a:lnTo>
                  <a:pt x="2282" y="123"/>
                </a:lnTo>
                <a:lnTo>
                  <a:pt x="2228" y="133"/>
                </a:lnTo>
                <a:lnTo>
                  <a:pt x="2176" y="143"/>
                </a:lnTo>
                <a:lnTo>
                  <a:pt x="2123" y="154"/>
                </a:lnTo>
                <a:lnTo>
                  <a:pt x="2071" y="165"/>
                </a:lnTo>
                <a:lnTo>
                  <a:pt x="2018" y="176"/>
                </a:lnTo>
                <a:lnTo>
                  <a:pt x="1967" y="186"/>
                </a:lnTo>
                <a:lnTo>
                  <a:pt x="1916" y="197"/>
                </a:lnTo>
                <a:lnTo>
                  <a:pt x="1865" y="209"/>
                </a:lnTo>
                <a:lnTo>
                  <a:pt x="1814" y="220"/>
                </a:lnTo>
                <a:lnTo>
                  <a:pt x="1765" y="232"/>
                </a:lnTo>
                <a:lnTo>
                  <a:pt x="1716" y="245"/>
                </a:lnTo>
                <a:lnTo>
                  <a:pt x="1666" y="259"/>
                </a:lnTo>
                <a:lnTo>
                  <a:pt x="1617" y="271"/>
                </a:lnTo>
                <a:lnTo>
                  <a:pt x="1569" y="283"/>
                </a:lnTo>
                <a:lnTo>
                  <a:pt x="1521" y="297"/>
                </a:lnTo>
                <a:lnTo>
                  <a:pt x="1475" y="309"/>
                </a:lnTo>
                <a:lnTo>
                  <a:pt x="1428" y="323"/>
                </a:lnTo>
                <a:lnTo>
                  <a:pt x="1382" y="337"/>
                </a:lnTo>
                <a:lnTo>
                  <a:pt x="1336" y="351"/>
                </a:lnTo>
                <a:lnTo>
                  <a:pt x="1291" y="366"/>
                </a:lnTo>
                <a:lnTo>
                  <a:pt x="1246" y="380"/>
                </a:lnTo>
                <a:lnTo>
                  <a:pt x="1203" y="394"/>
                </a:lnTo>
                <a:lnTo>
                  <a:pt x="1160" y="409"/>
                </a:lnTo>
                <a:lnTo>
                  <a:pt x="1116" y="423"/>
                </a:lnTo>
                <a:lnTo>
                  <a:pt x="1075" y="438"/>
                </a:lnTo>
                <a:lnTo>
                  <a:pt x="1033" y="454"/>
                </a:lnTo>
                <a:lnTo>
                  <a:pt x="993" y="469"/>
                </a:lnTo>
                <a:lnTo>
                  <a:pt x="953" y="484"/>
                </a:lnTo>
                <a:lnTo>
                  <a:pt x="913" y="500"/>
                </a:lnTo>
                <a:lnTo>
                  <a:pt x="874" y="515"/>
                </a:lnTo>
                <a:lnTo>
                  <a:pt x="835" y="532"/>
                </a:lnTo>
                <a:lnTo>
                  <a:pt x="798" y="547"/>
                </a:lnTo>
                <a:lnTo>
                  <a:pt x="826" y="550"/>
                </a:lnTo>
                <a:lnTo>
                  <a:pt x="852" y="557"/>
                </a:lnTo>
                <a:lnTo>
                  <a:pt x="875" y="569"/>
                </a:lnTo>
                <a:lnTo>
                  <a:pt x="897" y="584"/>
                </a:lnTo>
                <a:lnTo>
                  <a:pt x="914" y="604"/>
                </a:lnTo>
                <a:lnTo>
                  <a:pt x="928" y="630"/>
                </a:lnTo>
                <a:lnTo>
                  <a:pt x="934" y="663"/>
                </a:lnTo>
                <a:lnTo>
                  <a:pt x="936" y="701"/>
                </a:lnTo>
                <a:lnTo>
                  <a:pt x="829" y="702"/>
                </a:lnTo>
                <a:lnTo>
                  <a:pt x="829" y="689"/>
                </a:lnTo>
                <a:lnTo>
                  <a:pt x="828" y="676"/>
                </a:lnTo>
                <a:lnTo>
                  <a:pt x="823" y="667"/>
                </a:lnTo>
                <a:lnTo>
                  <a:pt x="817" y="658"/>
                </a:lnTo>
                <a:lnTo>
                  <a:pt x="809" y="650"/>
                </a:lnTo>
                <a:lnTo>
                  <a:pt x="800" y="646"/>
                </a:lnTo>
                <a:lnTo>
                  <a:pt x="787" y="643"/>
                </a:lnTo>
                <a:lnTo>
                  <a:pt x="775" y="641"/>
                </a:lnTo>
                <a:lnTo>
                  <a:pt x="766" y="643"/>
                </a:lnTo>
                <a:lnTo>
                  <a:pt x="758" y="646"/>
                </a:lnTo>
                <a:lnTo>
                  <a:pt x="750" y="650"/>
                </a:lnTo>
                <a:lnTo>
                  <a:pt x="744" y="655"/>
                </a:lnTo>
                <a:lnTo>
                  <a:pt x="738" y="663"/>
                </a:lnTo>
                <a:lnTo>
                  <a:pt x="733" y="670"/>
                </a:lnTo>
                <a:lnTo>
                  <a:pt x="732" y="678"/>
                </a:lnTo>
                <a:lnTo>
                  <a:pt x="730" y="687"/>
                </a:lnTo>
                <a:lnTo>
                  <a:pt x="732" y="699"/>
                </a:lnTo>
                <a:lnTo>
                  <a:pt x="736" y="710"/>
                </a:lnTo>
                <a:lnTo>
                  <a:pt x="743" y="719"/>
                </a:lnTo>
                <a:lnTo>
                  <a:pt x="750" y="727"/>
                </a:lnTo>
                <a:lnTo>
                  <a:pt x="760" y="733"/>
                </a:lnTo>
                <a:lnTo>
                  <a:pt x="770" y="738"/>
                </a:lnTo>
                <a:lnTo>
                  <a:pt x="781" y="742"/>
                </a:lnTo>
                <a:lnTo>
                  <a:pt x="792" y="745"/>
                </a:lnTo>
                <a:lnTo>
                  <a:pt x="817" y="753"/>
                </a:lnTo>
                <a:lnTo>
                  <a:pt x="843" y="761"/>
                </a:lnTo>
                <a:lnTo>
                  <a:pt x="869" y="772"/>
                </a:lnTo>
                <a:lnTo>
                  <a:pt x="894" y="785"/>
                </a:lnTo>
                <a:lnTo>
                  <a:pt x="916" y="805"/>
                </a:lnTo>
                <a:lnTo>
                  <a:pt x="933" y="832"/>
                </a:lnTo>
                <a:lnTo>
                  <a:pt x="943" y="865"/>
                </a:lnTo>
                <a:lnTo>
                  <a:pt x="948" y="910"/>
                </a:lnTo>
                <a:lnTo>
                  <a:pt x="945" y="947"/>
                </a:lnTo>
                <a:lnTo>
                  <a:pt x="934" y="977"/>
                </a:lnTo>
                <a:lnTo>
                  <a:pt x="919" y="1004"/>
                </a:lnTo>
                <a:lnTo>
                  <a:pt x="899" y="1025"/>
                </a:lnTo>
                <a:lnTo>
                  <a:pt x="872" y="1042"/>
                </a:lnTo>
                <a:lnTo>
                  <a:pt x="845" y="1054"/>
                </a:lnTo>
                <a:lnTo>
                  <a:pt x="815" y="1060"/>
                </a:lnTo>
                <a:lnTo>
                  <a:pt x="783" y="1062"/>
                </a:lnTo>
                <a:lnTo>
                  <a:pt x="750" y="1060"/>
                </a:lnTo>
                <a:lnTo>
                  <a:pt x="720" y="1056"/>
                </a:lnTo>
                <a:lnTo>
                  <a:pt x="690" y="1045"/>
                </a:lnTo>
                <a:lnTo>
                  <a:pt x="665" y="1030"/>
                </a:lnTo>
                <a:lnTo>
                  <a:pt x="645" y="1007"/>
                </a:lnTo>
                <a:lnTo>
                  <a:pt x="628" y="977"/>
                </a:lnTo>
                <a:lnTo>
                  <a:pt x="619" y="941"/>
                </a:lnTo>
                <a:lnTo>
                  <a:pt x="615" y="894"/>
                </a:lnTo>
                <a:lnTo>
                  <a:pt x="720" y="894"/>
                </a:lnTo>
                <a:lnTo>
                  <a:pt x="720" y="911"/>
                </a:lnTo>
                <a:lnTo>
                  <a:pt x="723" y="927"/>
                </a:lnTo>
                <a:lnTo>
                  <a:pt x="729" y="939"/>
                </a:lnTo>
                <a:lnTo>
                  <a:pt x="736" y="950"/>
                </a:lnTo>
                <a:lnTo>
                  <a:pt x="746" y="957"/>
                </a:lnTo>
                <a:lnTo>
                  <a:pt x="757" y="964"/>
                </a:lnTo>
                <a:lnTo>
                  <a:pt x="769" y="967"/>
                </a:lnTo>
                <a:lnTo>
                  <a:pt x="783" y="968"/>
                </a:lnTo>
                <a:lnTo>
                  <a:pt x="792" y="968"/>
                </a:lnTo>
                <a:lnTo>
                  <a:pt x="801" y="965"/>
                </a:lnTo>
                <a:lnTo>
                  <a:pt x="811" y="962"/>
                </a:lnTo>
                <a:lnTo>
                  <a:pt x="820" y="956"/>
                </a:lnTo>
                <a:lnTo>
                  <a:pt x="828" y="948"/>
                </a:lnTo>
                <a:lnTo>
                  <a:pt x="834" y="941"/>
                </a:lnTo>
                <a:lnTo>
                  <a:pt x="837" y="930"/>
                </a:lnTo>
                <a:lnTo>
                  <a:pt x="838" y="918"/>
                </a:lnTo>
                <a:lnTo>
                  <a:pt x="835" y="896"/>
                </a:lnTo>
                <a:lnTo>
                  <a:pt x="825" y="881"/>
                </a:lnTo>
                <a:lnTo>
                  <a:pt x="809" y="870"/>
                </a:lnTo>
                <a:lnTo>
                  <a:pt x="789" y="861"/>
                </a:lnTo>
                <a:lnTo>
                  <a:pt x="766" y="853"/>
                </a:lnTo>
                <a:lnTo>
                  <a:pt x="738" y="844"/>
                </a:lnTo>
                <a:lnTo>
                  <a:pt x="709" y="833"/>
                </a:lnTo>
                <a:lnTo>
                  <a:pt x="678" y="818"/>
                </a:lnTo>
                <a:lnTo>
                  <a:pt x="664" y="808"/>
                </a:lnTo>
                <a:lnTo>
                  <a:pt x="653" y="796"/>
                </a:lnTo>
                <a:lnTo>
                  <a:pt x="642" y="784"/>
                </a:lnTo>
                <a:lnTo>
                  <a:pt x="635" y="769"/>
                </a:lnTo>
                <a:lnTo>
                  <a:pt x="628" y="752"/>
                </a:lnTo>
                <a:lnTo>
                  <a:pt x="624" y="735"/>
                </a:lnTo>
                <a:lnTo>
                  <a:pt x="622" y="716"/>
                </a:lnTo>
                <a:lnTo>
                  <a:pt x="621" y="696"/>
                </a:lnTo>
                <a:lnTo>
                  <a:pt x="621" y="686"/>
                </a:lnTo>
                <a:lnTo>
                  <a:pt x="622" y="675"/>
                </a:lnTo>
                <a:lnTo>
                  <a:pt x="624" y="664"/>
                </a:lnTo>
                <a:lnTo>
                  <a:pt x="625" y="653"/>
                </a:lnTo>
                <a:lnTo>
                  <a:pt x="628" y="644"/>
                </a:lnTo>
                <a:lnTo>
                  <a:pt x="631" y="635"/>
                </a:lnTo>
                <a:lnTo>
                  <a:pt x="635" y="626"/>
                </a:lnTo>
                <a:lnTo>
                  <a:pt x="639" y="618"/>
                </a:lnTo>
                <a:lnTo>
                  <a:pt x="562" y="656"/>
                </a:lnTo>
                <a:lnTo>
                  <a:pt x="488" y="695"/>
                </a:lnTo>
                <a:lnTo>
                  <a:pt x="420" y="735"/>
                </a:lnTo>
                <a:lnTo>
                  <a:pt x="357" y="775"/>
                </a:lnTo>
                <a:lnTo>
                  <a:pt x="296" y="813"/>
                </a:lnTo>
                <a:lnTo>
                  <a:pt x="242" y="853"/>
                </a:lnTo>
                <a:lnTo>
                  <a:pt x="193" y="893"/>
                </a:lnTo>
                <a:lnTo>
                  <a:pt x="150" y="933"/>
                </a:lnTo>
                <a:lnTo>
                  <a:pt x="111" y="973"/>
                </a:lnTo>
                <a:lnTo>
                  <a:pt x="77" y="1011"/>
                </a:lnTo>
                <a:lnTo>
                  <a:pt x="49" y="1051"/>
                </a:lnTo>
                <a:lnTo>
                  <a:pt x="28" y="1090"/>
                </a:lnTo>
                <a:lnTo>
                  <a:pt x="12" y="1128"/>
                </a:lnTo>
                <a:lnTo>
                  <a:pt x="3" y="1165"/>
                </a:lnTo>
                <a:lnTo>
                  <a:pt x="0" y="1202"/>
                </a:lnTo>
                <a:lnTo>
                  <a:pt x="3" y="1239"/>
                </a:lnTo>
                <a:lnTo>
                  <a:pt x="12" y="1274"/>
                </a:lnTo>
                <a:lnTo>
                  <a:pt x="28" y="1306"/>
                </a:lnTo>
                <a:lnTo>
                  <a:pt x="49" y="1338"/>
                </a:lnTo>
                <a:lnTo>
                  <a:pt x="77" y="1368"/>
                </a:lnTo>
                <a:lnTo>
                  <a:pt x="110" y="1397"/>
                </a:lnTo>
                <a:lnTo>
                  <a:pt x="148" y="1423"/>
                </a:lnTo>
                <a:lnTo>
                  <a:pt x="191" y="1447"/>
                </a:lnTo>
                <a:lnTo>
                  <a:pt x="239" y="1472"/>
                </a:lnTo>
                <a:lnTo>
                  <a:pt x="293" y="1494"/>
                </a:lnTo>
                <a:lnTo>
                  <a:pt x="352" y="1514"/>
                </a:lnTo>
                <a:lnTo>
                  <a:pt x="415" y="1532"/>
                </a:lnTo>
                <a:lnTo>
                  <a:pt x="482" y="1549"/>
                </a:lnTo>
                <a:lnTo>
                  <a:pt x="554" y="1563"/>
                </a:lnTo>
                <a:lnTo>
                  <a:pt x="630" y="1577"/>
                </a:lnTo>
                <a:lnTo>
                  <a:pt x="710" y="1587"/>
                </a:lnTo>
                <a:lnTo>
                  <a:pt x="794" y="1596"/>
                </a:lnTo>
                <a:lnTo>
                  <a:pt x="882" y="1606"/>
                </a:lnTo>
                <a:lnTo>
                  <a:pt x="973" y="1610"/>
                </a:lnTo>
                <a:lnTo>
                  <a:pt x="1067" y="1615"/>
                </a:lnTo>
                <a:lnTo>
                  <a:pt x="1164" y="1618"/>
                </a:lnTo>
                <a:lnTo>
                  <a:pt x="1266" y="1618"/>
                </a:lnTo>
                <a:lnTo>
                  <a:pt x="1370" y="1616"/>
                </a:lnTo>
                <a:lnTo>
                  <a:pt x="1476" y="1613"/>
                </a:lnTo>
                <a:lnTo>
                  <a:pt x="1584" y="1607"/>
                </a:lnTo>
                <a:lnTo>
                  <a:pt x="1695" y="1601"/>
                </a:lnTo>
                <a:lnTo>
                  <a:pt x="1810" y="1592"/>
                </a:lnTo>
                <a:lnTo>
                  <a:pt x="1926" y="1581"/>
                </a:lnTo>
                <a:lnTo>
                  <a:pt x="2043" y="1567"/>
                </a:lnTo>
                <a:lnTo>
                  <a:pt x="2162" y="1552"/>
                </a:lnTo>
                <a:lnTo>
                  <a:pt x="2284" y="1535"/>
                </a:lnTo>
                <a:lnTo>
                  <a:pt x="2406" y="1517"/>
                </a:lnTo>
                <a:lnTo>
                  <a:pt x="2529" y="1495"/>
                </a:lnTo>
                <a:lnTo>
                  <a:pt x="2585" y="1484"/>
                </a:lnTo>
                <a:lnTo>
                  <a:pt x="2639" y="1475"/>
                </a:lnTo>
                <a:lnTo>
                  <a:pt x="2693" y="1464"/>
                </a:lnTo>
                <a:lnTo>
                  <a:pt x="2747" y="1454"/>
                </a:lnTo>
                <a:lnTo>
                  <a:pt x="2801" y="1441"/>
                </a:lnTo>
                <a:lnTo>
                  <a:pt x="2854" y="1431"/>
                </a:lnTo>
                <a:lnTo>
                  <a:pt x="2906" y="1418"/>
                </a:lnTo>
                <a:lnTo>
                  <a:pt x="2959" y="1408"/>
                </a:lnTo>
                <a:lnTo>
                  <a:pt x="3010" y="1395"/>
                </a:lnTo>
                <a:lnTo>
                  <a:pt x="3062" y="1383"/>
                </a:lnTo>
                <a:lnTo>
                  <a:pt x="3113" y="1369"/>
                </a:lnTo>
                <a:lnTo>
                  <a:pt x="3162" y="1357"/>
                </a:lnTo>
                <a:lnTo>
                  <a:pt x="3212" y="1343"/>
                </a:lnTo>
                <a:lnTo>
                  <a:pt x="3261" y="1331"/>
                </a:lnTo>
                <a:lnTo>
                  <a:pt x="3311" y="1317"/>
                </a:lnTo>
                <a:lnTo>
                  <a:pt x="3359" y="1303"/>
                </a:lnTo>
                <a:lnTo>
                  <a:pt x="3406" y="1289"/>
                </a:lnTo>
                <a:lnTo>
                  <a:pt x="3454" y="1275"/>
                </a:lnTo>
                <a:lnTo>
                  <a:pt x="3501" y="1260"/>
                </a:lnTo>
                <a:lnTo>
                  <a:pt x="3545" y="1246"/>
                </a:lnTo>
                <a:lnTo>
                  <a:pt x="3592" y="1231"/>
                </a:lnTo>
                <a:lnTo>
                  <a:pt x="3636" y="1216"/>
                </a:lnTo>
                <a:lnTo>
                  <a:pt x="3680" y="1202"/>
                </a:lnTo>
                <a:lnTo>
                  <a:pt x="3723" y="1186"/>
                </a:lnTo>
                <a:lnTo>
                  <a:pt x="3766" y="1171"/>
                </a:lnTo>
                <a:lnTo>
                  <a:pt x="3808" y="1156"/>
                </a:lnTo>
                <a:lnTo>
                  <a:pt x="3850" y="1139"/>
                </a:lnTo>
                <a:lnTo>
                  <a:pt x="3890" y="1123"/>
                </a:lnTo>
                <a:lnTo>
                  <a:pt x="3930" y="1108"/>
                </a:lnTo>
                <a:lnTo>
                  <a:pt x="3970" y="1091"/>
                </a:lnTo>
                <a:lnTo>
                  <a:pt x="4009" y="1076"/>
                </a:lnTo>
                <a:lnTo>
                  <a:pt x="4046" y="1059"/>
                </a:lnTo>
                <a:lnTo>
                  <a:pt x="4038" y="1060"/>
                </a:lnTo>
                <a:lnTo>
                  <a:pt x="4029" y="1060"/>
                </a:lnTo>
                <a:lnTo>
                  <a:pt x="4019" y="1062"/>
                </a:lnTo>
                <a:lnTo>
                  <a:pt x="4010" y="1062"/>
                </a:lnTo>
                <a:lnTo>
                  <a:pt x="3999" y="1063"/>
                </a:lnTo>
                <a:lnTo>
                  <a:pt x="3989" y="1063"/>
                </a:lnTo>
                <a:lnTo>
                  <a:pt x="3976" y="1063"/>
                </a:lnTo>
                <a:lnTo>
                  <a:pt x="3962" y="1063"/>
                </a:lnTo>
                <a:lnTo>
                  <a:pt x="3942" y="1062"/>
                </a:lnTo>
                <a:lnTo>
                  <a:pt x="3924" y="1057"/>
                </a:lnTo>
                <a:lnTo>
                  <a:pt x="3907" y="1051"/>
                </a:lnTo>
                <a:lnTo>
                  <a:pt x="3893" y="1043"/>
                </a:lnTo>
                <a:lnTo>
                  <a:pt x="3880" y="1033"/>
                </a:lnTo>
                <a:lnTo>
                  <a:pt x="3870" y="1020"/>
                </a:lnTo>
                <a:lnTo>
                  <a:pt x="3860" y="1007"/>
                </a:lnTo>
                <a:lnTo>
                  <a:pt x="3853" y="991"/>
                </a:lnTo>
                <a:lnTo>
                  <a:pt x="3847" y="973"/>
                </a:lnTo>
                <a:lnTo>
                  <a:pt x="3842" y="954"/>
                </a:lnTo>
                <a:lnTo>
                  <a:pt x="3837" y="933"/>
                </a:lnTo>
                <a:lnTo>
                  <a:pt x="3836" y="910"/>
                </a:lnTo>
                <a:lnTo>
                  <a:pt x="3833" y="887"/>
                </a:lnTo>
                <a:lnTo>
                  <a:pt x="3833" y="861"/>
                </a:lnTo>
                <a:lnTo>
                  <a:pt x="3831" y="833"/>
                </a:lnTo>
                <a:lnTo>
                  <a:pt x="3831" y="805"/>
                </a:lnTo>
                <a:lnTo>
                  <a:pt x="3831" y="776"/>
                </a:lnTo>
                <a:lnTo>
                  <a:pt x="3831" y="750"/>
                </a:lnTo>
                <a:lnTo>
                  <a:pt x="3833" y="724"/>
                </a:lnTo>
                <a:lnTo>
                  <a:pt x="3834" y="699"/>
                </a:lnTo>
                <a:lnTo>
                  <a:pt x="3837" y="676"/>
                </a:lnTo>
                <a:lnTo>
                  <a:pt x="3842" y="655"/>
                </a:lnTo>
                <a:lnTo>
                  <a:pt x="3847" y="636"/>
                </a:lnTo>
                <a:lnTo>
                  <a:pt x="3853" y="618"/>
                </a:lnTo>
                <a:lnTo>
                  <a:pt x="3859" y="603"/>
                </a:lnTo>
                <a:lnTo>
                  <a:pt x="3868" y="589"/>
                </a:lnTo>
                <a:lnTo>
                  <a:pt x="3879" y="577"/>
                </a:lnTo>
                <a:lnTo>
                  <a:pt x="3891" y="566"/>
                </a:lnTo>
                <a:lnTo>
                  <a:pt x="3907" y="558"/>
                </a:lnTo>
                <a:lnTo>
                  <a:pt x="3922" y="552"/>
                </a:lnTo>
                <a:lnTo>
                  <a:pt x="3941" y="547"/>
                </a:lnTo>
                <a:lnTo>
                  <a:pt x="3962" y="546"/>
                </a:lnTo>
                <a:lnTo>
                  <a:pt x="3996" y="546"/>
                </a:lnTo>
                <a:lnTo>
                  <a:pt x="4030" y="549"/>
                </a:lnTo>
                <a:lnTo>
                  <a:pt x="4063" y="557"/>
                </a:lnTo>
                <a:lnTo>
                  <a:pt x="4090" y="570"/>
                </a:lnTo>
                <a:lnTo>
                  <a:pt x="4115" y="590"/>
                </a:lnTo>
                <a:lnTo>
                  <a:pt x="4135" y="618"/>
                </a:lnTo>
                <a:lnTo>
                  <a:pt x="4148" y="656"/>
                </a:lnTo>
                <a:lnTo>
                  <a:pt x="4152" y="704"/>
                </a:lnTo>
                <a:lnTo>
                  <a:pt x="4047" y="704"/>
                </a:lnTo>
                <a:lnTo>
                  <a:pt x="4046" y="683"/>
                </a:lnTo>
                <a:lnTo>
                  <a:pt x="4041" y="666"/>
                </a:lnTo>
                <a:lnTo>
                  <a:pt x="4035" y="653"/>
                </a:lnTo>
                <a:lnTo>
                  <a:pt x="4026" y="647"/>
                </a:lnTo>
                <a:lnTo>
                  <a:pt x="4015" y="643"/>
                </a:lnTo>
                <a:lnTo>
                  <a:pt x="4002" y="641"/>
                </a:lnTo>
                <a:lnTo>
                  <a:pt x="3990" y="641"/>
                </a:lnTo>
                <a:lnTo>
                  <a:pt x="3978" y="643"/>
                </a:lnTo>
                <a:lnTo>
                  <a:pt x="3964" y="647"/>
                </a:lnTo>
                <a:lnTo>
                  <a:pt x="3955" y="658"/>
                </a:lnTo>
                <a:lnTo>
                  <a:pt x="3947" y="673"/>
                </a:lnTo>
                <a:lnTo>
                  <a:pt x="3944" y="695"/>
                </a:lnTo>
                <a:lnTo>
                  <a:pt x="3942" y="719"/>
                </a:lnTo>
                <a:lnTo>
                  <a:pt x="3942" y="745"/>
                </a:lnTo>
                <a:lnTo>
                  <a:pt x="3942" y="775"/>
                </a:lnTo>
                <a:lnTo>
                  <a:pt x="3942" y="805"/>
                </a:lnTo>
                <a:lnTo>
                  <a:pt x="3942" y="841"/>
                </a:lnTo>
                <a:lnTo>
                  <a:pt x="3944" y="871"/>
                </a:lnTo>
                <a:lnTo>
                  <a:pt x="3945" y="899"/>
                </a:lnTo>
                <a:lnTo>
                  <a:pt x="3950" y="924"/>
                </a:lnTo>
                <a:lnTo>
                  <a:pt x="3956" y="942"/>
                </a:lnTo>
                <a:lnTo>
                  <a:pt x="3965" y="956"/>
                </a:lnTo>
                <a:lnTo>
                  <a:pt x="3978" y="965"/>
                </a:lnTo>
                <a:lnTo>
                  <a:pt x="3995" y="968"/>
                </a:lnTo>
                <a:lnTo>
                  <a:pt x="4002" y="968"/>
                </a:lnTo>
                <a:lnTo>
                  <a:pt x="4010" y="967"/>
                </a:lnTo>
                <a:lnTo>
                  <a:pt x="4016" y="967"/>
                </a:lnTo>
                <a:lnTo>
                  <a:pt x="4024" y="965"/>
                </a:lnTo>
                <a:lnTo>
                  <a:pt x="4030" y="964"/>
                </a:lnTo>
                <a:lnTo>
                  <a:pt x="4038" y="962"/>
                </a:lnTo>
                <a:lnTo>
                  <a:pt x="4044" y="961"/>
                </a:lnTo>
                <a:lnTo>
                  <a:pt x="4050" y="959"/>
                </a:lnTo>
                <a:lnTo>
                  <a:pt x="4050" y="838"/>
                </a:lnTo>
                <a:lnTo>
                  <a:pt x="3973" y="836"/>
                </a:lnTo>
                <a:lnTo>
                  <a:pt x="3973" y="772"/>
                </a:lnTo>
                <a:lnTo>
                  <a:pt x="4155" y="773"/>
                </a:lnTo>
                <a:lnTo>
                  <a:pt x="4155" y="1010"/>
                </a:lnTo>
                <a:lnTo>
                  <a:pt x="4234" y="971"/>
                </a:lnTo>
                <a:lnTo>
                  <a:pt x="4310" y="931"/>
                </a:lnTo>
                <a:lnTo>
                  <a:pt x="4379" y="891"/>
                </a:lnTo>
                <a:lnTo>
                  <a:pt x="4446" y="851"/>
                </a:lnTo>
                <a:lnTo>
                  <a:pt x="4506" y="812"/>
                </a:lnTo>
                <a:lnTo>
                  <a:pt x="4561" y="770"/>
                </a:lnTo>
                <a:lnTo>
                  <a:pt x="4612" y="730"/>
                </a:lnTo>
                <a:lnTo>
                  <a:pt x="4657" y="690"/>
                </a:lnTo>
                <a:lnTo>
                  <a:pt x="4697" y="650"/>
                </a:lnTo>
                <a:lnTo>
                  <a:pt x="4731" y="610"/>
                </a:lnTo>
                <a:lnTo>
                  <a:pt x="4759" y="572"/>
                </a:lnTo>
                <a:lnTo>
                  <a:pt x="4781" y="532"/>
                </a:lnTo>
                <a:lnTo>
                  <a:pt x="4798" y="494"/>
                </a:lnTo>
                <a:lnTo>
                  <a:pt x="4807" y="455"/>
                </a:lnTo>
                <a:lnTo>
                  <a:pt x="4810" y="418"/>
                </a:lnTo>
                <a:lnTo>
                  <a:pt x="4807" y="381"/>
                </a:lnTo>
                <a:close/>
                <a:moveTo>
                  <a:pt x="1359" y="1054"/>
                </a:moveTo>
                <a:lnTo>
                  <a:pt x="1260" y="653"/>
                </a:lnTo>
                <a:lnTo>
                  <a:pt x="1258" y="655"/>
                </a:lnTo>
                <a:lnTo>
                  <a:pt x="1155" y="1054"/>
                </a:lnTo>
                <a:lnTo>
                  <a:pt x="1050" y="1053"/>
                </a:lnTo>
                <a:lnTo>
                  <a:pt x="1200" y="557"/>
                </a:lnTo>
                <a:lnTo>
                  <a:pt x="1328" y="557"/>
                </a:lnTo>
                <a:lnTo>
                  <a:pt x="1478" y="1054"/>
                </a:lnTo>
                <a:lnTo>
                  <a:pt x="1359" y="1054"/>
                </a:lnTo>
                <a:close/>
                <a:moveTo>
                  <a:pt x="2098" y="1054"/>
                </a:moveTo>
                <a:lnTo>
                  <a:pt x="1998" y="1054"/>
                </a:lnTo>
                <a:lnTo>
                  <a:pt x="1998" y="636"/>
                </a:lnTo>
                <a:lnTo>
                  <a:pt x="1997" y="635"/>
                </a:lnTo>
                <a:lnTo>
                  <a:pt x="1899" y="1054"/>
                </a:lnTo>
                <a:lnTo>
                  <a:pt x="1794" y="1054"/>
                </a:lnTo>
                <a:lnTo>
                  <a:pt x="1702" y="633"/>
                </a:lnTo>
                <a:lnTo>
                  <a:pt x="1702" y="633"/>
                </a:lnTo>
                <a:lnTo>
                  <a:pt x="1702" y="1054"/>
                </a:lnTo>
                <a:lnTo>
                  <a:pt x="1600" y="1054"/>
                </a:lnTo>
                <a:lnTo>
                  <a:pt x="1600" y="557"/>
                </a:lnTo>
                <a:lnTo>
                  <a:pt x="1783" y="557"/>
                </a:lnTo>
                <a:lnTo>
                  <a:pt x="1851" y="893"/>
                </a:lnTo>
                <a:lnTo>
                  <a:pt x="1853" y="893"/>
                </a:lnTo>
                <a:lnTo>
                  <a:pt x="1919" y="555"/>
                </a:lnTo>
                <a:lnTo>
                  <a:pt x="2098" y="557"/>
                </a:lnTo>
                <a:lnTo>
                  <a:pt x="2098" y="1054"/>
                </a:lnTo>
                <a:close/>
                <a:moveTo>
                  <a:pt x="2437" y="1063"/>
                </a:moveTo>
                <a:lnTo>
                  <a:pt x="2404" y="1062"/>
                </a:lnTo>
                <a:lnTo>
                  <a:pt x="2373" y="1056"/>
                </a:lnTo>
                <a:lnTo>
                  <a:pt x="2346" y="1045"/>
                </a:lnTo>
                <a:lnTo>
                  <a:pt x="2321" y="1030"/>
                </a:lnTo>
                <a:lnTo>
                  <a:pt x="2299" y="1007"/>
                </a:lnTo>
                <a:lnTo>
                  <a:pt x="2284" y="977"/>
                </a:lnTo>
                <a:lnTo>
                  <a:pt x="2273" y="941"/>
                </a:lnTo>
                <a:lnTo>
                  <a:pt x="2268" y="894"/>
                </a:lnTo>
                <a:lnTo>
                  <a:pt x="2375" y="894"/>
                </a:lnTo>
                <a:lnTo>
                  <a:pt x="2375" y="911"/>
                </a:lnTo>
                <a:lnTo>
                  <a:pt x="2380" y="927"/>
                </a:lnTo>
                <a:lnTo>
                  <a:pt x="2384" y="939"/>
                </a:lnTo>
                <a:lnTo>
                  <a:pt x="2392" y="950"/>
                </a:lnTo>
                <a:lnTo>
                  <a:pt x="2401" y="957"/>
                </a:lnTo>
                <a:lnTo>
                  <a:pt x="2413" y="964"/>
                </a:lnTo>
                <a:lnTo>
                  <a:pt x="2426" y="967"/>
                </a:lnTo>
                <a:lnTo>
                  <a:pt x="2440" y="968"/>
                </a:lnTo>
                <a:lnTo>
                  <a:pt x="2449" y="968"/>
                </a:lnTo>
                <a:lnTo>
                  <a:pt x="2457" y="965"/>
                </a:lnTo>
                <a:lnTo>
                  <a:pt x="2466" y="962"/>
                </a:lnTo>
                <a:lnTo>
                  <a:pt x="2475" y="956"/>
                </a:lnTo>
                <a:lnTo>
                  <a:pt x="2483" y="948"/>
                </a:lnTo>
                <a:lnTo>
                  <a:pt x="2489" y="941"/>
                </a:lnTo>
                <a:lnTo>
                  <a:pt x="2492" y="930"/>
                </a:lnTo>
                <a:lnTo>
                  <a:pt x="2494" y="918"/>
                </a:lnTo>
                <a:lnTo>
                  <a:pt x="2491" y="896"/>
                </a:lnTo>
                <a:lnTo>
                  <a:pt x="2480" y="881"/>
                </a:lnTo>
                <a:lnTo>
                  <a:pt x="2464" y="870"/>
                </a:lnTo>
                <a:lnTo>
                  <a:pt x="2444" y="861"/>
                </a:lnTo>
                <a:lnTo>
                  <a:pt x="2420" y="853"/>
                </a:lnTo>
                <a:lnTo>
                  <a:pt x="2392" y="844"/>
                </a:lnTo>
                <a:lnTo>
                  <a:pt x="2363" y="833"/>
                </a:lnTo>
                <a:lnTo>
                  <a:pt x="2332" y="818"/>
                </a:lnTo>
                <a:lnTo>
                  <a:pt x="2319" y="808"/>
                </a:lnTo>
                <a:lnTo>
                  <a:pt x="2307" y="796"/>
                </a:lnTo>
                <a:lnTo>
                  <a:pt x="2298" y="784"/>
                </a:lnTo>
                <a:lnTo>
                  <a:pt x="2290" y="769"/>
                </a:lnTo>
                <a:lnTo>
                  <a:pt x="2282" y="752"/>
                </a:lnTo>
                <a:lnTo>
                  <a:pt x="2278" y="735"/>
                </a:lnTo>
                <a:lnTo>
                  <a:pt x="2276" y="716"/>
                </a:lnTo>
                <a:lnTo>
                  <a:pt x="2275" y="696"/>
                </a:lnTo>
                <a:lnTo>
                  <a:pt x="2279" y="656"/>
                </a:lnTo>
                <a:lnTo>
                  <a:pt x="2292" y="624"/>
                </a:lnTo>
                <a:lnTo>
                  <a:pt x="2307" y="598"/>
                </a:lnTo>
                <a:lnTo>
                  <a:pt x="2329" y="577"/>
                </a:lnTo>
                <a:lnTo>
                  <a:pt x="2352" y="563"/>
                </a:lnTo>
                <a:lnTo>
                  <a:pt x="2380" y="553"/>
                </a:lnTo>
                <a:lnTo>
                  <a:pt x="2409" y="547"/>
                </a:lnTo>
                <a:lnTo>
                  <a:pt x="2438" y="546"/>
                </a:lnTo>
                <a:lnTo>
                  <a:pt x="2468" y="547"/>
                </a:lnTo>
                <a:lnTo>
                  <a:pt x="2495" y="553"/>
                </a:lnTo>
                <a:lnTo>
                  <a:pt x="2523" y="564"/>
                </a:lnTo>
                <a:lnTo>
                  <a:pt x="2546" y="580"/>
                </a:lnTo>
                <a:lnTo>
                  <a:pt x="2565" y="600"/>
                </a:lnTo>
                <a:lnTo>
                  <a:pt x="2580" y="627"/>
                </a:lnTo>
                <a:lnTo>
                  <a:pt x="2590" y="661"/>
                </a:lnTo>
                <a:lnTo>
                  <a:pt x="2591" y="701"/>
                </a:lnTo>
                <a:lnTo>
                  <a:pt x="2485" y="702"/>
                </a:lnTo>
                <a:lnTo>
                  <a:pt x="2485" y="689"/>
                </a:lnTo>
                <a:lnTo>
                  <a:pt x="2483" y="676"/>
                </a:lnTo>
                <a:lnTo>
                  <a:pt x="2478" y="667"/>
                </a:lnTo>
                <a:lnTo>
                  <a:pt x="2472" y="658"/>
                </a:lnTo>
                <a:lnTo>
                  <a:pt x="2464" y="650"/>
                </a:lnTo>
                <a:lnTo>
                  <a:pt x="2455" y="646"/>
                </a:lnTo>
                <a:lnTo>
                  <a:pt x="2443" y="644"/>
                </a:lnTo>
                <a:lnTo>
                  <a:pt x="2429" y="643"/>
                </a:lnTo>
                <a:lnTo>
                  <a:pt x="2413" y="646"/>
                </a:lnTo>
                <a:lnTo>
                  <a:pt x="2400" y="655"/>
                </a:lnTo>
                <a:lnTo>
                  <a:pt x="2389" y="670"/>
                </a:lnTo>
                <a:lnTo>
                  <a:pt x="2386" y="687"/>
                </a:lnTo>
                <a:lnTo>
                  <a:pt x="2387" y="699"/>
                </a:lnTo>
                <a:lnTo>
                  <a:pt x="2392" y="710"/>
                </a:lnTo>
                <a:lnTo>
                  <a:pt x="2398" y="719"/>
                </a:lnTo>
                <a:lnTo>
                  <a:pt x="2406" y="727"/>
                </a:lnTo>
                <a:lnTo>
                  <a:pt x="2415" y="733"/>
                </a:lnTo>
                <a:lnTo>
                  <a:pt x="2426" y="738"/>
                </a:lnTo>
                <a:lnTo>
                  <a:pt x="2437" y="742"/>
                </a:lnTo>
                <a:lnTo>
                  <a:pt x="2447" y="745"/>
                </a:lnTo>
                <a:lnTo>
                  <a:pt x="2472" y="753"/>
                </a:lnTo>
                <a:lnTo>
                  <a:pt x="2500" y="761"/>
                </a:lnTo>
                <a:lnTo>
                  <a:pt x="2525" y="772"/>
                </a:lnTo>
                <a:lnTo>
                  <a:pt x="2549" y="785"/>
                </a:lnTo>
                <a:lnTo>
                  <a:pt x="2571" y="805"/>
                </a:lnTo>
                <a:lnTo>
                  <a:pt x="2588" y="832"/>
                </a:lnTo>
                <a:lnTo>
                  <a:pt x="2599" y="865"/>
                </a:lnTo>
                <a:lnTo>
                  <a:pt x="2603" y="910"/>
                </a:lnTo>
                <a:lnTo>
                  <a:pt x="2600" y="947"/>
                </a:lnTo>
                <a:lnTo>
                  <a:pt x="2590" y="977"/>
                </a:lnTo>
                <a:lnTo>
                  <a:pt x="2574" y="1005"/>
                </a:lnTo>
                <a:lnTo>
                  <a:pt x="2552" y="1025"/>
                </a:lnTo>
                <a:lnTo>
                  <a:pt x="2528" y="1042"/>
                </a:lnTo>
                <a:lnTo>
                  <a:pt x="2500" y="1054"/>
                </a:lnTo>
                <a:lnTo>
                  <a:pt x="2469" y="1060"/>
                </a:lnTo>
                <a:lnTo>
                  <a:pt x="2437" y="1063"/>
                </a:lnTo>
                <a:close/>
                <a:moveTo>
                  <a:pt x="3101" y="871"/>
                </a:moveTo>
                <a:lnTo>
                  <a:pt x="3096" y="919"/>
                </a:lnTo>
                <a:lnTo>
                  <a:pt x="3085" y="959"/>
                </a:lnTo>
                <a:lnTo>
                  <a:pt x="3070" y="993"/>
                </a:lnTo>
                <a:lnTo>
                  <a:pt x="3048" y="1019"/>
                </a:lnTo>
                <a:lnTo>
                  <a:pt x="3022" y="1039"/>
                </a:lnTo>
                <a:lnTo>
                  <a:pt x="2994" y="1053"/>
                </a:lnTo>
                <a:lnTo>
                  <a:pt x="2962" y="1060"/>
                </a:lnTo>
                <a:lnTo>
                  <a:pt x="2929" y="1063"/>
                </a:lnTo>
                <a:lnTo>
                  <a:pt x="2895" y="1060"/>
                </a:lnTo>
                <a:lnTo>
                  <a:pt x="2863" y="1053"/>
                </a:lnTo>
                <a:lnTo>
                  <a:pt x="2834" y="1039"/>
                </a:lnTo>
                <a:lnTo>
                  <a:pt x="2809" y="1019"/>
                </a:lnTo>
                <a:lnTo>
                  <a:pt x="2787" y="993"/>
                </a:lnTo>
                <a:lnTo>
                  <a:pt x="2770" y="959"/>
                </a:lnTo>
                <a:lnTo>
                  <a:pt x="2759" y="919"/>
                </a:lnTo>
                <a:lnTo>
                  <a:pt x="2756" y="871"/>
                </a:lnTo>
                <a:lnTo>
                  <a:pt x="2756" y="557"/>
                </a:lnTo>
                <a:lnTo>
                  <a:pt x="2857" y="557"/>
                </a:lnTo>
                <a:lnTo>
                  <a:pt x="2857" y="864"/>
                </a:lnTo>
                <a:lnTo>
                  <a:pt x="2858" y="887"/>
                </a:lnTo>
                <a:lnTo>
                  <a:pt x="2861" y="907"/>
                </a:lnTo>
                <a:lnTo>
                  <a:pt x="2867" y="925"/>
                </a:lnTo>
                <a:lnTo>
                  <a:pt x="2875" y="939"/>
                </a:lnTo>
                <a:lnTo>
                  <a:pt x="2886" y="951"/>
                </a:lnTo>
                <a:lnTo>
                  <a:pt x="2898" y="961"/>
                </a:lnTo>
                <a:lnTo>
                  <a:pt x="2912" y="967"/>
                </a:lnTo>
                <a:lnTo>
                  <a:pt x="2929" y="968"/>
                </a:lnTo>
                <a:lnTo>
                  <a:pt x="2946" y="967"/>
                </a:lnTo>
                <a:lnTo>
                  <a:pt x="2960" y="962"/>
                </a:lnTo>
                <a:lnTo>
                  <a:pt x="2972" y="953"/>
                </a:lnTo>
                <a:lnTo>
                  <a:pt x="2982" y="941"/>
                </a:lnTo>
                <a:lnTo>
                  <a:pt x="2989" y="925"/>
                </a:lnTo>
                <a:lnTo>
                  <a:pt x="2996" y="907"/>
                </a:lnTo>
                <a:lnTo>
                  <a:pt x="3000" y="887"/>
                </a:lnTo>
                <a:lnTo>
                  <a:pt x="3002" y="864"/>
                </a:lnTo>
                <a:lnTo>
                  <a:pt x="3002" y="555"/>
                </a:lnTo>
                <a:lnTo>
                  <a:pt x="3101" y="557"/>
                </a:lnTo>
                <a:lnTo>
                  <a:pt x="3101" y="871"/>
                </a:lnTo>
                <a:close/>
                <a:moveTo>
                  <a:pt x="3650" y="1054"/>
                </a:moveTo>
                <a:lnTo>
                  <a:pt x="3496" y="1054"/>
                </a:lnTo>
                <a:lnTo>
                  <a:pt x="3360" y="672"/>
                </a:lnTo>
                <a:lnTo>
                  <a:pt x="3359" y="672"/>
                </a:lnTo>
                <a:lnTo>
                  <a:pt x="3359" y="1054"/>
                </a:lnTo>
                <a:lnTo>
                  <a:pt x="3260" y="1053"/>
                </a:lnTo>
                <a:lnTo>
                  <a:pt x="3260" y="557"/>
                </a:lnTo>
                <a:lnTo>
                  <a:pt x="3416" y="558"/>
                </a:lnTo>
                <a:lnTo>
                  <a:pt x="3548" y="928"/>
                </a:lnTo>
                <a:lnTo>
                  <a:pt x="3550" y="924"/>
                </a:lnTo>
                <a:lnTo>
                  <a:pt x="3550" y="557"/>
                </a:lnTo>
                <a:lnTo>
                  <a:pt x="3650" y="557"/>
                </a:lnTo>
                <a:lnTo>
                  <a:pt x="3650" y="1054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752480"/>
            <a:ext cx="693396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ewpoin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sion &amp; Missi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ctiviti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estbed(Mobile IPv6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mbedded Software Stac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d-Hoc Tiny Chip Developm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uro6IX Particip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esearch Are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Viewpoint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372600" y="2590920"/>
            <a:ext cx="4410000" cy="609480"/>
            <a:chOff x="9372600" y="2590920"/>
            <a:chExt cx="4410000" cy="609480"/>
          </a:xfrm>
        </p:grpSpPr>
        <p:sp>
          <p:nvSpPr>
            <p:cNvPr id="58" name=""/>
            <p:cNvSpPr/>
            <p:nvPr/>
          </p:nvSpPr>
          <p:spPr>
            <a:xfrm>
              <a:off x="9372600" y="259092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293120" y="289548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14000" y="320040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advTm="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Impact"/>
              </a:rPr>
              <a:t>Viewpoint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2133720"/>
            <a:ext cx="213372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Management Problem in Heterogeneous Network Integr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213372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IPv4 Address Spac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029200"/>
            <a:ext cx="213372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Difficult to us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81280"/>
            <a:ext cx="213372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Security(Hacking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52960" y="2057400"/>
            <a:ext cx="1295280" cy="26668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돋움"/>
              </a:rPr>
              <a:t>IPv6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돋움"/>
              </a:rPr>
              <a:t>Deploy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2133720"/>
            <a:ext cx="213336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Ubiquitous Network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(All IP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85800"/>
            <a:ext cx="213336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Public IP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5029200"/>
            <a:ext cx="213336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Convenient Intern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581280"/>
            <a:ext cx="2133360" cy="1295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New Interne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돋움"/>
              </a:rPr>
              <a:t>Busines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295280"/>
            <a:ext cx="0" cy="43434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1295280"/>
            <a:ext cx="0" cy="43434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56386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1911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28195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12952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6386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1911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295280"/>
            <a:ext cx="228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124080"/>
            <a:ext cx="761760" cy="6858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ewpoi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124080"/>
            <a:ext cx="761760" cy="6858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Impact"/>
                <a:ea typeface="헤드라인"/>
              </a:rPr>
              <a:t>Vision &amp; Mission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372600" y="2590920"/>
            <a:ext cx="4410000" cy="609480"/>
            <a:chOff x="9372600" y="2590920"/>
            <a:chExt cx="4410000" cy="609480"/>
          </a:xfrm>
        </p:grpSpPr>
        <p:sp>
          <p:nvSpPr>
            <p:cNvPr id="87" name=""/>
            <p:cNvSpPr/>
            <p:nvPr/>
          </p:nvSpPr>
          <p:spPr>
            <a:xfrm>
              <a:off x="9372600" y="259092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293120" y="289548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14000" y="3200400"/>
              <a:ext cx="25686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 advTm="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Impact"/>
              </a:rPr>
              <a:t>Vision &amp; Mission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8862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 spd="slow" advTm="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85800" y="1143000"/>
            <a:ext cx="7772400" cy="5181120"/>
            <a:chOff x="685800" y="1143000"/>
            <a:chExt cx="7772400" cy="5181120"/>
          </a:xfrm>
        </p:grpSpPr>
        <p:sp>
          <p:nvSpPr>
            <p:cNvPr id="93" name=""/>
            <p:cNvSpPr/>
            <p:nvPr/>
          </p:nvSpPr>
          <p:spPr>
            <a:xfrm>
              <a:off x="1904760" y="2477520"/>
              <a:ext cx="6400800" cy="941760"/>
            </a:xfrm>
            <a:prstGeom prst="triangle">
              <a:avLst>
                <a:gd name="adj" fmla="val 49829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6c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52480" y="1143000"/>
              <a:ext cx="6629400" cy="11775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  <a:ea typeface="돋움"/>
                </a:rPr>
                <a:t>Ubiquitous Network Enabl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(Bridge over the Home and Mobile and Office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4518720"/>
              <a:ext cx="1066680" cy="1805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Key issu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4518720"/>
              <a:ext cx="2209680" cy="1805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IPv6 Standardization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Core IPv6 Tech. research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Biz. Area selection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Resources preparation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349812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hase Ⅰ(~’02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38120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reparation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4204440"/>
              <a:ext cx="1066680" cy="3139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rospect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42044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7fb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Create Base Platfor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8480" y="4518720"/>
              <a:ext cx="2209680" cy="1805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H/W Devices/Systems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Wire/Wireless Device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HHP,PDA,WebPAD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Information appliance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 </a:t>
              </a: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IMT-2000 Syste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- IPv6 Chips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349812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hase Ⅱ(‘03~’04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38120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Domestic(Korea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480" y="4204440"/>
              <a:ext cx="2209680" cy="313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bec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Adopt to existing Biz.Are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160" y="4518720"/>
              <a:ext cx="2210040" cy="1805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2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Network Syste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. Router/Switch etc.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99"/>
                </a:buClr>
                <a:buFont typeface="Times New Roman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Total Solution for 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Home/Office/Mobile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8160" y="3498120"/>
              <a:ext cx="2210040" cy="313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Phase Ⅲ(‘05~’06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8160" y="3812040"/>
              <a:ext cx="2210040" cy="313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Global(Worldwide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160" y="4204440"/>
              <a:ext cx="2210040" cy="313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acc7fe"/>
                </a:gs>
              </a:gsLst>
              <a:lin ang="108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  <a:ea typeface="돋움"/>
                </a:rPr>
                <a:t>Advance into new Biz.Area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429000" y="227880"/>
            <a:ext cx="27432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sion &amp; Miss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6:17:32Z</dcterms:created>
  <dc:creator>삼성`</dc:creator>
  <dc:description/>
  <dc:language>en-US</dc:language>
  <cp:lastModifiedBy>최영곤</cp:lastModifiedBy>
  <cp:lastPrinted>2002-02-08T05:59:10Z</cp:lastPrinted>
  <dcterms:modified xsi:type="dcterms:W3CDTF">2002-04-29T06:10:17Z</dcterms:modified>
  <cp:revision>1416</cp:revision>
  <dc:subject/>
  <dc:title>OOO Sector Report</dc:title>
</cp:coreProperties>
</file>